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01CE-CC89-4D70-BBDD-0CE7059C1A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50A3-9C0F-469C-864E-5434CBFC40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E58-6EFE-4823-B6D6-D552B84B69A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559D-26F2-4646-A4F1-9B03732242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0955-91BE-4656-80E8-21A65C2472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36C3-FABF-4E5D-8EE5-CE611E87FE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5CE6-BC10-4ACA-B5F5-671DFCF0BE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2185-EC88-4F65-9192-282241069E5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3582-DA41-4200-8487-2AFC804EA25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Times New Roman"/>
              <a:ea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16C1-31B7-4142-85AC-FE0ABFBADB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C6C2-DADD-4039-AC2E-244D93556D7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C8AE-3218-4FE3-9467-ACF771B9D44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59D4-C1DC-4B26-8241-6172F017E2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7DD2-5E1C-4D17-B392-38C9D12DBC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6BC-4C04-49FC-84AB-249AF4AD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BA9-8831-4B85-896A-C91575A0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FB7-AA7A-4508-B9ED-4B470162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9C2-6133-46E8-994D-4E9BBB8A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AC6-EDF5-4586-ABF7-CA300AA7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764-585C-4788-B30D-B29671CF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038-798B-4457-B0A8-DF05F70A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CA5-E717-4B32-BA5D-D76E68A2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C4C-7152-4EF0-8428-49982F87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704-B9CE-400A-8C43-916D9388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B02-28FF-4F3B-9CAB-D2A811F6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38B-E865-4815-82D7-1B351C9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1F6C-7FDB-456D-A090-11FEA381428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6489-2C4B-464C-A856-B6ACEFE001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Box 4"/>
          <p:cNvGrpSpPr/>
          <p:nvPr/>
        </p:nvGrpSpPr>
        <p:grpSpPr>
          <a:xfrm>
            <a:off x="396720" y="109440"/>
            <a:ext cx="8637840" cy="1281240"/>
            <a:chOff x="396720" y="109440"/>
            <a:chExt cx="8637840" cy="1281240"/>
          </a:xfrm>
        </p:grpSpPr>
        <p:pic>
          <p:nvPicPr>
            <p:cNvPr id="49" name="TextBox 4" descr=""/>
            <p:cNvPicPr/>
            <p:nvPr/>
          </p:nvPicPr>
          <p:blipFill>
            <a:blip r:embed="rId1"/>
            <a:stretch/>
          </p:blipFill>
          <p:spPr>
            <a:xfrm>
              <a:off x="396720" y="109440"/>
              <a:ext cx="86378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0040" y="214200"/>
              <a:ext cx="84297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TextBox 8"/>
          <p:cNvSpPr/>
          <p:nvPr/>
        </p:nvSpPr>
        <p:spPr>
          <a:xfrm>
            <a:off x="250920" y="1050840"/>
            <a:ext cx="8569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птимизация работы службы родовспоможения и детства в учреждении 1 уровн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727800" y="645336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d9d9"/>
                </a:solidFill>
                <a:latin typeface="Arial"/>
                <a:ea typeface="Arial"/>
              </a:rPr>
              <a:t>29 октября 2014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1042920" y="551664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25d"/>
                </a:solidFill>
                <a:latin typeface="Arial"/>
                <a:ea typeface="Arial"/>
              </a:rPr>
              <a:t>Главный врач ГБУЗ СО «Нижнесергинская ЦРБ» Новосёлов Дмитрий Викто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3B5-1CCE-41AA-ADA9-6212C040F1F5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личество коек по профиля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Объект 4"/>
          <p:cNvGraphicFramePr/>
          <p:nvPr/>
        </p:nvGraphicFramePr>
        <p:xfrm>
          <a:off x="417600" y="1506600"/>
          <a:ext cx="833112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506600"/>
                    <a:ext cx="833112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B112-67A9-45AF-8234-56F5B3277C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Работа койки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17600" y="1506600"/>
          <a:ext cx="8093160" cy="490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506600"/>
                    <a:ext cx="809316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E5DB-9265-4075-9719-186046C656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леконсультации </a:t>
            </a:r>
            <a:br>
              <a:rPr sz="44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лужбе родовспоможения и детств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Объект 4" descr=""/>
          <p:cNvPicPr/>
          <p:nvPr/>
        </p:nvPicPr>
        <p:blipFill>
          <a:blip r:embed="rId1"/>
          <a:stretch/>
        </p:blipFill>
        <p:spPr>
          <a:xfrm>
            <a:off x="500040" y="1600200"/>
            <a:ext cx="814392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3DBE-4BF1-4C63-B7AA-2716DFB7B2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дровая ситуация</a:t>
            </a:r>
            <a:br>
              <a:rPr sz="44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лужбе родовспоможения и детств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Объект 4" descr=""/>
          <p:cNvPicPr/>
          <p:nvPr/>
        </p:nvPicPr>
        <p:blipFill>
          <a:blip r:embed="rId1"/>
          <a:stretch/>
        </p:blipFill>
        <p:spPr>
          <a:xfrm>
            <a:off x="250920" y="1509840"/>
            <a:ext cx="4284720" cy="499716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ABBF-78F6-4946-9738-AD082D6AD8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5076720" y="1639800"/>
            <a:ext cx="3888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1282680" y="404964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"/>
          <p:cNvPicPr/>
          <p:nvPr/>
        </p:nvPicPr>
        <p:blipFill>
          <a:blip r:embed="rId2"/>
          <a:stretch/>
        </p:blipFill>
        <p:spPr>
          <a:xfrm>
            <a:off x="5508720" y="4049640"/>
            <a:ext cx="3263760" cy="244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креплени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атериально-технической базы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Объект 1" descr=""/>
          <p:cNvPicPr/>
          <p:nvPr/>
        </p:nvPicPr>
        <p:blipFill>
          <a:blip r:embed="rId3"/>
          <a:stretch/>
        </p:blipFill>
        <p:spPr>
          <a:xfrm>
            <a:off x="250920" y="1789200"/>
            <a:ext cx="3647880" cy="273672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39F-7FBA-485C-953D-16601F0945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5" descr=""/>
          <p:cNvPicPr/>
          <p:nvPr/>
        </p:nvPicPr>
        <p:blipFill>
          <a:blip r:embed="rId4"/>
          <a:stretch/>
        </p:blipFill>
        <p:spPr>
          <a:xfrm>
            <a:off x="4451400" y="1790640"/>
            <a:ext cx="37209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спользование оборудования, поступившего по РПМЗ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9" name="Объект 7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68B6-3558-4BB9-B261-90E3A88C63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питальные ремот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Объект 1" descr=""/>
          <p:cNvPicPr/>
          <p:nvPr/>
        </p:nvPicPr>
        <p:blipFill>
          <a:blip r:embed="rId1"/>
          <a:stretch/>
        </p:blipFill>
        <p:spPr>
          <a:xfrm>
            <a:off x="527040" y="1255680"/>
            <a:ext cx="3187800" cy="211608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59DB-9190-4CF3-BFBD-DCCBE239F5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527040" y="3645000"/>
            <a:ext cx="3552840" cy="26636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" descr=""/>
          <p:cNvPicPr/>
          <p:nvPr/>
        </p:nvPicPr>
        <p:blipFill>
          <a:blip r:embed="rId3"/>
          <a:stretch/>
        </p:blipFill>
        <p:spPr>
          <a:xfrm>
            <a:off x="4079880" y="1255680"/>
            <a:ext cx="3595680" cy="23893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4"/>
          <a:srcRect l="36150" t="32104" r="20004" b="47894"/>
          <a:stretch/>
        </p:blipFill>
        <p:spPr>
          <a:xfrm>
            <a:off x="4427640" y="3906720"/>
            <a:ext cx="36018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питальные ремонт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Объект 1" descr=""/>
          <p:cNvPicPr/>
          <p:nvPr/>
        </p:nvPicPr>
        <p:blipFill>
          <a:blip r:embed="rId1"/>
          <a:stretch/>
        </p:blipFill>
        <p:spPr>
          <a:xfrm>
            <a:off x="755640" y="1328760"/>
            <a:ext cx="3760920" cy="2820960"/>
          </a:xfrm>
          <a:prstGeom prst="rect">
            <a:avLst/>
          </a:prstGeom>
          <a:ln w="0">
            <a:noFill/>
          </a:ln>
        </p:spPr>
      </p:pic>
      <p:sp>
        <p:nvSpPr>
          <p:cNvPr id="1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2A9-929C-4936-ACEC-7EC12C261C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alibri"/>
              </a:rPr>
              <a:t>Задачи службы родовспоможения и детств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нижение показателей младенческой смертности, что будет способствовать улучшению демографической ситуации как в Нижнесергинском муниципальном районе в частности, так и в Свердловской области в цело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крепление здоровья населения, расширение профилактической деятельности и охват детей и женщин диспансерными осмотр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льнейшее укрепление материально-технической базы родовспоможения и   педиатрической служб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перспективе на 2015 год – перевод на круглосуточное дежурство акушерско – гинекологической и педиатрической служб, что позволит претендовать на учреждение   2-го уровн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ктивное использование технологии телемедицинских консультац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дальнейшая работа по внедрению семейно-ориентированных перинатальных технологии, не требующих больших затрат, но эффективность которых очень высо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8B0E-536F-41E0-AEAF-D51E3B4265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E6B8-34FC-4F48-AC46-A36F7140A8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TextBox 8"/>
          <p:cNvGrpSpPr/>
          <p:nvPr/>
        </p:nvGrpSpPr>
        <p:grpSpPr>
          <a:xfrm>
            <a:off x="12600" y="2798640"/>
            <a:ext cx="9350640" cy="725760"/>
            <a:chOff x="12600" y="2798640"/>
            <a:chExt cx="9350640" cy="725760"/>
          </a:xfrm>
        </p:grpSpPr>
        <p:pic>
          <p:nvPicPr>
            <p:cNvPr id="157" name="TextBox 8" descr=""/>
            <p:cNvPicPr/>
            <p:nvPr/>
          </p:nvPicPr>
          <p:blipFill>
            <a:blip r:embed="rId1"/>
            <a:stretch/>
          </p:blipFill>
          <p:spPr>
            <a:xfrm>
              <a:off x="12600" y="2798640"/>
              <a:ext cx="935064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15920" y="2898720"/>
              <a:ext cx="91440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9"/>
          <p:cNvSpPr/>
          <p:nvPr/>
        </p:nvSpPr>
        <p:spPr>
          <a:xfrm>
            <a:off x="539640" y="2205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Благодарю за внимание</a:t>
            </a:r>
            <a:r>
              <a:rPr b="1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0" y="-2328840"/>
            <a:ext cx="9144000" cy="99061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1440000" y="5013360"/>
            <a:ext cx="73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9680" y="18900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исленность постоянного населения Нижнесергинского муниципального райо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9440" y="191592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Структура населения по возрастам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algn="just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дети до 1 года – </a:t>
            </a:r>
            <a:r>
              <a:rPr b="1" lang="ru-RU" sz="2400" spc="-1" strike="noStrike">
                <a:solidFill>
                  <a:srgbClr val="b48200"/>
                </a:solidFill>
                <a:latin typeface="Calibri"/>
              </a:rPr>
              <a:t>475</a:t>
            </a: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 человек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algn="just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дети (0-14 лет) – </a:t>
            </a:r>
            <a:r>
              <a:rPr b="1" lang="ru-RU" sz="2400" spc="-1" strike="noStrike">
                <a:solidFill>
                  <a:srgbClr val="b48200"/>
                </a:solidFill>
                <a:latin typeface="Calibri"/>
              </a:rPr>
              <a:t>6 766 </a:t>
            </a: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человек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algn="just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подростки (15-17 лет) – </a:t>
            </a:r>
            <a:r>
              <a:rPr b="1" lang="ru-RU" sz="2400" spc="-1" strike="noStrike">
                <a:solidFill>
                  <a:srgbClr val="b48200"/>
                </a:solidFill>
                <a:latin typeface="Calibri"/>
              </a:rPr>
              <a:t>1 242 </a:t>
            </a: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человека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algn="just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взрослые (18 лет и старше) – </a:t>
            </a:r>
            <a:r>
              <a:rPr b="1" lang="ru-RU" sz="2400" spc="-1" strike="noStrike">
                <a:solidFill>
                  <a:srgbClr val="b48200"/>
                </a:solidFill>
                <a:latin typeface="Calibri"/>
              </a:rPr>
              <a:t>34 654 </a:t>
            </a: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человека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algn="just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женское население </a:t>
            </a:r>
            <a:r>
              <a:rPr b="1" lang="ru-RU" sz="2400" spc="-1" strike="noStrike">
                <a:solidFill>
                  <a:srgbClr val="b48200"/>
                </a:solidFill>
                <a:latin typeface="Calibri"/>
              </a:rPr>
              <a:t>23 006 </a:t>
            </a: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человек (53,9% от общей численности населения района)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algn="just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женщины фертильного возраста – 9 116 человек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algn="just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Трудоспособное население – </a:t>
            </a:r>
            <a:r>
              <a:rPr b="1" lang="ru-RU" sz="2400" spc="-1" strike="noStrike">
                <a:solidFill>
                  <a:srgbClr val="b48200"/>
                </a:solidFill>
                <a:latin typeface="Calibri"/>
              </a:rPr>
              <a:t>23 802</a:t>
            </a: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algn="just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Сельское население – </a:t>
            </a:r>
            <a:r>
              <a:rPr b="1" lang="ru-RU" sz="2400" spc="-1" strike="noStrike">
                <a:solidFill>
                  <a:srgbClr val="b48200"/>
                </a:solidFill>
                <a:latin typeface="Calibri"/>
              </a:rPr>
              <a:t>10 220</a:t>
            </a:r>
            <a:r>
              <a:rPr b="1" lang="ru-RU" sz="2400" spc="-1" strike="noStrike">
                <a:solidFill>
                  <a:srgbClr val="ffe193"/>
                </a:solidFill>
                <a:latin typeface="Calibri"/>
              </a:rPr>
              <a:t> человек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FB7B-BAE9-47E7-A8FB-E84712C0DF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TextBox 10"/>
          <p:cNvGrpSpPr/>
          <p:nvPr/>
        </p:nvGrpSpPr>
        <p:grpSpPr>
          <a:xfrm>
            <a:off x="-60480" y="1158840"/>
            <a:ext cx="9247320" cy="779400"/>
            <a:chOff x="-60480" y="1158840"/>
            <a:chExt cx="9247320" cy="779400"/>
          </a:xfrm>
        </p:grpSpPr>
        <p:pic>
          <p:nvPicPr>
            <p:cNvPr id="59" name="TextBox 10" descr=""/>
            <p:cNvPicPr/>
            <p:nvPr/>
          </p:nvPicPr>
          <p:blipFill>
            <a:blip r:embed="rId9"/>
            <a:stretch/>
          </p:blipFill>
          <p:spPr>
            <a:xfrm>
              <a:off x="-60480" y="1158840"/>
              <a:ext cx="92473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9080" y="128124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e193"/>
                  </a:solidFill>
                  <a:latin typeface="Arial"/>
                  <a:ea typeface="Arial"/>
                </a:rPr>
                <a:t>по состоянию на 01.01.2014 года – </a:t>
              </a:r>
              <a:r>
                <a:rPr b="1" lang="ru-RU" sz="2400" spc="-1" strike="noStrike">
                  <a:solidFill>
                    <a:srgbClr val="b48200"/>
                  </a:solidFill>
                  <a:latin typeface="Arial"/>
                  <a:ea typeface="Arial"/>
                </a:rPr>
                <a:t>42 662</a:t>
              </a:r>
              <a:r>
                <a:rPr b="1" lang="ru-RU" sz="2400" spc="-1" strike="noStrike">
                  <a:solidFill>
                    <a:srgbClr val="ffe193"/>
                  </a:solidFill>
                  <a:latin typeface="Arial"/>
                  <a:ea typeface="Arial"/>
                </a:rPr>
                <a:t> челове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9680" y="18900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труктура службы детства и родовспоможения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БУЗ СО «Нижнесергинская ЦРБ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944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3" name="TextBox 10"/>
          <p:cNvGrpSpPr/>
          <p:nvPr/>
        </p:nvGrpSpPr>
        <p:grpSpPr>
          <a:xfrm>
            <a:off x="-60480" y="1200240"/>
            <a:ext cx="9247320" cy="561960"/>
            <a:chOff x="-60480" y="1200240"/>
            <a:chExt cx="9247320" cy="561960"/>
          </a:xfrm>
        </p:grpSpPr>
        <p:pic>
          <p:nvPicPr>
            <p:cNvPr id="64" name="TextBox 10" descr=""/>
            <p:cNvPicPr/>
            <p:nvPr/>
          </p:nvPicPr>
          <p:blipFill>
            <a:blip r:embed="rId1"/>
            <a:stretch/>
          </p:blipFill>
          <p:spPr>
            <a:xfrm>
              <a:off x="-60480" y="1200240"/>
              <a:ext cx="92473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9080" y="128124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Скругленный прямоугольник 1"/>
          <p:cNvSpPr/>
          <p:nvPr/>
        </p:nvSpPr>
        <p:spPr>
          <a:xfrm>
            <a:off x="3403440" y="198900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БУЗ СО «Нижнесергинская ЦРБ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кругленный прямоугольник 2"/>
          <p:cNvSpPr/>
          <p:nvPr/>
        </p:nvSpPr>
        <p:spPr>
          <a:xfrm>
            <a:off x="2106720" y="3859200"/>
            <a:ext cx="2232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енские консульта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 Нижние Серг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 Михайлов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522360" y="5445000"/>
            <a:ext cx="158436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 Ф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кругленный прямоугольник 9"/>
          <p:cNvSpPr/>
          <p:nvPr/>
        </p:nvSpPr>
        <p:spPr>
          <a:xfrm>
            <a:off x="2430360" y="551664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 ОВ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Скругленный прямоугольник 6"/>
          <p:cNvSpPr/>
          <p:nvPr/>
        </p:nvSpPr>
        <p:spPr>
          <a:xfrm>
            <a:off x="5931000" y="3859200"/>
            <a:ext cx="21762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ушерский стационар 1 групп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кругленный прямоугольник 7"/>
          <p:cNvSpPr/>
          <p:nvPr/>
        </p:nvSpPr>
        <p:spPr>
          <a:xfrm>
            <a:off x="4338720" y="5516640"/>
            <a:ext cx="15922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амбулато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Прямая со стрелкой 13"/>
          <p:cNvCxnSpPr>
            <a:stCxn id="68" idx="0"/>
            <a:endCxn id="67" idx="2"/>
          </p:cNvCxnSpPr>
          <p:nvPr/>
        </p:nvCxnSpPr>
        <p:spPr>
          <a:xfrm flipV="1">
            <a:off x="1314000" y="4866480"/>
            <a:ext cx="1909080" cy="5785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Прямая со стрелкой 15"/>
          <p:cNvCxnSpPr>
            <a:stCxn id="69" idx="0"/>
            <a:endCxn id="67" idx="2"/>
          </p:cNvCxnSpPr>
          <p:nvPr/>
        </p:nvCxnSpPr>
        <p:spPr>
          <a:xfrm flipV="1">
            <a:off x="3222360" y="4866840"/>
            <a:ext cx="1080" cy="6501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Прямая со стрелкой 23"/>
          <p:cNvCxnSpPr>
            <a:stCxn id="66" idx="2"/>
            <a:endCxn id="70" idx="0"/>
          </p:cNvCxnSpPr>
          <p:nvPr/>
        </p:nvCxnSpPr>
        <p:spPr>
          <a:xfrm>
            <a:off x="4590720" y="2923920"/>
            <a:ext cx="2429640" cy="93564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75" name="Прямая со стрелкой 25"/>
          <p:cNvCxnSpPr>
            <a:stCxn id="66" idx="2"/>
            <a:endCxn id="67" idx="0"/>
          </p:cNvCxnSpPr>
          <p:nvPr/>
        </p:nvCxnSpPr>
        <p:spPr>
          <a:xfrm flipH="1">
            <a:off x="3222000" y="2923920"/>
            <a:ext cx="1369080" cy="93564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76" name="Прямая со стрелкой 29"/>
          <p:cNvCxnSpPr>
            <a:stCxn id="67" idx="2"/>
            <a:endCxn id="71" idx="0"/>
          </p:cNvCxnSpPr>
          <p:nvPr/>
        </p:nvCxnSpPr>
        <p:spPr>
          <a:xfrm>
            <a:off x="3222360" y="4867200"/>
            <a:ext cx="1913400" cy="6501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sp>
        <p:nvSpPr>
          <p:cNvPr id="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368F-6639-4A53-9CAE-81258C17F2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9680" y="18900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АС «Мониторинг беременных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8920" y="1280880"/>
            <a:ext cx="842472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0" name="TextBox 10"/>
          <p:cNvGrpSpPr/>
          <p:nvPr/>
        </p:nvGrpSpPr>
        <p:grpSpPr>
          <a:xfrm>
            <a:off x="-60480" y="1200240"/>
            <a:ext cx="9247320" cy="561960"/>
            <a:chOff x="-60480" y="1200240"/>
            <a:chExt cx="9247320" cy="561960"/>
          </a:xfrm>
        </p:grpSpPr>
        <p:pic>
          <p:nvPicPr>
            <p:cNvPr id="81" name="TextBox 10" descr=""/>
            <p:cNvPicPr/>
            <p:nvPr/>
          </p:nvPicPr>
          <p:blipFill>
            <a:blip r:embed="rId1"/>
            <a:stretch/>
          </p:blipFill>
          <p:spPr>
            <a:xfrm>
              <a:off x="-60480" y="1200240"/>
              <a:ext cx="92473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9080" y="128124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15880" y="1509840"/>
            <a:ext cx="3568680" cy="2305080"/>
          </a:xfrm>
          <a:prstGeom prst="rect">
            <a:avLst/>
          </a:prstGeom>
          <a:ln w="0">
            <a:noFill/>
          </a:ln>
        </p:spPr>
      </p:pic>
      <p:sp>
        <p:nvSpPr>
          <p:cNvPr id="84" name="Овал 1"/>
          <p:cNvSpPr/>
          <p:nvPr/>
        </p:nvSpPr>
        <p:spPr>
          <a:xfrm>
            <a:off x="5219640" y="1509840"/>
            <a:ext cx="2448000" cy="92376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С «Мониторинг беременных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Овал 2"/>
          <p:cNvSpPr/>
          <p:nvPr/>
        </p:nvSpPr>
        <p:spPr>
          <a:xfrm>
            <a:off x="4140360" y="2662200"/>
            <a:ext cx="1944360" cy="11527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лошной мониторинг беремен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Овал 3"/>
          <p:cNvSpPr/>
          <p:nvPr/>
        </p:nvSpPr>
        <p:spPr>
          <a:xfrm>
            <a:off x="6624720" y="2662200"/>
            <a:ext cx="2212920" cy="134316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казание дистанционной консультативной помощ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Овал 4"/>
          <p:cNvSpPr/>
          <p:nvPr/>
        </p:nvSpPr>
        <p:spPr>
          <a:xfrm>
            <a:off x="4016520" y="4653000"/>
            <a:ext cx="2192040" cy="115236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диспансерного наблю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Овал 5"/>
          <p:cNvSpPr/>
          <p:nvPr/>
        </p:nvSpPr>
        <p:spPr>
          <a:xfrm>
            <a:off x="6453360" y="4437000"/>
            <a:ext cx="2286000" cy="11527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дупреждение материнских и перинатальных потер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Прямая со стрелкой 7"/>
          <p:cNvCxnSpPr>
            <a:endCxn id="85" idx="0"/>
          </p:cNvCxnSpPr>
          <p:nvPr/>
        </p:nvCxnSpPr>
        <p:spPr>
          <a:xfrm flipH="1">
            <a:off x="5110920" y="2276280"/>
            <a:ext cx="397800" cy="38628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90" name="Прямая со стрелкой 9"/>
          <p:cNvCxnSpPr>
            <a:stCxn id="84" idx="5"/>
            <a:endCxn id="86" idx="0"/>
          </p:cNvCxnSpPr>
          <p:nvPr/>
        </p:nvCxnSpPr>
        <p:spPr>
          <a:xfrm>
            <a:off x="7308360" y="2298600"/>
            <a:ext cx="423000" cy="3643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91" name="Прямая со стрелкой 12"/>
          <p:cNvCxnSpPr/>
          <p:nvPr/>
        </p:nvCxnSpPr>
        <p:spPr>
          <a:xfrm flipH="1">
            <a:off x="5805000" y="2433600"/>
            <a:ext cx="558000" cy="238824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92" name="Прямая со стрелкой 16"/>
          <p:cNvCxnSpPr/>
          <p:nvPr/>
        </p:nvCxnSpPr>
        <p:spPr>
          <a:xfrm>
            <a:off x="6362280" y="2480760"/>
            <a:ext cx="345240" cy="21726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sp>
        <p:nvSpPr>
          <p:cNvPr id="9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4651-3FA9-4413-94FB-DCD1412A5C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9680" y="18900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аршрутизация в службе детства и родовспоможения 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БУЗ СО «Нижнесергинская ЦРБ»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Объект 1" descr=""/>
          <p:cNvPicPr/>
          <p:nvPr/>
        </p:nvPicPr>
        <p:blipFill>
          <a:blip r:embed="rId1"/>
          <a:stretch/>
        </p:blipFill>
        <p:spPr>
          <a:xfrm>
            <a:off x="307800" y="1865160"/>
            <a:ext cx="8526600" cy="4710240"/>
          </a:xfrm>
          <a:prstGeom prst="rect">
            <a:avLst/>
          </a:prstGeom>
          <a:ln w="0">
            <a:noFill/>
          </a:ln>
        </p:spPr>
      </p:pic>
      <p:grpSp>
        <p:nvGrpSpPr>
          <p:cNvPr id="96" name="TextBox 10"/>
          <p:cNvGrpSpPr/>
          <p:nvPr/>
        </p:nvGrpSpPr>
        <p:grpSpPr>
          <a:xfrm>
            <a:off x="-60480" y="1200240"/>
            <a:ext cx="9247320" cy="561960"/>
            <a:chOff x="-60480" y="1200240"/>
            <a:chExt cx="9247320" cy="561960"/>
          </a:xfrm>
        </p:grpSpPr>
        <p:pic>
          <p:nvPicPr>
            <p:cNvPr id="97" name="TextBox 10" descr=""/>
            <p:cNvPicPr/>
            <p:nvPr/>
          </p:nvPicPr>
          <p:blipFill>
            <a:blip r:embed="rId2"/>
            <a:stretch/>
          </p:blipFill>
          <p:spPr>
            <a:xfrm>
              <a:off x="-60480" y="1200240"/>
              <a:ext cx="92473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9080" y="128124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4297-243D-48E4-BA3D-364211C971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Доступность маршрутизации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одоразрешение по группам риск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D965-705B-45A0-A1D3-2179C4E302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личество родов 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абсолютное число по району, в т.ч. в роддоме ЦРБ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13744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Диаграмма 1" descr=""/>
          <p:cNvPicPr/>
          <p:nvPr/>
        </p:nvPicPr>
        <p:blipFill>
          <a:blip r:embed="rId1"/>
          <a:stretch/>
        </p:blipFill>
        <p:spPr>
          <a:xfrm>
            <a:off x="417600" y="1346040"/>
            <a:ext cx="8381880" cy="522936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1EE4-C6C7-49DE-9D8F-6D5CA41AE1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казатели «Дорожной карты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Объект 11" descr=""/>
          <p:cNvPicPr/>
          <p:nvPr/>
        </p:nvPicPr>
        <p:blipFill>
          <a:blip r:embed="rId1"/>
          <a:stretch/>
        </p:blipFill>
        <p:spPr>
          <a:xfrm>
            <a:off x="4737240" y="1628640"/>
            <a:ext cx="4278240" cy="424836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2E9-6BE0-417E-AD51-745DEB9137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3961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258840" y="5877000"/>
            <a:ext cx="164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2. Младенче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ерт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2355840" y="5877000"/>
            <a:ext cx="165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учаев на 1000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дившихся жив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личество аборт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Объект 4" descr=""/>
          <p:cNvPicPr/>
          <p:nvPr/>
        </p:nvPicPr>
        <p:blipFill>
          <a:blip r:embed="rId1"/>
          <a:stretch/>
        </p:blipFill>
        <p:spPr>
          <a:xfrm>
            <a:off x="9360" y="1488960"/>
            <a:ext cx="4478400" cy="509112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4F45-5D36-4042-BD3C-954A1AD933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365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4:00:18Z</dcterms:created>
  <dc:creator>a</dc:creator>
  <dc:description/>
  <dc:language>en-US</dc:language>
  <cp:lastModifiedBy>user</cp:lastModifiedBy>
  <cp:lastPrinted>2014-10-28T09:40:33Z</cp:lastPrinted>
  <dcterms:modified xsi:type="dcterms:W3CDTF">2014-11-05T11:39:35Z</dcterms:modified>
  <cp:revision>303</cp:revision>
  <dc:subject/>
  <dc:title>Слайд 1</dc:title>
</cp:coreProperties>
</file>