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4960" y="746280"/>
            <a:ext cx="49705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4F2C-068B-418C-A266-987A73C294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4817-285B-4564-B7FC-07CD4211E9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49CA-F83E-49D8-883F-B72AFF8A4D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8851-340F-4EFE-8295-33621BC4B3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564B-11BA-4486-B611-70BB31B94D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F92D-9164-49D5-9034-FF3C5C584A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3B31-3E45-4634-9828-BC41AC6C4C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C668-B364-4F78-8CA8-74CEA3977F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5433-EE08-43C3-B6ED-03B820D037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EC1A-4128-4AFA-8414-E1FAD14B80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F01D-729E-4B3C-AF8A-314506107C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C3A3-9232-471D-8D72-BBBD990F66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9110-1A7F-4AEB-9773-2A28EEFE90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F529-AA50-4451-8D70-092D632E8A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DE58-9128-4784-9516-1BC8C1A465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2639-5E62-4E5C-9B06-274CC964B9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3DB8-1A2D-4075-9527-463FAC9CBB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ADA2-8735-4805-ABB2-0322D9E0C5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E582-169D-459F-8441-6A3263CA41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8894-62C7-4D4F-8E4F-D4CAC259E1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19B4-3096-4944-A2C4-130B0D0406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40CE-BF12-47F6-A795-426A991535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9D90-D6A2-416E-943F-00664D912A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D11A-3457-4C10-B5C4-561A9B48B5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BDEB-708A-4ED2-9B18-0585B016D4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38FE-A9E1-4ECF-AEC4-916499D688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6FCC-4FED-4141-8D76-139D2AB0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77B-D95F-46E2-B545-F254FF1A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E750-7C06-4FE2-8717-BC2537A7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EAE1-607E-415C-96E9-ECC4E758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0082-4534-47AB-BA3A-F3A602A7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18C-EA37-48E1-B187-6A62AE0C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749A-3B76-487B-A5D7-FB7F8612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3D24-DCD4-473A-91E8-BD6B44E8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3881-F1D8-4630-B3D2-F50A8A0C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5C35-A086-4F04-A10A-2CBF50AB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096C-CEB1-4C36-8065-63F32E03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1630-1BBF-4630-9EC8-55C5D55E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C357-05F4-42F4-AFDF-7B29FB9FFB0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frm=1&amp;source=images&amp;cd=&amp;cad=rja&amp;uact=8&amp;docid=uJngG4wKC0bezM&amp;tbnid=pWm2Top9f1TnDM:&amp;ved=0CAUQjRw&amp;url=http://www.rg.ru/2014/02/28/reg-urfo/proverka-anons.html&amp;ei=lZLkU6L8JKzP4QSEooGwDQ&amp;bvm=bv.72676100,d.bGE&amp;psig=AFQjCNHTKADs1ZB2En-dwcbKsPEBAmNXoA&amp;ust=1407574913555633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google.ru/url?sa=i&amp;rct=j&amp;q=&amp;esrc=s&amp;frm=1&amp;source=images&amp;cd=&amp;cad=rja&amp;uact=8&amp;docid=h1Ws5c-SYuuHyM&amp;tbnid=asCSfvyDT5JKrM:&amp;ved=0CAUQjRw&amp;url=http://vtagile-online.ru/news/1224-eduard-rossel-uletel-no-obeschal-vernutsya.html&amp;ei=z5LkU_-zEoPm4QSukIGoDg&amp;bvm=bv.72676100,d.bGE&amp;psig=AFQjCNHTKADs1ZB2En-dwcbKsPEBAmNXoA&amp;ust=1407574913555633" TargetMode="Externa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1160" y="4622760"/>
            <a:ext cx="845964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б</a:t>
            </a:r>
            <a:r>
              <a:rPr b="1" lang="es-E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сновных задачах здравоохранения Свердловской области по реализации Указов Президента РФ от 07 мая 201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0"/>
          <p:cNvSpPr/>
          <p:nvPr/>
        </p:nvSpPr>
        <p:spPr>
          <a:xfrm>
            <a:off x="336600" y="5751360"/>
            <a:ext cx="864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Заместитель министра здравоохранения Свердл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Кивелёва Нонна Никола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Динамика средней заработной платы врач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Объект 3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Динамика средней заработной платы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среднего медицинского персон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Объект 4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Динамика средней заработной платы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младшего медицинского персон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Объект 4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Уровень средней заработной платы </a:t>
            </a:r>
            <a:br>
              <a:rPr sz="2200"/>
            </a:b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в I полугодии 2014 г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6840" y="1275840"/>
            <a:ext cx="4040280" cy="15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йтинг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О УРОВ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работной платы Свердловская область среди регионов Росси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данные по учреждениям федеральной, региональной и муниципальной форм собствен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4720" y="1283760"/>
            <a:ext cx="4041720" cy="17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йтинг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О СООТНОШЕНИ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дней заработной платы работников здравоохранения и средней заработной плате по экономике занимает Свердловская область среди регионов Росси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данные по учреждениям федеральной, региональной и муниципальной форм собствен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4720" y="3045960"/>
            <a:ext cx="4041720" cy="30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ачи и иные работни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 (впереди - Курганская область и Чувашия) (186,3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й медицинский персонал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то (впереди - Ненецкий АО, Алтай и Курганская область) (99,2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ладший медицинский персонал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то (59,1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Рейтинг показ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8440" y="3003120"/>
            <a:ext cx="4040280" cy="30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ачи и иные работни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 (51827 рубл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й медицинский персонал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то (27581 рубл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ладший медицинский персонал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то (16427 рубл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Распределение государственных учреждений по уровню заработной платы врач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Анализ показателей Ивдельской ЦР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28760" y="1892160"/>
          <a:ext cx="3998880" cy="2565720"/>
        </p:xfrm>
        <a:graphic>
          <a:graphicData uri="http://schemas.openxmlformats.org/drawingml/2006/table">
            <a:tbl>
              <a:tblPr/>
              <a:tblGrid>
                <a:gridCol w="1406520"/>
                <a:gridCol w="1296720"/>
                <a:gridCol w="1295640"/>
              </a:tblGrid>
              <a:tr h="292320">
                <a:tc gridSpan="3"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та тру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1480"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и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 заработная плата за I полугод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йтинговое место среди ЛП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1960">
                <a:tc>
                  <a:txBody>
                    <a:bodyPr lIns="108000" rIns="9360" tIns="126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355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9800">
                <a:tc>
                  <a:txBody>
                    <a:bodyPr lIns="108000" rIns="9360" tIns="126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22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0160">
                <a:tc>
                  <a:txBody>
                    <a:bodyPr lIns="108000" rIns="9360" tIns="126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ш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13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859280" y="1892160"/>
          <a:ext cx="3745080" cy="2116440"/>
        </p:xfrm>
        <a:graphic>
          <a:graphicData uri="http://schemas.openxmlformats.org/drawingml/2006/table">
            <a:tbl>
              <a:tblPr/>
              <a:tblGrid>
                <a:gridCol w="2260800"/>
                <a:gridCol w="1484280"/>
              </a:tblGrid>
              <a:tr h="1123920">
                <a:tc gridSpan="2"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ие плановых объем мед помощи по ОМС,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640">
                <a:tc>
                  <a:txBody>
                    <a:bodyPr lIns="108000" rIns="9360" tIns="126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ая  помощь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1560">
                <a:tc>
                  <a:txBody>
                    <a:bodyPr lIns="108000" rIns="9360" tIns="126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булаторная помощ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9320">
                <a:tc>
                  <a:txBody>
                    <a:bodyPr lIns="108000" rIns="9360" tIns="126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ционарная помощ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26960" y="4718160"/>
          <a:ext cx="3754440" cy="1493640"/>
        </p:xfrm>
        <a:graphic>
          <a:graphicData uri="http://schemas.openxmlformats.org/drawingml/2006/table">
            <a:tbl>
              <a:tblPr/>
              <a:tblGrid>
                <a:gridCol w="1878120"/>
                <a:gridCol w="1876320"/>
              </a:tblGrid>
              <a:tr h="1493640">
                <a:tc>
                  <a:txBody>
                    <a:bodyPr tIns="60840" bIns="60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оказания медицинской помощи (по внутренней экспертизе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60840" bIns="60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ИЗКО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859280" y="4721400"/>
          <a:ext cx="3756240" cy="960120"/>
        </p:xfrm>
        <a:graphic>
          <a:graphicData uri="http://schemas.openxmlformats.org/drawingml/2006/table">
            <a:tbl>
              <a:tblPr/>
              <a:tblGrid>
                <a:gridCol w="1944720"/>
                <a:gridCol w="1811520"/>
              </a:tblGrid>
              <a:tr h="960120">
                <a:tc>
                  <a:txBody>
                    <a:bodyPr tIns="60840" bIns="60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эффициент совместительства  у врач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60840" bIns="60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Анализ за 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I </a:t>
            </a: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полугод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4920" y="1268280"/>
          <a:ext cx="9109080" cy="4519800"/>
        </p:xfrm>
        <a:graphic>
          <a:graphicData uri="http://schemas.openxmlformats.org/drawingml/2006/table">
            <a:tbl>
              <a:tblPr/>
              <a:tblGrid>
                <a:gridCol w="2173320"/>
                <a:gridCol w="654120"/>
                <a:gridCol w="1003320"/>
                <a:gridCol w="919080"/>
                <a:gridCol w="654120"/>
                <a:gridCol w="585720"/>
                <a:gridCol w="625320"/>
                <a:gridCol w="711360"/>
                <a:gridCol w="890640"/>
                <a:gridCol w="892080"/>
              </a:tblGrid>
              <a:tr h="991800">
                <a:tc rowSpan="2">
                  <a:txBody>
                    <a:bodyPr lIns="72000" rIns="7200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ре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0" rIns="7200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 заработная плата (рейтинговое место из 16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72000" rIns="7200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ие показателей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2000" rIns="7200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-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-т совмес-титель-ства врач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ш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800">
                <a:tc>
                  <a:txBody>
                    <a:bodyPr lIns="9360" rIns="9360" tIns="126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кодиспансер  №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360" rIns="9360" tIns="126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ДЦ ОЗМ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360" rIns="9360" tIns="126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дельская ЦР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о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360" rIns="9360" tIns="126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Б №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360" rIns="9360" tIns="126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гдановичская ЦР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о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360" rIns="9360" tIns="126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олялинская Р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360" rIns="9360" tIns="126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идовская ЦГ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о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блемы, возникшие при согласовании «дорожных карт» учре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некоторых учреждений отсутствовала оптимизация численности младшего персон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статочно проработаны планы мероприятий по сокращению неэффективных рас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Объект 3" descr=""/>
          <p:cNvPicPr/>
          <p:nvPr/>
        </p:nvPicPr>
        <p:blipFill>
          <a:blip r:embed="rId1"/>
          <a:stretch/>
        </p:blipFill>
        <p:spPr>
          <a:xfrm>
            <a:off x="444600" y="1316160"/>
            <a:ext cx="8254800" cy="48099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Решение кадровой пробл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4920" y="1989000"/>
          <a:ext cx="9109080" cy="2081520"/>
        </p:xfrm>
        <a:graphic>
          <a:graphicData uri="http://schemas.openxmlformats.org/drawingml/2006/table">
            <a:tbl>
              <a:tblPr/>
              <a:tblGrid>
                <a:gridCol w="6985080"/>
                <a:gridCol w="1081080"/>
                <a:gridCol w="1042920"/>
              </a:tblGrid>
              <a:tr h="685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оказателя (значение к 2018 году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–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ю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–июнь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ижение смертности от болезней системы кровообращения до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68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77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ижение смертности от новообразований до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ижение смертности от туберкулеза до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4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ижение смертности от дорожно-транспортных происшествий до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ижение младенческой смертности до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1" name="TextBox 1"/>
          <p:cNvSpPr/>
          <p:nvPr/>
        </p:nvSpPr>
        <p:spPr>
          <a:xfrm>
            <a:off x="557640" y="4486320"/>
            <a:ext cx="830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роприятия по формированию ЗОЖ, профилактике алкоголизм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комании, ку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лекс мер по обеспечению здравоохранения медицинскими кадр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рнизация наркологической служ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0" descr="http://www.ngo44.ru/img/ukazy-big.jpg"/>
          <p:cNvPicPr/>
          <p:nvPr/>
        </p:nvPicPr>
        <p:blipFill>
          <a:blip r:embed="rId4"/>
          <a:srcRect l="0" t="0" r="0" b="15437"/>
          <a:stretch/>
        </p:blipFill>
        <p:spPr>
          <a:xfrm>
            <a:off x="0" y="-3240"/>
            <a:ext cx="9144000" cy="13082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7"/>
          <p:cNvSpPr/>
          <p:nvPr/>
        </p:nvSpPr>
        <p:spPr>
          <a:xfrm>
            <a:off x="2087640" y="0"/>
            <a:ext cx="7010280" cy="290520"/>
          </a:xfrm>
          <a:prstGeom prst="rect">
            <a:avLst/>
          </a:prstGeom>
          <a:solidFill>
            <a:srgbClr val="416b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Равнобедренный треугольник 9"/>
          <p:cNvSpPr/>
          <p:nvPr/>
        </p:nvSpPr>
        <p:spPr>
          <a:xfrm rot="12322200">
            <a:off x="1976400" y="220680"/>
            <a:ext cx="433440" cy="247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7034040" y="162072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еративные д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4520"/>
            <a:ext cx="822960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Aft>
                <a:spcPts val="119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Минтруда Росси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 26.04.2014 № 167н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б утверждении рекомендаций по оформлению трудовых отношений с работником государственного (муниципального) учреждения при введении эффективного контрак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МЗС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 13.09.2013 № 1195-п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б организации внедрения в государственных учреждениях, подведомственных Министерству здравоохранения Свердловской области, и муниципальных учреждениях здравоохранения города Екатеринбурга эффективного контракт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МЗС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 14.10.2013 № 1318-п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б утверждении методических рекомендаций по разработке показателей эффективности деятельности работников  государственных учреждений, подведомственных Министерству здравоохранения Свердловской области, и муниципальных учреждений здравоохранения города Екатеринбург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НПА по внедрению «эффективного контракт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НПА по разработке систем нормирования труда в государственных (муниципальных) учреждени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06028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Минтруда и социальной защиты РФ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 31.05.2013 № 23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б утверждении методических рекомендаций для федеральных органов исполнительной власти по разработке типовых отраслевых норм тру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ьмо МЗС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 05.08.2014 №15-16/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ны быть разработаны профессиональные стандарты и типовые 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Задачи учрежден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полнение согласованных помесячных графиков повышения заработной 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еспечение сбалансированности доходов и расходов учре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перативный пересмотр по согласованию параметров дорожных карт при изменении финансов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вязка заработной платы и результатов деятельности учреждения (эффективный контрак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Задачи учрежден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уществление мероприятий по оптимизации штатных распис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полнение согласованных планов по сокращению неэффективных расходов и поиску внутренних резер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47160" cy="1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60066"/>
                </a:solidFill>
                <a:latin typeface="Arial"/>
              </a:rPr>
              <a:t>00000000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ы повышаем зарплаты, чтобы работа учителя, преподавателя, врача вновь стала престижной, привлекла сильных выпускников вузов. Но достойная оплата труда, должна обеспечиваться не только исключительно за счёт бюджетных вливаний, а благодаря реформам, которые призваны повысить эффективность расходов и качество услуг в социальной сфер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В. Пу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60066"/>
                </a:solidFill>
                <a:latin typeface="Arial"/>
              </a:rPr>
              <a:t>ооооооооооооо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дарю за внимание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le 1"/>
          <p:cNvSpPr/>
          <p:nvPr/>
        </p:nvSpPr>
        <p:spPr>
          <a:xfrm>
            <a:off x="946080" y="404640"/>
            <a:ext cx="720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«</a:t>
            </a: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Дорожная карта» в сфере здравоохране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Группа 15" descr=""/>
          <p:cNvPicPr/>
          <p:nvPr/>
        </p:nvPicPr>
        <p:blipFill>
          <a:blip r:embed="rId1"/>
          <a:stretch/>
        </p:blipFill>
        <p:spPr>
          <a:xfrm>
            <a:off x="512640" y="774720"/>
            <a:ext cx="2571840" cy="2565360"/>
          </a:xfrm>
          <a:prstGeom prst="rect">
            <a:avLst/>
          </a:prstGeom>
          <a:ln w="0">
            <a:noFill/>
          </a:ln>
        </p:spPr>
      </p:pic>
      <p:grpSp>
        <p:nvGrpSpPr>
          <p:cNvPr id="58" name="Группа 16"/>
          <p:cNvGrpSpPr/>
          <p:nvPr/>
        </p:nvGrpSpPr>
        <p:grpSpPr>
          <a:xfrm>
            <a:off x="3457440" y="954000"/>
            <a:ext cx="2232000" cy="2232000"/>
            <a:chOff x="3457440" y="954000"/>
            <a:chExt cx="2232000" cy="2232000"/>
          </a:xfrm>
        </p:grpSpPr>
        <p:grpSp>
          <p:nvGrpSpPr>
            <p:cNvPr id="59" name="Овал 13"/>
            <p:cNvGrpSpPr/>
            <p:nvPr/>
          </p:nvGrpSpPr>
          <p:grpSpPr>
            <a:xfrm>
              <a:off x="3457440" y="954000"/>
              <a:ext cx="2232000" cy="2232000"/>
              <a:chOff x="3457440" y="954000"/>
              <a:chExt cx="2232000" cy="2232000"/>
            </a:xfrm>
          </p:grpSpPr>
          <p:pic>
            <p:nvPicPr>
              <p:cNvPr id="60" name="Овал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3457440" y="954000"/>
                <a:ext cx="2232000" cy="22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3885840" y="1383120"/>
                <a:ext cx="1372680" cy="136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TextBox 11"/>
            <p:cNvSpPr/>
            <p:nvPr/>
          </p:nvSpPr>
          <p:spPr>
            <a:xfrm>
              <a:off x="3508920" y="1654560"/>
              <a:ext cx="215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rebuchet MS"/>
                </a:rPr>
                <a:t>12</a:t>
              </a:r>
              <a:r>
                <a:rPr b="1" lang="ru-RU" sz="1800" spc="-1" strike="noStrike">
                  <a:solidFill>
                    <a:srgbClr val="000000"/>
                  </a:solidFill>
                  <a:latin typeface="Trebuchet MS"/>
                </a:rPr>
                <a:t> показате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rebuchet MS"/>
                </a:rPr>
                <a:t>здоровья, в т ч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rebuchet MS"/>
                </a:rPr>
                <a:t>по Указу № 59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17"/>
          <p:cNvGrpSpPr/>
          <p:nvPr/>
        </p:nvGrpSpPr>
        <p:grpSpPr>
          <a:xfrm>
            <a:off x="6257880" y="996840"/>
            <a:ext cx="2232000" cy="2751840"/>
            <a:chOff x="6257880" y="996840"/>
            <a:chExt cx="2232000" cy="2751840"/>
          </a:xfrm>
        </p:grpSpPr>
        <p:grpSp>
          <p:nvGrpSpPr>
            <p:cNvPr id="64" name="Овал 14"/>
            <p:cNvGrpSpPr/>
            <p:nvPr/>
          </p:nvGrpSpPr>
          <p:grpSpPr>
            <a:xfrm>
              <a:off x="6257880" y="996840"/>
              <a:ext cx="2232000" cy="2232000"/>
              <a:chOff x="6257880" y="996840"/>
              <a:chExt cx="2232000" cy="2232000"/>
            </a:xfrm>
          </p:grpSpPr>
          <p:pic>
            <p:nvPicPr>
              <p:cNvPr id="65" name="Овал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6257880" y="996840"/>
                <a:ext cx="2232000" cy="22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6683760" y="1427040"/>
                <a:ext cx="137592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Box 12"/>
            <p:cNvSpPr/>
            <p:nvPr/>
          </p:nvSpPr>
          <p:spPr>
            <a:xfrm>
              <a:off x="6573240" y="1460160"/>
              <a:ext cx="16358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rebuchet MS"/>
                </a:rPr>
                <a:t>3</a:t>
              </a:r>
              <a:r>
                <a:rPr b="1" lang="ru-RU" sz="1800" spc="-1" strike="noStrike">
                  <a:solidFill>
                    <a:srgbClr val="000000"/>
                  </a:solidFill>
                  <a:latin typeface="Trebuchet MS"/>
                </a:rPr>
                <a:t> показател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rebuchet MS"/>
                </a:rPr>
                <a:t>заработной платы + </a:t>
              </a:r>
              <a:r>
                <a:rPr b="1" lang="ru-RU" sz="1800" spc="-1" strike="noStrike">
                  <a:solidFill>
                    <a:srgbClr val="ff0000"/>
                  </a:solidFill>
                  <a:latin typeface="Trebuchet MS"/>
                </a:rPr>
                <a:t>16</a:t>
              </a:r>
              <a:r>
                <a:rPr b="1" lang="ru-RU" sz="1800" spc="-1" strike="noStrike">
                  <a:solidFill>
                    <a:srgbClr val="000000"/>
                  </a:solidFill>
                  <a:latin typeface="Trebuchet MS"/>
                </a:rPr>
                <a:t> «кадровых» показате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Группа 20" descr=""/>
          <p:cNvPicPr/>
          <p:nvPr/>
        </p:nvPicPr>
        <p:blipFill>
          <a:blip r:embed="rId4"/>
          <a:stretch/>
        </p:blipFill>
        <p:spPr>
          <a:xfrm>
            <a:off x="2901960" y="5553000"/>
            <a:ext cx="3468600" cy="951120"/>
          </a:xfrm>
          <a:prstGeom prst="rect">
            <a:avLst/>
          </a:prstGeom>
          <a:ln w="0">
            <a:noFill/>
          </a:ln>
        </p:spPr>
      </p:pic>
      <p:pic>
        <p:nvPicPr>
          <p:cNvPr id="69" name="Группа 23" descr=""/>
          <p:cNvPicPr/>
          <p:nvPr/>
        </p:nvPicPr>
        <p:blipFill>
          <a:blip r:embed="rId5"/>
          <a:stretch/>
        </p:blipFill>
        <p:spPr>
          <a:xfrm>
            <a:off x="225360" y="3365640"/>
            <a:ext cx="3309840" cy="1096920"/>
          </a:xfrm>
          <a:prstGeom prst="rect">
            <a:avLst/>
          </a:prstGeom>
          <a:ln w="0">
            <a:noFill/>
          </a:ln>
        </p:spPr>
      </p:pic>
      <p:pic>
        <p:nvPicPr>
          <p:cNvPr id="70" name="Группа 24" descr=""/>
          <p:cNvPicPr/>
          <p:nvPr/>
        </p:nvPicPr>
        <p:blipFill>
          <a:blip r:embed="rId6"/>
          <a:stretch/>
        </p:blipFill>
        <p:spPr>
          <a:xfrm>
            <a:off x="5614920" y="3371760"/>
            <a:ext cx="3357720" cy="1090800"/>
          </a:xfrm>
          <a:prstGeom prst="rect">
            <a:avLst/>
          </a:prstGeom>
          <a:ln w="0">
            <a:noFill/>
          </a:ln>
        </p:spPr>
      </p:pic>
      <p:pic>
        <p:nvPicPr>
          <p:cNvPr id="71" name="Группа 29" descr=""/>
          <p:cNvPicPr/>
          <p:nvPr/>
        </p:nvPicPr>
        <p:blipFill>
          <a:blip r:embed="rId7"/>
          <a:stretch/>
        </p:blipFill>
        <p:spPr>
          <a:xfrm>
            <a:off x="2017800" y="4638600"/>
            <a:ext cx="1000080" cy="1006560"/>
          </a:xfrm>
          <a:prstGeom prst="rect">
            <a:avLst/>
          </a:prstGeom>
          <a:ln w="0">
            <a:noFill/>
          </a:ln>
        </p:spPr>
      </p:pic>
      <p:grpSp>
        <p:nvGrpSpPr>
          <p:cNvPr id="72" name="Группа 30"/>
          <p:cNvGrpSpPr/>
          <p:nvPr/>
        </p:nvGrpSpPr>
        <p:grpSpPr>
          <a:xfrm>
            <a:off x="5940360" y="4581360"/>
            <a:ext cx="1046520" cy="1033560"/>
            <a:chOff x="5940360" y="4581360"/>
            <a:chExt cx="1046520" cy="1033560"/>
          </a:xfrm>
        </p:grpSpPr>
        <p:sp>
          <p:nvSpPr>
            <p:cNvPr id="73" name="Овал 31"/>
            <p:cNvSpPr/>
            <p:nvPr/>
          </p:nvSpPr>
          <p:spPr>
            <a:xfrm>
              <a:off x="5940360" y="4581360"/>
              <a:ext cx="1046520" cy="10335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2"/>
            <p:cNvSpPr/>
            <p:nvPr/>
          </p:nvSpPr>
          <p:spPr>
            <a:xfrm>
              <a:off x="5947920" y="4807800"/>
              <a:ext cx="103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ос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зарпла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Стрелка углом вверх 33"/>
          <p:cNvSpPr/>
          <p:nvPr/>
        </p:nvSpPr>
        <p:spPr>
          <a:xfrm rot="5400000">
            <a:off x="1443600" y="4685400"/>
            <a:ext cx="862200" cy="304560"/>
          </a:xfrm>
          <a:custGeom>
            <a:avLst/>
            <a:gdLst/>
            <a:ahLst/>
            <a:rect l="l" t="t" r="r" b="b"/>
            <a:pathLst>
              <a:path w="862013" h="304800">
                <a:moveTo>
                  <a:pt x="0" y="228600"/>
                </a:moveTo>
                <a:lnTo>
                  <a:pt x="747713" y="228600"/>
                </a:lnTo>
                <a:lnTo>
                  <a:pt x="747713" y="76200"/>
                </a:lnTo>
                <a:lnTo>
                  <a:pt x="709613" y="76200"/>
                </a:lnTo>
                <a:lnTo>
                  <a:pt x="785813" y="0"/>
                </a:lnTo>
                <a:lnTo>
                  <a:pt x="862013" y="76200"/>
                </a:lnTo>
                <a:lnTo>
                  <a:pt x="823913" y="76200"/>
                </a:lnTo>
                <a:lnTo>
                  <a:pt x="823913" y="304800"/>
                </a:lnTo>
                <a:lnTo>
                  <a:pt x="0" y="3048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c9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углом вверх 34"/>
          <p:cNvSpPr/>
          <p:nvPr/>
        </p:nvSpPr>
        <p:spPr>
          <a:xfrm>
            <a:off x="6986520" y="4406760"/>
            <a:ext cx="247680" cy="809640"/>
          </a:xfrm>
          <a:custGeom>
            <a:avLst/>
            <a:gdLst/>
            <a:ahLst/>
            <a:rect l="l" t="t" r="r" b="b"/>
            <a:pathLst>
              <a:path w="247650" h="809625">
                <a:moveTo>
                  <a:pt x="0" y="747713"/>
                </a:moveTo>
                <a:lnTo>
                  <a:pt x="154781" y="747713"/>
                </a:lnTo>
                <a:lnTo>
                  <a:pt x="154781" y="61913"/>
                </a:lnTo>
                <a:lnTo>
                  <a:pt x="123825" y="61913"/>
                </a:lnTo>
                <a:lnTo>
                  <a:pt x="185738" y="0"/>
                </a:lnTo>
                <a:lnTo>
                  <a:pt x="247650" y="61913"/>
                </a:lnTo>
                <a:lnTo>
                  <a:pt x="216694" y="61913"/>
                </a:lnTo>
                <a:lnTo>
                  <a:pt x="216694" y="809625"/>
                </a:lnTo>
                <a:lnTo>
                  <a:pt x="0" y="809625"/>
                </a:lnTo>
                <a:lnTo>
                  <a:pt x="0" y="747713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c9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Штриховая стрелка вправо 36"/>
          <p:cNvSpPr/>
          <p:nvPr/>
        </p:nvSpPr>
        <p:spPr>
          <a:xfrm>
            <a:off x="3005280" y="5122800"/>
            <a:ext cx="2935080" cy="146160"/>
          </a:xfrm>
          <a:custGeom>
            <a:avLst/>
            <a:gdLst/>
            <a:ahLst/>
            <a:rect l="l" t="t" r="r" b="b"/>
            <a:pathLst>
              <a:path w="2935287" h="146050">
                <a:moveTo>
                  <a:pt x="0" y="36513"/>
                </a:moveTo>
                <a:lnTo>
                  <a:pt x="4564" y="36513"/>
                </a:lnTo>
                <a:lnTo>
                  <a:pt x="4564" y="109538"/>
                </a:lnTo>
                <a:lnTo>
                  <a:pt x="0" y="109538"/>
                </a:lnTo>
                <a:lnTo>
                  <a:pt x="0" y="36513"/>
                </a:lnTo>
                <a:close/>
                <a:moveTo>
                  <a:pt x="9128" y="36513"/>
                </a:moveTo>
                <a:lnTo>
                  <a:pt x="18256" y="36513"/>
                </a:lnTo>
                <a:lnTo>
                  <a:pt x="18256" y="109538"/>
                </a:lnTo>
                <a:lnTo>
                  <a:pt x="9128" y="109538"/>
                </a:lnTo>
                <a:lnTo>
                  <a:pt x="9128" y="36513"/>
                </a:lnTo>
                <a:close/>
                <a:moveTo>
                  <a:pt x="22820" y="36513"/>
                </a:moveTo>
                <a:lnTo>
                  <a:pt x="2862262" y="36513"/>
                </a:lnTo>
                <a:lnTo>
                  <a:pt x="2862262" y="0"/>
                </a:lnTo>
                <a:lnTo>
                  <a:pt x="2935287" y="73025"/>
                </a:lnTo>
                <a:lnTo>
                  <a:pt x="2862262" y="146050"/>
                </a:lnTo>
                <a:lnTo>
                  <a:pt x="2862262" y="109538"/>
                </a:lnTo>
                <a:lnTo>
                  <a:pt x="22820" y="109538"/>
                </a:lnTo>
                <a:lnTo>
                  <a:pt x="22820" y="36513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c9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39"/>
          <p:cNvCxnSpPr/>
          <p:nvPr/>
        </p:nvCxnSpPr>
        <p:spPr>
          <a:xfrm>
            <a:off x="2997000" y="4406760"/>
            <a:ext cx="1021320" cy="1199520"/>
          </a:xfrm>
          <a:prstGeom prst="straightConnector1">
            <a:avLst/>
          </a:prstGeom>
          <a:ln w="38160">
            <a:solidFill>
              <a:srgbClr val="ff0000">
                <a:alpha val="65000"/>
              </a:srgbClr>
            </a:solidFill>
            <a:miter/>
            <a:tailEnd len="med" type="arrow" w="med"/>
          </a:ln>
        </p:spPr>
      </p:cxnSp>
      <p:cxnSp>
        <p:nvCxnSpPr>
          <p:cNvPr id="79" name="Прямая со стрелкой 42"/>
          <p:cNvCxnSpPr/>
          <p:nvPr/>
        </p:nvCxnSpPr>
        <p:spPr>
          <a:xfrm flipH="1">
            <a:off x="5193720" y="4379760"/>
            <a:ext cx="999000" cy="1221840"/>
          </a:xfrm>
          <a:prstGeom prst="straightConnector1">
            <a:avLst/>
          </a:prstGeom>
          <a:ln w="38160">
            <a:solidFill>
              <a:srgbClr val="ff0000">
                <a:alpha val="65000"/>
              </a:srgbClr>
            </a:solidFill>
            <a:miter/>
            <a:tailEnd len="med" type="arrow" w="med"/>
          </a:ln>
        </p:spPr>
      </p:cxnSp>
      <p:cxnSp>
        <p:nvCxnSpPr>
          <p:cNvPr id="80" name="Прямая со стрелкой 46"/>
          <p:cNvCxnSpPr/>
          <p:nvPr/>
        </p:nvCxnSpPr>
        <p:spPr>
          <a:xfrm flipH="1" flipV="1">
            <a:off x="4592160" y="3166560"/>
            <a:ext cx="16560" cy="2426400"/>
          </a:xfrm>
          <a:prstGeom prst="straightConnector1">
            <a:avLst/>
          </a:prstGeom>
          <a:ln w="76320">
            <a:solidFill>
              <a:srgbClr val="ff0000">
                <a:alpha val="65000"/>
              </a:srgbClr>
            </a:solidFill>
            <a:miter/>
            <a:tailEnd len="med" type="triangle" w="med"/>
          </a:ln>
        </p:spPr>
      </p:cxnSp>
      <p:pic>
        <p:nvPicPr>
          <p:cNvPr id="81" name="Группа 35" descr=""/>
          <p:cNvPicPr/>
          <p:nvPr/>
        </p:nvPicPr>
        <p:blipFill>
          <a:blip r:embed="rId8"/>
          <a:stretch/>
        </p:blipFill>
        <p:spPr>
          <a:xfrm>
            <a:off x="7607160" y="4565520"/>
            <a:ext cx="1311480" cy="1170000"/>
          </a:xfrm>
          <a:prstGeom prst="rect">
            <a:avLst/>
          </a:prstGeom>
          <a:ln w="0">
            <a:noFill/>
          </a:ln>
        </p:spPr>
      </p:pic>
      <p:sp>
        <p:nvSpPr>
          <p:cNvPr id="82" name="Номер слайда 40"/>
          <p:cNvSpPr/>
          <p:nvPr/>
        </p:nvSpPr>
        <p:spPr>
          <a:xfrm>
            <a:off x="6553080" y="6246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F59E-5FDF-4B6A-9BDF-2FC3B404B9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углом 6"/>
          <p:cNvSpPr/>
          <p:nvPr/>
        </p:nvSpPr>
        <p:spPr>
          <a:xfrm rot="16200000">
            <a:off x="7116840" y="4685760"/>
            <a:ext cx="809640" cy="250920"/>
          </a:xfrm>
          <a:custGeom>
            <a:avLst/>
            <a:gdLst/>
            <a:ahLst/>
            <a:rect l="l" t="t" r="r" b="b"/>
            <a:pathLst>
              <a:path w="809625" h="250825">
                <a:moveTo>
                  <a:pt x="0" y="250825"/>
                </a:moveTo>
                <a:lnTo>
                  <a:pt x="0" y="141089"/>
                </a:lnTo>
                <a:cubicBezTo>
                  <a:pt x="0" y="80483"/>
                  <a:pt x="49130" y="31353"/>
                  <a:pt x="109736" y="31353"/>
                </a:cubicBezTo>
                <a:lnTo>
                  <a:pt x="746919" y="31353"/>
                </a:lnTo>
                <a:lnTo>
                  <a:pt x="746919" y="0"/>
                </a:lnTo>
                <a:lnTo>
                  <a:pt x="809625" y="62706"/>
                </a:lnTo>
                <a:lnTo>
                  <a:pt x="746919" y="125413"/>
                </a:lnTo>
                <a:lnTo>
                  <a:pt x="746919" y="94059"/>
                </a:lnTo>
                <a:lnTo>
                  <a:pt x="109736" y="94059"/>
                </a:lnTo>
                <a:cubicBezTo>
                  <a:pt x="83762" y="94059"/>
                  <a:pt x="62706" y="115115"/>
                  <a:pt x="62706" y="141089"/>
                </a:cubicBezTo>
                <a:lnTo>
                  <a:pt x="62706" y="250825"/>
                </a:lnTo>
                <a:lnTo>
                  <a:pt x="0" y="25082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c9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401400"/>
            <a:ext cx="8856720" cy="4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«Дорожная карта» в сфере здравоохранения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Прямоугольник 1"/>
          <p:cNvGrpSpPr/>
          <p:nvPr/>
        </p:nvGrpSpPr>
        <p:grpSpPr>
          <a:xfrm>
            <a:off x="-23760" y="749160"/>
            <a:ext cx="9191520" cy="1768680"/>
            <a:chOff x="-23760" y="749160"/>
            <a:chExt cx="9191520" cy="1768680"/>
          </a:xfrm>
        </p:grpSpPr>
        <p:pic>
          <p:nvPicPr>
            <p:cNvPr id="86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-23760" y="749160"/>
              <a:ext cx="919152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777240"/>
              <a:ext cx="9144000" cy="17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ОБ УТВЕРЖДЕНИИ ПЛАНА МЕРОПРИЯТИЙ («ДОРОЖНОЙ КАРТЫ»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«ИЗМЕНЕНИЯ В ОТРАСЛЯХ СОЦИАЛЬНОЙ СФЕРЫ, НАПРАВЛЕННЫЕ НА ПОВЫШЕНИЕ ЭФФЕКТИВНОСТИ ЗДРАВООХРАНЕНИЯ В СВЕРДЛОВСКОЙ ОБЛАСТИ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700" spc="-1" strike="noStrike">
                  <a:solidFill>
                    <a:srgbClr val="ff0000"/>
                  </a:solidFill>
                  <a:latin typeface="Arial"/>
                </a:rPr>
                <a:t>(постановление Правительства Свердловской области от 26.02.2013 № 225-ПП</a:t>
              </a:r>
              <a:r>
                <a:rPr b="0" lang="ru-RU" sz="17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Прямоугольник 2"/>
          <p:cNvGrpSpPr/>
          <p:nvPr/>
        </p:nvGrpSpPr>
        <p:grpSpPr>
          <a:xfrm>
            <a:off x="-60480" y="4857840"/>
            <a:ext cx="9228240" cy="1500120"/>
            <a:chOff x="-60480" y="4857840"/>
            <a:chExt cx="9228240" cy="1500120"/>
          </a:xfrm>
        </p:grpSpPr>
        <p:pic>
          <p:nvPicPr>
            <p:cNvPr id="89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-60480" y="4857840"/>
              <a:ext cx="922824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-36360" y="4882680"/>
              <a:ext cx="9180360" cy="14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О ВНЕСЕНИИ ИЗМЕНЕНИЙ В ПОСТАНОВЛЕНИЕ ПРАВИТЕЛЬСТВА СВЕРДЛОВСКОЙ ОБЛАСТИ ОТ 26.02.2013 N 225-ПП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700" spc="-1" strike="noStrike">
                  <a:solidFill>
                    <a:srgbClr val="ff0000"/>
                  </a:solidFill>
                  <a:latin typeface="Arial"/>
                </a:rPr>
                <a:t>(постановление Правительства Свердловской области от 20.05.2014 № 426-ПП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1" name="Прямая со стрелкой 5"/>
          <p:cNvCxnSpPr/>
          <p:nvPr/>
        </p:nvCxnSpPr>
        <p:spPr>
          <a:xfrm>
            <a:off x="4554000" y="2493720"/>
            <a:ext cx="18360" cy="2375280"/>
          </a:xfrm>
          <a:prstGeom prst="straightConnector1">
            <a:avLst/>
          </a:prstGeom>
          <a:ln w="380880">
            <a:solidFill>
              <a:srgbClr val="ceceef"/>
            </a:solidFill>
            <a:miter/>
            <a:tailEnd len="med" type="triangle" w="med"/>
          </a:ln>
        </p:spPr>
      </p:cxnSp>
      <p:sp>
        <p:nvSpPr>
          <p:cNvPr id="92" name="TextBox 8"/>
          <p:cNvSpPr/>
          <p:nvPr/>
        </p:nvSpPr>
        <p:spPr>
          <a:xfrm>
            <a:off x="743400" y="2722680"/>
            <a:ext cx="7593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just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показателей увеличено 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6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адры, эффективн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енно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ия показателей приведены в соответствие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ой программой «Развитие здравоохранения РФ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счет уровней зарплаты включены медицинские работн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х отраслей и ведомств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https://encrypted-tbn2.gstatic.com/images?q=tbn:ANd9GcTm77XZXLSmRxyAyMFMI4BT6m3h7xeWgWMcYOhE0XgPBbWxmkEV">
            <a:hlinkClick r:id="rId1"/>
          </p:cNvPr>
          <p:cNvPicPr/>
          <p:nvPr/>
        </p:nvPicPr>
        <p:blipFill>
          <a:blip r:embed="rId2"/>
          <a:srcRect l="19021" t="0" r="18554" b="6134"/>
          <a:stretch/>
        </p:blipFill>
        <p:spPr>
          <a:xfrm>
            <a:off x="250920" y="554040"/>
            <a:ext cx="1685880" cy="1689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s://encrypted-tbn2.gstatic.com/images?q=tbn:ANd9GcRSuHmwVM5IIK96mPXF__aBwCkBgQL7_KMPbZoujYuzuvj_Ma1MF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49960" y="554040"/>
            <a:ext cx="1719360" cy="166536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2087640" y="569880"/>
            <a:ext cx="496872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ГЛАШЕНИЕ от 02.06.2014 № 13/61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Министерством здравоохранения РФ и Правительством Свердлов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 обеспечении обязательного достижения в 2014-2018 годах целевых показателей (нормативов) оптимизации сети медицинских организаций государственной и муниципальной систем здравоохранения, определенных планом мероприятий («дорожной картой») «Изменения в отраслях социальной сферы, направленные на повышение эффективности здравоохране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3665520"/>
          <a:ext cx="9144000" cy="3149640"/>
        </p:xfrm>
        <a:graphic>
          <a:graphicData uri="http://schemas.openxmlformats.org/drawingml/2006/table">
            <a:tbl>
              <a:tblPr/>
              <a:tblGrid>
                <a:gridCol w="4140360"/>
                <a:gridCol w="1008000"/>
                <a:gridCol w="936360"/>
                <a:gridCol w="935280"/>
                <a:gridCol w="1081080"/>
                <a:gridCol w="1042920"/>
              </a:tblGrid>
              <a:tr h="360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казатель Соглаш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ртность населения от всех причин,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1000 насел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дней работы койки в году,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 длительность лечения в стационар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средств от реорганизации для повышения зарплаты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рубл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7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1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5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5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ность врачами,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10 тыс.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Заголовок 1"/>
          <p:cNvSpPr/>
          <p:nvPr/>
        </p:nvSpPr>
        <p:spPr>
          <a:xfrm>
            <a:off x="396720" y="338040"/>
            <a:ext cx="8320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Сравнение установленных показателей эффективности в «старой» и «новой» дорожных карт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1407960"/>
          <a:ext cx="9144000" cy="1143000"/>
        </p:xfrm>
        <a:graphic>
          <a:graphicData uri="http://schemas.openxmlformats.org/drawingml/2006/table">
            <a:tbl>
              <a:tblPr/>
              <a:tblGrid>
                <a:gridCol w="3203640"/>
                <a:gridCol w="1224000"/>
                <a:gridCol w="1224000"/>
                <a:gridCol w="1224000"/>
                <a:gridCol w="1152360"/>
                <a:gridCol w="1116000"/>
              </a:tblGrid>
              <a:tr h="38124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койки,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й в г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тарая» Д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8088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овая» Д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680" y="2562120"/>
          <a:ext cx="9144000" cy="1143000"/>
        </p:xfrm>
        <a:graphic>
          <a:graphicData uri="http://schemas.openxmlformats.org/drawingml/2006/table">
            <a:tbl>
              <a:tblPr/>
              <a:tblGrid>
                <a:gridCol w="3203640"/>
                <a:gridCol w="1224000"/>
                <a:gridCol w="1224000"/>
                <a:gridCol w="1224000"/>
                <a:gridCol w="1152360"/>
                <a:gridCol w="1116000"/>
              </a:tblGrid>
              <a:tr h="38124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 длительность лечения,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тарая» Д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овая» Д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1160" y="3713040"/>
          <a:ext cx="9144000" cy="1163880"/>
        </p:xfrm>
        <a:graphic>
          <a:graphicData uri="http://schemas.openxmlformats.org/drawingml/2006/table">
            <a:tbl>
              <a:tblPr/>
              <a:tblGrid>
                <a:gridCol w="3203640"/>
                <a:gridCol w="1224000"/>
                <a:gridCol w="1223640"/>
                <a:gridCol w="1224000"/>
                <a:gridCol w="1152720"/>
                <a:gridCol w="1116000"/>
              </a:tblGrid>
              <a:tr h="38124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е число коек,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тарая» Д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 26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962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86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7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 6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4017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овая» Д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1 1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58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28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16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8 85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0" y="4881600"/>
          <a:ext cx="9144000" cy="1163520"/>
        </p:xfrm>
        <a:graphic>
          <a:graphicData uri="http://schemas.openxmlformats.org/drawingml/2006/table">
            <a:tbl>
              <a:tblPr/>
              <a:tblGrid>
                <a:gridCol w="3203640"/>
                <a:gridCol w="1224000"/>
                <a:gridCol w="1224000"/>
                <a:gridCol w="1224000"/>
                <a:gridCol w="1152360"/>
                <a:gridCol w="1116000"/>
              </a:tblGrid>
              <a:tr h="3808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я врачей первичного звена в общем числе врачей,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тарая» Д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9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,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401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овая» Д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4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8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Изменения в "дорожной карте" Свердловской области в части 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платы тру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Объект 3" descr=""/>
          <p:cNvPicPr/>
          <p:nvPr/>
        </p:nvPicPr>
        <p:blipFill>
          <a:blip r:embed="rId1"/>
          <a:stretch/>
        </p:blipFill>
        <p:spPr>
          <a:xfrm>
            <a:off x="549360" y="1262160"/>
            <a:ext cx="8259840" cy="4541760"/>
          </a:xfrm>
          <a:prstGeom prst="rect">
            <a:avLst/>
          </a:prstGeom>
          <a:ln w="0">
            <a:noFill/>
          </a:ln>
        </p:spPr>
      </p:pic>
      <p:grpSp>
        <p:nvGrpSpPr>
          <p:cNvPr id="104" name="Группа 4"/>
          <p:cNvGrpSpPr/>
          <p:nvPr/>
        </p:nvGrpSpPr>
        <p:grpSpPr>
          <a:xfrm>
            <a:off x="826920" y="3573360"/>
            <a:ext cx="6409080" cy="2281320"/>
            <a:chOff x="826920" y="3573360"/>
            <a:chExt cx="6409080" cy="2281320"/>
          </a:xfrm>
        </p:grpSpPr>
        <p:sp>
          <p:nvSpPr>
            <p:cNvPr id="105" name="Прямоугольник 5"/>
            <p:cNvSpPr/>
            <p:nvPr/>
          </p:nvSpPr>
          <p:spPr>
            <a:xfrm>
              <a:off x="3736800" y="3789000"/>
              <a:ext cx="3499200" cy="20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Прямоугольник 6"/>
            <p:cNvSpPr/>
            <p:nvPr/>
          </p:nvSpPr>
          <p:spPr>
            <a:xfrm>
              <a:off x="826920" y="3573360"/>
              <a:ext cx="3499200" cy="20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 lvl="1" marL="305280" indent="-305280">
                <a:lnSpc>
                  <a:spcPct val="90000"/>
                </a:lnSpc>
                <a:spcAft>
                  <a:spcPts val="374"/>
                </a:spcAft>
                <a:buSzPct val="102792"/>
                <a:buBlip>
                  <a:blip r:embed="rId2"/>
                </a:buBlip>
                <a:tabLst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 Light"/>
                </a:rPr>
                <a:t>Включены все отрасли социальной сф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05280" indent="-305280">
                <a:lnSpc>
                  <a:spcPct val="90000"/>
                </a:lnSpc>
                <a:spcAft>
                  <a:spcPts val="374"/>
                </a:spcAft>
                <a:buSzPct val="102792"/>
                <a:buBlip>
                  <a:blip r:embed="rId3"/>
                </a:buBlip>
                <a:tabLst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 Light"/>
                </a:rPr>
                <a:t>В заработной плате врачей не учитываются главные врачи и замести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05280" indent="-305280">
                <a:lnSpc>
                  <a:spcPct val="90000"/>
                </a:lnSpc>
                <a:spcAft>
                  <a:spcPts val="374"/>
                </a:spcAft>
                <a:buSzPct val="102792"/>
                <a:buBlip>
                  <a:blip r:embed="rId4"/>
                </a:buBlip>
                <a:tabLst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 Light"/>
                </a:rPr>
                <a:t>Введен показатель объема средств по оптимиз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Группа 7"/>
          <p:cNvGrpSpPr/>
          <p:nvPr/>
        </p:nvGrpSpPr>
        <p:grpSpPr>
          <a:xfrm>
            <a:off x="4859280" y="3595680"/>
            <a:ext cx="3376800" cy="1792440"/>
            <a:chOff x="4859280" y="3595680"/>
            <a:chExt cx="3376800" cy="1792440"/>
          </a:xfrm>
        </p:grpSpPr>
        <p:sp>
          <p:nvSpPr>
            <p:cNvPr id="108" name="Прямоугольник 8"/>
            <p:cNvSpPr/>
            <p:nvPr/>
          </p:nvSpPr>
          <p:spPr>
            <a:xfrm>
              <a:off x="4859280" y="3595680"/>
              <a:ext cx="3376800" cy="17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Прямоугольник 9"/>
            <p:cNvSpPr/>
            <p:nvPr/>
          </p:nvSpPr>
          <p:spPr>
            <a:xfrm>
              <a:off x="4859280" y="3595680"/>
              <a:ext cx="3376800" cy="17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1000"/>
            </a:bodyPr>
            <a:p>
              <a:pPr lvl="1" marL="312120" indent="-312120">
                <a:lnSpc>
                  <a:spcPct val="90000"/>
                </a:lnSpc>
                <a:spcAft>
                  <a:spcPts val="374"/>
                </a:spcAft>
                <a:buSzPct val="102792"/>
                <a:buBlip>
                  <a:blip r:embed="rId5"/>
                </a:buBlip>
                <a:tabLst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 Light"/>
                </a:rPr>
                <a:t>Числен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12120" indent="-312120">
                <a:lnSpc>
                  <a:spcPct val="90000"/>
                </a:lnSpc>
                <a:spcAft>
                  <a:spcPts val="374"/>
                </a:spcAft>
                <a:buSzPct val="102792"/>
                <a:buBlip>
                  <a:blip r:embed="rId6"/>
                </a:buBlip>
                <a:tabLst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 Light"/>
                </a:rPr>
                <a:t>Соотношения средней зарплаты по здравоохранению и экономик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12120" indent="-312120">
                <a:lnSpc>
                  <a:spcPct val="90000"/>
                </a:lnSpc>
                <a:spcAft>
                  <a:spcPts val="374"/>
                </a:spcAft>
                <a:buSzPct val="102792"/>
                <a:buBlip>
                  <a:blip r:embed="rId7"/>
                </a:buBlip>
                <a:tabLst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 Light"/>
                </a:rPr>
                <a:t>Средняя заработная пла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Динамика численности </a:t>
            </a:r>
            <a:br>
              <a:rPr sz="2200"/>
            </a:b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младшего медицинского персон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Объект 3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296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Arial"/>
              </a:rPr>
              <a:t>Соотношение средней заработной платы медицинских работников и средней заработной платы по эконом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8000" y="1797120"/>
          <a:ext cx="8928000" cy="4368600"/>
        </p:xfrm>
        <a:graphic>
          <a:graphicData uri="http://schemas.openxmlformats.org/drawingml/2006/table">
            <a:tbl>
              <a:tblPr/>
              <a:tblGrid>
                <a:gridCol w="1666800"/>
                <a:gridCol w="1036800"/>
                <a:gridCol w="1038240"/>
                <a:gridCol w="1036440"/>
                <a:gridCol w="1038240"/>
                <a:gridCol w="1036800"/>
                <a:gridCol w="1038240"/>
                <a:gridCol w="1036440"/>
              </a:tblGrid>
              <a:tr h="430200">
                <a:tc>
                  <a:txBody>
                    <a:bodyPr lIns="9360" rIns="9360" tIns="126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b0f57"/>
                          </a:solidFill>
                          <a:latin typeface="Arial"/>
                        </a:rPr>
                        <a:t>201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b0f57"/>
                          </a:solidFill>
                          <a:latin typeface="Arial"/>
                        </a:rPr>
                        <a:t>201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b0f57"/>
                          </a:solidFill>
                          <a:latin typeface="Arial"/>
                        </a:rPr>
                        <a:t>201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b0f57"/>
                          </a:solidFill>
                          <a:latin typeface="Arial"/>
                        </a:rPr>
                        <a:t>201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b0f57"/>
                          </a:solidFill>
                          <a:latin typeface="Arial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b0f57"/>
                          </a:solidFill>
                          <a:latin typeface="Arial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b0f57"/>
                          </a:solidFill>
                          <a:latin typeface="Arial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0200">
                <a:tc gridSpan="8"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9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врачи и ины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360" rIns="9360" tIns="126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ая Д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0200">
                <a:tc>
                  <a:txBody>
                    <a:bodyPr lIns="9360" rIns="9360" tIns="126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ая Д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,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0200">
                <a:tc gridSpan="8"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9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средний персона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360" rIns="9360" tIns="126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ая Д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0200">
                <a:tc>
                  <a:txBody>
                    <a:bodyPr lIns="9360" rIns="9360" tIns="126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ая Д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6800">
                <a:tc gridSpan="8"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9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ладший персонал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360" rIns="9360" tIns="126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ая Д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0200">
                <a:tc>
                  <a:txBody>
                    <a:bodyPr lIns="9360" rIns="9360" tIns="126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ая Д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126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cp:lastPrinted>2014-07-29T11:16:02Z</cp:lastPrinted>
  <dcterms:modified xsi:type="dcterms:W3CDTF">2014-08-20T09:25:51Z</dcterms:modified>
  <cp:revision>1133</cp:revision>
  <dc:subject/>
  <dc:title>Diapositiva 1</dc:title>
</cp:coreProperties>
</file>