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943-4EEB-49D0-9D7C-D3A39140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727-3922-44A8-B99F-B608CCAB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7A2-0F59-4690-B529-F1A62815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AEB-A592-4BB9-B44C-A0B56050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F44D-F128-46FE-970F-1DA4459D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B5C0-6FBB-4529-BE32-1AAC2C01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F6A6-4767-4EC7-99AF-399A1834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2DB2-6FD0-4A2C-BE8D-7171EB3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14D0-1B78-4F25-B839-5C597CE3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FEB-7DFE-44D0-9A20-62DFB6A9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E496-A870-4DA2-955B-3B75BDB5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5EC-9973-40B2-A1B8-2FB6DF97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B242-F50E-404E-BB8A-AF1F1722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D875-3EB6-4DB4-B4E9-F35EFFD1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6FA-4BF9-4BC4-B7F1-AB8474D1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8F14-C03D-4294-8F50-DB89F7DA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51BD-70CE-4469-B443-244F1BAC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869-3B8A-4441-942F-C205E469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2F5-7259-43CC-93EF-327513E9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8CA-E751-48F2-80D6-EE7C5F3E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826-7C30-4B5B-96DB-6371FFA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79D4-C925-4549-AB4A-7E65114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E1D-D2D3-4F97-ADD7-43B10452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009-1B24-49CB-A06B-BA75ACD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120-AABD-41E2-9742-FF0BF93D969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AC89-2F1A-4CCB-A51A-0EF9E669DDC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ФП 00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2268360" y="404640"/>
            <a:ext cx="67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ГБУЗ СО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Артинская ЦРБ»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6940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оказатели доступности и качества ГБУЗ СО «Артинская ЦРБ» в динамике за 2013 и 2014 г.г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484280"/>
          <a:ext cx="8415360" cy="5243400"/>
        </p:xfrm>
        <a:graphic>
          <a:graphicData uri="http://schemas.openxmlformats.org/drawingml/2006/table">
            <a:tbl>
              <a:tblPr/>
              <a:tblGrid>
                <a:gridCol w="473040"/>
                <a:gridCol w="2125440"/>
                <a:gridCol w="1616040"/>
                <a:gridCol w="1454400"/>
                <a:gridCol w="1292040"/>
                <a:gridCol w="1454400"/>
              </a:tblGrid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тое значение за 201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ое значение на 2014 год по итогам работы 7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снижения, увеличения 2014 год к 2013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ость населения медицинской помощ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ов от числа опрош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ность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 на 1000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ность населения в трудоспособном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 на 1000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ность населения от болезней системы крово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 на 1000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ность населения от новообразований (в том числе от злокачественн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 на 1000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нская смер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100 тыс.родившихся живи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7900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оказатели доступности и качества ГБУЗ СО «Артинская ЦРБ» в динамике за 2013 и 2014 г.г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1700280"/>
          <a:ext cx="8415360" cy="4954680"/>
        </p:xfrm>
        <a:graphic>
          <a:graphicData uri="http://schemas.openxmlformats.org/drawingml/2006/table">
            <a:tbl>
              <a:tblPr/>
              <a:tblGrid>
                <a:gridCol w="473040"/>
                <a:gridCol w="2125800"/>
                <a:gridCol w="1616040"/>
                <a:gridCol w="1454040"/>
                <a:gridCol w="1292400"/>
                <a:gridCol w="1454040"/>
              </a:tblGrid>
              <a:tr h="12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остигнутое значение за 201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овое значение на 2014 год по итогам работы 7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% снижения, увеличения 2014 год к 2013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личество обоснованных жал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жал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беспеченность населения врача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человек на 10 тыс.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9,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реднегодовая занятость кой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ней в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редние сроки пребывания пациента на кой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н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оля посещений с профилактической целью к общему количеству посещений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роц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8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9722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инамика заработной платы в разрезе категорий персонала и показателей эффективности деятельности работников на примере терапевтического отделения за 2012, 2013 и 2014 годы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484280"/>
          <a:ext cx="8055000" cy="5435640"/>
        </p:xfrm>
        <a:graphic>
          <a:graphicData uri="http://schemas.openxmlformats.org/drawingml/2006/table">
            <a:tbl>
              <a:tblPr/>
              <a:tblGrid>
                <a:gridCol w="498600"/>
                <a:gridCol w="1662120"/>
                <a:gridCol w="792000"/>
                <a:gridCol w="943200"/>
                <a:gridCol w="1047600"/>
                <a:gridCol w="1047960"/>
                <a:gridCol w="993600"/>
                <a:gridCol w="1069920"/>
              </a:tblGrid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казател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диница изме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4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% снижения, увеличения 2013 год к 2012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% снижения, увеличения 2014 год к 2013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реднемесячная ЗП врач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 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 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9 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реднемесячная ЗП среднего медицинского персон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 0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 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реднемесячная ЗП младшего медицинского персон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 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 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 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ечный фон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личество госпитал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оспитал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5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личество койко-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йко-д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 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9 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лительность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ойко-д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абота 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ней в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борот 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оспит.в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Больничная лета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3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ФП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03280" y="33300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84692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Меры по совершенствованию системы оплаты труда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 в государственном бюджетном учреждении здравоохранения Свердловской области «Артинская центральная районная больница»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1 января 2014 года в ГБУЗ СО «Артинская ЦРБ» внедрены эффективные контракты, для чего были проведены следующие мероприятия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создана рабочая группа для разработки показателей эффективности и в дальнейшем для оценки выполнения данных показателе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разработаны и утверждены приказом главного врача ГБУЗ СО «Артинская ЦРБ» показатели и критерии оценки эффективности деятельности работников ГБУЗ СО «Артинская ЦРБ» в разрезе всех врачебных специальностей, специальностей среднего медицинского персонала, а также младшего медицинского и прочего персонал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роведены разъяснительные беседы с работниками  в связи  с введением эффективных контрактов и за два месяца до введения эффективных контрактов выданы письменные уведомл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внесены изменения в «Положение о премировании работников ГБУЗ СО «Артинская ЦРБ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8176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инамика заработной платы врачей ГБУЗ СО «Артинская ЦРБ» за 2012 г., 2013 г. и 7 месяцев 2014 г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413000"/>
          <a:ext cx="8424720" cy="4103640"/>
        </p:xfrm>
        <a:graphic>
          <a:graphicData uri="http://schemas.openxmlformats.org/drawingml/2006/table">
            <a:tbl>
              <a:tblPr/>
              <a:tblGrid>
                <a:gridCol w="2292480"/>
                <a:gridCol w="1233360"/>
                <a:gridCol w="1155600"/>
                <a:gridCol w="1150920"/>
                <a:gridCol w="1297080"/>
                <a:gridCol w="1295280"/>
              </a:tblGrid>
              <a:tr h="18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З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го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меся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3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2012 год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4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2013 год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83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58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03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П  (максимальн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 721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079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 529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П  (минимальн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46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715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375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инамика заработной платы врачей ГБУЗ СО «Артинская ЦРБ» за 2012 г., 2013 г. и 7 месяцев 2014 г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43588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821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инамика заработной платы среднего медицинского персонала ГБУЗ СО «Артинская ЦРБ» за 2012 г., 2013 г. и 7 месяцев 2014 г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2239920"/>
                <a:gridCol w="1082880"/>
                <a:gridCol w="1152360"/>
                <a:gridCol w="1152360"/>
                <a:gridCol w="1295640"/>
                <a:gridCol w="1306440"/>
              </a:tblGrid>
              <a:tr h="14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З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го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меся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3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2012 год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4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2013 год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7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97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15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П  (максимальн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757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601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127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П  (минимальн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337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080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376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инамика заработной платы среднего медицинского персонала ГБУЗ СО «Артинская ЦРБ» за 2012 г., 2013 г. и 7 месяцев 2014 г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57200" y="1862280"/>
            <a:ext cx="8507520" cy="38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7821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инамика заработной платы младшего медицинского персонала ГБУЗ СО «Артинская ЦРБ» за 2012 г., 2013 г. и 7 месяцев 2014 г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2079720"/>
                <a:gridCol w="1171440"/>
                <a:gridCol w="1224000"/>
                <a:gridCol w="1152360"/>
                <a:gridCol w="1295640"/>
                <a:gridCol w="1306440"/>
              </a:tblGrid>
              <a:tr h="14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З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го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го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меся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год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3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2012 год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14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2013 год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881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0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П  (максимальн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524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94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711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ЗП  (минимальн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56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24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6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инамика заработной платы младшего медицинского персонала ГБУЗ СО «Артинская ЦРБ» за 2012 г., 2013 г. и 7 месяцев 2014 г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182600" y="2371680"/>
            <a:ext cx="77724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2T10:08:24Z</dcterms:created>
  <dc:creator>Лена</dc:creator>
  <dc:description/>
  <dc:language>en-US</dc:language>
  <cp:lastModifiedBy>a</cp:lastModifiedBy>
  <dcterms:modified xsi:type="dcterms:W3CDTF">2014-08-19T11:48:49Z</dcterms:modified>
  <cp:revision>5</cp:revision>
  <dc:subject/>
  <dc:title>Меры по совершенствованию системы оплаты труда в государственном бюджетном учреждении здравоохранения Свердловской области «Артинская центральная районная больница» </dc:title>
</cp:coreProperties>
</file>