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7FF8-A2C9-4496-A893-F081FFAB9E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1177-9378-4ECF-9C14-5FCCFAC0084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428A-B718-4359-B25F-7DCA32EC8F1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AC16-3D54-4DB9-860F-2D3B11C2F04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A081-64C0-4317-82BF-C7A18A74AEB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936D-DEB5-4C8A-A304-830CE705AE1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C368-950C-406F-B62B-A50406B0A2C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E695-0FE9-44DF-9A07-66021F14AC9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5020-005E-455B-8A9B-F5BE91451D1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7B8F-A6E9-4BE7-B0CA-7CE46C5035B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679A-2E1A-4640-9E26-4AEE66464EB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3743-46D6-44EA-96C7-D5F5E64C310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97D9-CCF6-46A6-A3F6-69CD13411E6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AA8A-CE85-48C7-A36F-24036956222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6267-EA0F-4888-8415-1FEFDC22556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A705-AEC3-4EDF-B5D4-6E6EFC05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4513-7744-4F59-B6FD-FF6F6961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03B3-D1CB-4175-950E-32C9424A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61F3-656A-48AC-B898-1E497CA1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6656E-46B4-4AC3-A329-DC4B7333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0A8F3-69D6-4F85-BAC9-14784EA3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2EFDA-F4F8-49A5-9D7D-B37CAE44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CF627-4607-439F-8BBE-7ADB22D7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D49E8-6CC4-4B17-8A67-54C9347A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C89C6-146D-493B-BDD9-7F97F8F2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80A8A-8467-41F0-853F-C58DB247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C070-399B-4F80-B22A-E70BDA68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802EC-BC76-4F7C-A9F5-BFBE55BD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2FA69-710E-4578-AB9B-00A14520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2AE3A-C76A-4A12-A0DF-C78CD106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8F767-78EA-405A-9FCB-AB882E19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67286-3E81-4982-A3F2-5B7FF494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2330-A207-42A6-A52F-4A3E45DB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657C-9DB0-443E-B154-7E81C8EA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7286-D58D-4615-A99D-21D587B8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F1D8-C4B0-46E9-96BC-EFBDCE8E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43A6-A346-4C96-B700-1EEF88E6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C690-D656-4685-B228-18EA35D9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55C8-8C0C-4D04-820B-F1160375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D8C8-CF23-46AE-B0A0-FEFF147EDB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C4B4-BEE7-49B2-820F-E1D096E5E0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8229600" cy="229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О мероприятиях по достижению индикаторных показателей смертности населения от онкологических заболев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43430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ячеслав Брониславович Шаман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лавный врач Государственного бюджетного учреждения здравоохранения Свердловской области «Свердловского областного онкологического диспансер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дготовлен проект приказа о внесении изменений в приказ Министерства здравоохранения Свердловской области от 06.08.2013 № 1005-п         «Об организации проведения химиотерапевтического лечения больных онкогематологическими заболеваниям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роведение и</a:t>
            </a:r>
            <a:r>
              <a:rPr b="0" lang="vi-VN" sz="2800" spc="-1" strike="noStrike">
                <a:solidFill>
                  <a:srgbClr val="ffffff"/>
                </a:solidFill>
                <a:latin typeface="Tahoma"/>
              </a:rPr>
              <a:t>ммуногистохими́чес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х</a:t>
            </a:r>
            <a:r>
              <a:rPr b="0" lang="vi-VN" sz="2800" spc="-1" strike="noStrike">
                <a:solidFill>
                  <a:srgbClr val="ffffff"/>
                </a:solidFill>
                <a:latin typeface="Tahoma"/>
              </a:rPr>
              <a:t> иссле́дован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й организовано на базе </a:t>
            </a:r>
            <a:r>
              <a:rPr b="0" lang="vi-V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БУЗ СО «Свердловское областное патологоанатомическое бюро», ГБУЗ СО «Институт медицинских клеточных технологий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51920" y="14475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ференции, семинары по повышению уровня онкологических знаний для врачей-хирургов и акушеров-гинекологов (в 2014 г.- проведено 3 конференции), акушерок смотровых кабинет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в 2014 г. - 1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леконференции по вопросам ранней диагностики злокачественных новообразований (2014  г. - 34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седания Областной Противораковой комисс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в 2014 году проведено 5 заседаний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33520" y="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ЕРОПРИЯТИЯ ПО СНИЖЕНИЮ СМЕРТНОСТИ ОТ ОНКОЛОГИЧЕСКИХ ЗАБОЛЕВ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жеквартальный мониториинг выявления злокачественных новообразований на ранних стадия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рация специалистами онкологических диспансеров медицинских учреждения Свердловской области ( 67 муниципальных образований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жеквартальный анализ смертности от злокачественных новообразова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рабатывается проект методических рекомендаций по расчету показателей статистического учета и алгоритмам установления патологоанатомических диагнозов при злокачественных новообразованиях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я единой информационной системы в здравоохране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ирокий охват профилактическими обследованиями населения области с целью своевременного выявления больных с ЗН и предопухолевыми заболевания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недрение современных скрининговых програм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ее эффективное использование возможностей инструментальных и лабораторных исследований(эндоскопические, маммографические исследования)при проведении профосмотр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ч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сткий контроль онкологической службы за выполнениями мероприятий по раннему выявлению  ЗН и анализу причин поздней диагности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ирование приверженности населения к здоровому образу жизни, повышения доступности сведений о профилактике и выявлению ЗН (в том числе с привлечением средств массовой информации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3520" y="2514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ЛАГОДАРЮ ЗА ВНИМ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24000" y="141120"/>
            <a:ext cx="83628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ертность от злокачественных новообразова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2013 – 223 на 100 тыс. нас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3" name="Диаграмма 10"/>
          <p:cNvGraphicFramePr/>
          <p:nvPr/>
        </p:nvGraphicFramePr>
        <p:xfrm>
          <a:off x="184320" y="914400"/>
          <a:ext cx="8959680" cy="222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Диаграмма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914400"/>
                    <a:ext cx="8959680" cy="22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4"/>
          <p:cNvGraphicFramePr/>
          <p:nvPr/>
        </p:nvGraphicFramePr>
        <p:xfrm>
          <a:off x="-609480" y="3962520"/>
          <a:ext cx="7315200" cy="4635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609480" y="3962520"/>
                    <a:ext cx="731520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Rectangle 8"/>
          <p:cNvSpPr/>
          <p:nvPr/>
        </p:nvSpPr>
        <p:spPr>
          <a:xfrm>
            <a:off x="6400800" y="3429000"/>
            <a:ext cx="2743200" cy="287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5-летняя выживаемост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2007 –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54,1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2008 –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55,3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2009 –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55,3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2010 –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55,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2011 –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55,6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2012 –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52,6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2013 –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ffff"/>
                </a:solidFill>
                <a:latin typeface="Arial"/>
              </a:rPr>
              <a:t>54,5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105160" y="228240"/>
            <a:ext cx="3733560" cy="34290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ля выявленных ЗН с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-I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тади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изуальных локализаци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007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2,9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008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5,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009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8,2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010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70,6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011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75,4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012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74,4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013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75,9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304920" y="228600"/>
            <a:ext cx="327636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Доля выявленных З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с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-II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стадией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2007 – 44,7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2008 – 45,4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2009 – 49,6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2010 – 51,7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2011 – 53,2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2012 – 55,2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2013 – 54,7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380880" y="3718080"/>
            <a:ext cx="8458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-II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стадии злокачественных новообразова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а 6 месяцев 2014 г. – 55,6% (54,7% - 2013 г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-II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стадии злокачественных новообразований визуальных локализаций за 6 месяцев 2014 г. – 79,7% (75,9% - 2013 г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мертность  от злокачественных новообразован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а 6 месяцев 2014 г. – 225,2 на 100 тыс. населе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222,0 – 2013 г.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Ухудшились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показатели в муниципальных образованиях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О г. Алапаевск, МО Алапаевское, ГО Верхняя-Пышма, г. Каменск-Уральский, ГО Нижняя Салда, Новолялинский 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Улучшились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казатели в муниципальных образованиях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ртинский ГО, Белоярский ГО, Ирбит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. Нижний Тагил, Первоуральский ГО, Нижнесергинский муниципальный рай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5080" y="188640"/>
            <a:ext cx="858996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СТРУКТУРА МЕДИЦИНСКОЙ ПОМОЩИ ОНКОЛОГИЧЕСКИМ БОЛЬНЫМ 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СВЕРДЛОВСКОЙ ОБЛАСТ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1680" y="1218960"/>
            <a:ext cx="90489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Специализированная онкологическа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помощь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Квалифицированная онкологическа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               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помощ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179280" y="1914480"/>
            <a:ext cx="1944720" cy="5526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Narrow"/>
                <a:ea typeface="Times New Roman"/>
              </a:rPr>
              <a:t>Онкологические диспансе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627280" y="1914480"/>
            <a:ext cx="3382920" cy="5526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Narrow"/>
                <a:ea typeface="Times New Roman"/>
              </a:rPr>
              <a:t>Медицинские центры и клини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6156360" y="1989000"/>
            <a:ext cx="1704960" cy="5479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Narrow"/>
                <a:ea typeface="Times New Roman"/>
              </a:rPr>
              <a:t>Амбулаторна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7680240" y="2638440"/>
            <a:ext cx="1463760" cy="5475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Narrow"/>
                <a:ea typeface="Times New Roman"/>
              </a:rPr>
              <a:t>Онкол.отд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Narrow"/>
                <a:ea typeface="Times New Roman"/>
              </a:rPr>
              <a:t>ЛП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0" y="4075200"/>
            <a:ext cx="2438280" cy="79380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-Тагильский ОД №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стационар-220 кое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0" y="5083200"/>
            <a:ext cx="2378160" cy="79380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-Уральский ОД №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стационар-140 кое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2841480" y="2563920"/>
            <a:ext cx="1098720" cy="5778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БУЗ СО «ОКБ №1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4356000" y="2638440"/>
            <a:ext cx="1025640" cy="5731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БУЗ СО «ОДКБ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AutoShape 12"/>
          <p:cNvSpPr/>
          <p:nvPr/>
        </p:nvSpPr>
        <p:spPr>
          <a:xfrm>
            <a:off x="4282920" y="3571920"/>
            <a:ext cx="1432080" cy="5778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КБ-7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. Екатеринбург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13"/>
          <p:cNvSpPr/>
          <p:nvPr/>
        </p:nvSpPr>
        <p:spPr>
          <a:xfrm>
            <a:off x="2841480" y="3571920"/>
            <a:ext cx="1098720" cy="647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МАУ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ГКБ-4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14"/>
          <p:cNvSpPr/>
          <p:nvPr/>
        </p:nvSpPr>
        <p:spPr>
          <a:xfrm>
            <a:off x="6012000" y="2708280"/>
            <a:ext cx="1153800" cy="10825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Первичные онкологические кабине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AutoShape 15"/>
          <p:cNvSpPr/>
          <p:nvPr/>
        </p:nvSpPr>
        <p:spPr>
          <a:xfrm>
            <a:off x="7523280" y="4654440"/>
            <a:ext cx="1620720" cy="6476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Онкологическое отд. ГБ г. Сер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16"/>
          <p:cNvSpPr/>
          <p:nvPr/>
        </p:nvSpPr>
        <p:spPr>
          <a:xfrm>
            <a:off x="7391520" y="3571920"/>
            <a:ext cx="1752480" cy="8668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Онкологическое отд. ГБ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г. Краснотурьинс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AutoShape 17"/>
          <p:cNvSpPr/>
          <p:nvPr/>
        </p:nvSpPr>
        <p:spPr>
          <a:xfrm>
            <a:off x="0" y="2852640"/>
            <a:ext cx="2484360" cy="8636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ГБУЗ СО «СООД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Стационар - 625 к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бласти 99 первичных онкологических кабине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49 из них работают врачи-онколог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36 – врачи других специальностей (хирурги, терапевты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комплектованность врачами-онкологами составляет 43,1 процент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4 смотровых кабине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казатель активного выявления злокачественных новообразований в 2013году составил 27,9 процент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в 2012 году – 19,5 процент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0" lang="ru-RU" sz="4100" spc="-1" strike="noStrike">
                <a:solidFill>
                  <a:srgbClr val="6600ff"/>
                </a:solidFill>
                <a:latin typeface="Tahoma"/>
              </a:rPr>
              <a:t>	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3" descr="53169be8-ce4b-0f1d-ce4b-0f1280daf64a"/>
          <p:cNvPicPr/>
          <p:nvPr/>
        </p:nvPicPr>
        <p:blipFill>
          <a:blip r:embed="rId1"/>
          <a:stretch/>
        </p:blipFill>
        <p:spPr>
          <a:xfrm>
            <a:off x="468360" y="622440"/>
            <a:ext cx="4351320" cy="3265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4800600" y="1752480"/>
            <a:ext cx="449568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В Свердловской области функционируют отделения паллиативной помощи Свердловского областного онкологического диспансера (п. Верх-Нейвинск); в Центральной городской больнице города Кушва; Байкаловской ЦРБ; Городской больнице № 5 города Каменск-Уральский</a:t>
            </a:r>
            <a:r>
              <a:rPr b="0" lang="ru-RU" sz="2500" spc="-1" strike="noStrike">
                <a:solidFill>
                  <a:srgbClr val="6600ff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280" y="4868640"/>
            <a:ext cx="883944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абилитация пациентов с онкологическими заболеваниями после проведения специализированного лечения организована на базе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АМУ СО «Центр восстановительного лечения и медицинской реабилитации «Санаторий Руш»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.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 сентября 2013 г. и  за 6 месяцев 2014г. прошли курс реабилитации 132 паци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3" descr="894770666"/>
          <p:cNvPicPr/>
          <p:nvPr/>
        </p:nvPicPr>
        <p:blipFill>
          <a:blip r:embed="rId1"/>
          <a:stretch/>
        </p:blipFill>
        <p:spPr>
          <a:xfrm>
            <a:off x="1547640" y="333360"/>
            <a:ext cx="588996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cp:lastPrinted>2014-08-18T11:07:52Z</cp:lastPrinted>
  <dcterms:modified xsi:type="dcterms:W3CDTF">2014-08-20T09:27:36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