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6.wmf" ContentType="image/x-wmf"/>
  <Override PartName="/ppt/media/image11.wmf" ContentType="image/x-wmf"/>
  <Override PartName="/ppt/media/image36.png" ContentType="image/png"/>
  <Override PartName="/ppt/media/image31.jpeg" ContentType="image/jpeg"/>
  <Override PartName="/ppt/media/image10.wmf" ContentType="image/x-wmf"/>
  <Override PartName="/ppt/media/image25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B0272-EBD0-4B12-8B76-8D1A179A26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3629A-F6CB-45B9-B363-5333D4FBA3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D2B47-8D57-43E3-803E-076CAEC9902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1CF6A-DE82-41A0-8E91-1BE93122C0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E794-535E-4363-8299-76B7C1C5F7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A79CD-30AA-4AC6-AD00-59FB9FF16A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32933-70E5-4065-ACFE-A821C05F40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ED0D-8719-4645-97DF-16E33E7B1A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84546-6F54-4523-BAA2-621F341E48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7D380-09B5-4BD7-A0A3-B2277A1C5F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B4677-4630-4584-AEFD-171A34935C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42480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64C5D-B8DA-4C0E-88D0-E57332DC81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8100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4E4E1-BDF6-405D-B218-8A14263A98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0B910-F38F-4B0A-9F40-37FC61D3D9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549360" y="395280"/>
            <a:ext cx="5486400" cy="411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20640" y="4572000"/>
            <a:ext cx="590544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C4429-FC3F-4EA5-8760-350F9A2CE1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F4095-0AF2-45BF-8BFA-AF6C9EC115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02A8-D586-46EC-A255-1A23256384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8F790-DD03-4BEB-BAC0-9C45EACC1A6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6D8E-F855-407D-BE52-473A01B3EA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0F566-513C-41C0-9F70-CA28D9236C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94179-8F1E-4FB6-BD29-A7E8FF12A47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546F4-6826-43A5-8894-30CD0930C7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710D8-3871-486B-90C3-7B517A3F8B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E1C09-6077-48AB-9B51-105D0A72ADC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13178-8BC7-4062-BAB2-6B7969EB32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89A06-02DE-49B1-8685-CC6F503489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E2003-CC06-421C-A9C0-318F0CF02FB4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13A4C-988E-418B-954B-24C4E127BE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7FD0-FF7F-4A0A-B4C6-18C0297198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CA2CE-8F0E-4F88-BCCB-AEC3996CD7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D0678-3AFF-4268-9F3C-D7385D2EA6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CBC4B-53E2-4F64-9524-7BCF4A2F8DE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21F66-87C4-471C-86EB-637DAB62C5A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0400" y="67140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40541-C302-40C8-8DF2-886B5A91C9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18619-5C83-4627-9BEB-25D940FC30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AD764-D7D2-4D39-B035-3B7EA3F941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E907-DA8B-476F-B5E0-A4DC1B2010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C67BF-F86A-42E4-AF83-7C591CCE6F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60360" y="-2476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3048120"/>
            <a:ext cx="5479920" cy="60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7DF67-3FD8-4A6A-B074-26DAC0A4EC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AC7C8-23B2-4AA9-89F5-300AB10C18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3471-B907-4774-9A90-2C032E0618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AC818-BB9E-409E-BBE7-B20EB2B74F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6DA32-4D12-4439-B2EB-8A777651E1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8F3D-30B2-4F57-B007-14669E0ABC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901D1-6F82-4871-869A-6ABD2622FB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EBAC4-000E-42B9-BB1C-39FFB23E4C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EC2FC-E599-4AB8-A2C7-66798D25DE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6B637-886B-4CB9-86E6-513DD72254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A6864-76E6-41C6-AD1A-6989288C84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7755B-112D-4493-8BD9-E01ECEB34DF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DBE32-9C96-4E00-907D-3B18D721F0B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BCF86-2F43-41FA-99E5-117C341653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7280" y="720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0740-6A82-46E5-9BA4-FA2742BD4F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3C9E5-D6C8-4D9C-B09F-FB8444A4A1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618D-7A0C-4181-9DF3-81F875A429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D7DA6-AA72-476B-BC5B-A1B93C87044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749D4-F785-464B-AD6F-8CF2D5187C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DD31D-8B08-4452-BFF3-D8F67E5F64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1ADB6-E834-4ECC-AB88-A871FD95B09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792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76529-914F-4831-9702-BA7CE0DDC1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5558E-9B02-4DD2-81B6-18A97E3A13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BEA6F-FBBE-476B-B4D3-5382F3459F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CBC3-F2B1-423A-A7E1-7437FA504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C2E8-AD3F-470A-9CBE-39DF199F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44D7-EEE7-4322-8FB4-8F3D5FF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7DB1-00B5-4F90-9387-4985F02A1C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CFC2-EE49-4182-80D4-5F40DAD4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57A9-DB76-45DC-A795-04563C3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94A2-AEA0-4E2A-B718-389A8B4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E8C7-2E75-4882-8167-8C967CCF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1774-F1FE-4169-9B85-25AE58DC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FECC-C6FD-48C9-B156-4CCA10D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6AF1-8E19-4827-ABBB-09DFF9F2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16E3-77CF-438A-8F0E-27F9CA3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08.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BA8A-F6D7-45E3-AD41-211889458A2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685800" y="714240"/>
            <a:ext cx="77724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 результатах деятельности противотуберкулезной службы Свердловской области по снижению показателей заболеваемости и смертности от туберкулё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042920" y="4149720"/>
            <a:ext cx="72723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.И. Цветков, к.м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лавный врач ГБУЗ СО «ПТД», главный внештатный специалист фтизиатр Свердловской 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24FAB-D6EF-4290-9B85-A6E967CB8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971640" y="333360"/>
            <a:ext cx="7543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инамика смертности населения от туберкулеза и отдаленных его последствий  в 2009-2014 годах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100 тысяч населения (по данным Госкомста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0" y="1655640"/>
          <a:ext cx="899964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55640"/>
                    <a:ext cx="89996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ертность от туберкулёз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 управленческим округам Свердловской обла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0" y="1343160"/>
          <a:ext cx="891216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3160"/>
                    <a:ext cx="89121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457200" y="-12600"/>
            <a:ext cx="86868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ртность от туберкулёз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6 мес. 2014 года на 100 тыс. насе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умерших от туберкулё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-396720" y="1052640"/>
          <a:ext cx="6769080" cy="55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052640"/>
                    <a:ext cx="676908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3635280" y="1268280"/>
          <a:ext cx="6222960" cy="573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268280"/>
                    <a:ext cx="622296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-181080" y="115920"/>
            <a:ext cx="4932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умерших по диагноз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я от умерших, % 6мес. 201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-336600" y="977760"/>
          <a:ext cx="9804600" cy="598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6600" y="977760"/>
                    <a:ext cx="980460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"/>
          <p:cNvGraphicFramePr/>
          <p:nvPr/>
        </p:nvGraphicFramePr>
        <p:xfrm>
          <a:off x="4432320" y="838080"/>
          <a:ext cx="8559720" cy="603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2320" y="838080"/>
                    <a:ext cx="85597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4"/>
          <p:cNvSpPr/>
          <p:nvPr/>
        </p:nvSpPr>
        <p:spPr>
          <a:xfrm>
            <a:off x="4356000" y="209520"/>
            <a:ext cx="4932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rmAutofit fontScale="92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умерших по отношению к оказанию медицинской помощ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я от умерших,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ля больных туберкулёзом, выявленных посмертно,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44360" y="12463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-93960"/>
            <a:ext cx="82281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больных туберкулёзом, выявленных посмертно, %, 6 мес. 201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9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"/>
          <p:cNvSpPr/>
          <p:nvPr/>
        </p:nvSpPr>
        <p:spPr>
          <a:xfrm>
            <a:off x="1258920" y="981000"/>
            <a:ext cx="67230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Министерство здравоохранения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1249200" y="3932280"/>
            <a:ext cx="67168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БАЗА ДАННЫХ ГБУЗ СО «ПТД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652920" y="3021120"/>
            <a:ext cx="193968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МИАЦ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6362640" y="2951280"/>
            <a:ext cx="1835280" cy="73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Федеральная служба государственной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статисти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057320" y="3013200"/>
            <a:ext cx="1690560" cy="61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ГУЗ СО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«ОЦ СПИД и ИЗ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77720" y="44280"/>
            <a:ext cx="82090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Arial"/>
              </a:rPr>
              <a:t>Алгоритм мониторинга смертности от туберкулеза среди населения 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258920" y="1700280"/>
            <a:ext cx="6723000" cy="47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Федеральный центр мониторинга противодействия распространению туберкулеза в РФ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070000" y="5445000"/>
            <a:ext cx="2054160" cy="37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ЦВКК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4572000" y="1405080"/>
            <a:ext cx="1440" cy="272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4610160" y="2739600"/>
            <a:ext cx="1440" cy="2732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4619520" y="3629160"/>
            <a:ext cx="1800" cy="3110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4611600" y="4270320"/>
            <a:ext cx="1800" cy="362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 flipV="1">
            <a:off x="7245360" y="4262040"/>
            <a:ext cx="1440" cy="36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1922400" y="4270320"/>
            <a:ext cx="1800" cy="362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 flipV="1">
            <a:off x="5972040" y="4263840"/>
            <a:ext cx="25560" cy="17636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 flipV="1">
            <a:off x="3301920" y="5811480"/>
            <a:ext cx="1800" cy="190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 flipV="1">
            <a:off x="2884320" y="5822640"/>
            <a:ext cx="1800" cy="19188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 flipV="1">
            <a:off x="3889440" y="5182920"/>
            <a:ext cx="1440" cy="253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2378160" y="5191200"/>
            <a:ext cx="1440" cy="255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V="1">
            <a:off x="1936800" y="3630600"/>
            <a:ext cx="1440" cy="31104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7246800" y="3684600"/>
            <a:ext cx="1800" cy="255600"/>
          </a:xfrm>
          <a:prstGeom prst="line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2743200" y="3324240"/>
            <a:ext cx="9129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H="1">
            <a:off x="5570280" y="3328920"/>
            <a:ext cx="7938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 flipV="1">
            <a:off x="5967360" y="5335560"/>
            <a:ext cx="1290600" cy="682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265400" y="6021360"/>
            <a:ext cx="672300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Информация из областных противотуберкулезных диспансеров и тубкабинетов муниципальных учреждений здравоохранени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3705120" y="4524480"/>
            <a:ext cx="1962360" cy="67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Ввод извещений ф.089/у из ГУФСИН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6380280" y="4511520"/>
            <a:ext cx="1834920" cy="81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Ввод информационных карт (на умерших от туберкулез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1112760" y="4516560"/>
            <a:ext cx="1709640" cy="67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Ввод извещений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ф. 089/у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2627280" y="2414520"/>
            <a:ext cx="3903840" cy="3668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e7ff"/>
              </a:gs>
              <a:gs pos="100000">
                <a:srgbClr val="cc99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Министерство здравоохранения Свердловской облас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 flipV="1">
            <a:off x="4572000" y="2125800"/>
            <a:ext cx="1440" cy="272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47640" y="142920"/>
            <a:ext cx="8425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хват профилактическими осмотрами в Свердловской области в 2009-2013гг. и 6 мес. 2014 г. , 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-108000" y="971640"/>
            <a:ext cx="92743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хват профосмотрами населения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% к годовому плану, 6 мес. 2013-2014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82440" y="1832040"/>
            <a:ext cx="9729720" cy="45054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"/>
          <p:cNvSpPr/>
          <p:nvPr/>
        </p:nvSpPr>
        <p:spPr>
          <a:xfrm>
            <a:off x="7308720" y="2637000"/>
            <a:ext cx="183528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DD590-C024-4FBE-B5C9-372973844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95280" y="26028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болеваемость населения туберкулезом в Свердлов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 2009-2013гг. и 6 мес. 2014 г.  (на 100 тысяч населе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257480" y="571680"/>
          <a:ext cx="7327800" cy="281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571680"/>
                    <a:ext cx="73278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4"/>
          <p:cNvGraphicFramePr/>
          <p:nvPr/>
        </p:nvGraphicFramePr>
        <p:xfrm>
          <a:off x="2122560" y="4152960"/>
          <a:ext cx="610560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2560" y="4152960"/>
                    <a:ext cx="6105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5"/>
          <p:cNvSpPr/>
          <p:nvPr/>
        </p:nvSpPr>
        <p:spPr>
          <a:xfrm>
            <a:off x="468360" y="3500280"/>
            <a:ext cx="842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спространенность туберкулеза в Свердловской област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 2009-2013гг. (на 100 тысяч населе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-144360" y="0"/>
            <a:ext cx="9288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ват флюорографическими осмотрами населения,%  6 мес. 201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95966-2902-4369-B257-C60D1CF09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921440" cy="4171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95280" y="115920"/>
            <a:ext cx="87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63640" y="36036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воевременности и качества выявления туберкулёз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-34920" y="93672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169920" y="-61920"/>
            <a:ext cx="8686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больных туберкулёзом, выявленных при профосмотрах, 6 мес. 201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440" y="91296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-144360" y="0"/>
            <a:ext cx="9288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олеваемость фиброзно-кавернозным туберкулёз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100 тыс. нас., 6 месяцев 2014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539640" y="-2052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действий медицинского работника, осуществляющего амбулаторное контролируемое лечение больных туберкуле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0" y="86364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843280" y="1125360"/>
            <a:ext cx="2952720" cy="50328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й работн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14200" y="1643040"/>
            <a:ext cx="2413080" cy="79236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раз в 2 месяц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уча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БП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012000" y="1628640"/>
            <a:ext cx="2736720" cy="79236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пациен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ольше нед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843280" y="1844640"/>
            <a:ext cx="2952720" cy="79236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рует ежедне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ем АБП пациен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763640" y="2852640"/>
            <a:ext cx="5040360" cy="79236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мечает принятые дозы  АБП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тибактериальной карт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ли в форме № 01-ТБ/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835280" y="3860640"/>
            <a:ext cx="4968720" cy="79236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не явке пациента на лечение, выходит на д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пациенту для выдачи суточной дозы АБ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763640" y="4869000"/>
            <a:ext cx="4969080" cy="72072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рекомендации фтизиатра направля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ациента на контрольное обслед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900000" y="5805360"/>
            <a:ext cx="7993080" cy="720720"/>
          </a:xfrm>
          <a:prstGeom prst="rect">
            <a:avLst/>
          </a:pr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ковый (районный) фтизиа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4284720" y="3429000"/>
            <a:ext cx="1440" cy="1440"/>
          </a:xfrm>
          <a:prstGeom prst="line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AutoShape 12"/>
          <p:cNvCxnSpPr>
            <a:stCxn id="160" idx="0"/>
            <a:endCxn id="160" idx="0"/>
          </p:cNvCxnSpPr>
          <p:nvPr/>
        </p:nvCxnSpPr>
        <p:spPr>
          <a:xfrm>
            <a:off x="4572000" y="863640"/>
            <a:ext cx="2160" cy="2160"/>
          </a:xfrm>
          <a:prstGeom prst="straightConnector1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71" name="AutoShape 13"/>
          <p:cNvCxnSpPr>
            <a:stCxn id="160" idx="1"/>
          </p:cNvCxnSpPr>
          <p:nvPr/>
        </p:nvCxnSpPr>
        <p:spPr>
          <a:xfrm>
            <a:off x="0" y="3765240"/>
            <a:ext cx="2160" cy="3960"/>
          </a:xfrm>
          <a:prstGeom prst="straightConnector1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72" name="AutoShape 14"/>
          <p:cNvCxnSpPr>
            <a:stCxn id="160" idx="0"/>
            <a:endCxn id="160" idx="0"/>
          </p:cNvCxnSpPr>
          <p:nvPr/>
        </p:nvCxnSpPr>
        <p:spPr>
          <a:xfrm>
            <a:off x="4572000" y="863640"/>
            <a:ext cx="2160" cy="2160"/>
          </a:xfrm>
          <a:prstGeom prst="straightConnector1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73" name="AutoShape 15"/>
          <p:cNvCxnSpPr>
            <a:stCxn id="160" idx="1"/>
            <a:endCxn id="160" idx="1"/>
          </p:cNvCxnSpPr>
          <p:nvPr/>
        </p:nvCxnSpPr>
        <p:spPr>
          <a:xfrm>
            <a:off x="0" y="3765600"/>
            <a:ext cx="2160" cy="2160"/>
          </a:xfrm>
          <a:prstGeom prst="straightConnector1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74" name="AutoShape 16"/>
          <p:cNvCxnSpPr>
            <a:stCxn id="160" idx="1"/>
            <a:endCxn id="160" idx="1"/>
          </p:cNvCxnSpPr>
          <p:nvPr/>
        </p:nvCxnSpPr>
        <p:spPr>
          <a:xfrm>
            <a:off x="0" y="3765600"/>
            <a:ext cx="2160" cy="2160"/>
          </a:xfrm>
          <a:prstGeom prst="straightConnector1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175" name="Line 17"/>
          <p:cNvSpPr/>
          <p:nvPr/>
        </p:nvSpPr>
        <p:spPr>
          <a:xfrm flipV="1">
            <a:off x="4284720" y="4356000"/>
            <a:ext cx="1440" cy="90720"/>
          </a:xfrm>
          <a:prstGeom prst="line">
            <a:avLst/>
          </a:prstGeom>
          <a:ln cap="sq"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4067280" y="1628640"/>
            <a:ext cx="504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dfad2"/>
          </a:soli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995640" y="3645000"/>
            <a:ext cx="576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dfad2"/>
          </a:soli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0"/>
          <p:cNvSpPr/>
          <p:nvPr/>
        </p:nvSpPr>
        <p:spPr>
          <a:xfrm flipH="1">
            <a:off x="4067280" y="4653000"/>
            <a:ext cx="433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dfad2"/>
          </a:soli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4067280" y="2637000"/>
            <a:ext cx="504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dfad2"/>
          </a:soli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7164360" y="2421000"/>
            <a:ext cx="863640" cy="3384360"/>
          </a:xfrm>
          <a:prstGeom prst="downArrow">
            <a:avLst>
              <a:gd name="adj1" fmla="val 49685"/>
              <a:gd name="adj2" fmla="val 123693"/>
            </a:avLst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23"/>
          <p:cNvSpPr/>
          <p:nvPr/>
        </p:nvSpPr>
        <p:spPr>
          <a:xfrm>
            <a:off x="3995640" y="5589720"/>
            <a:ext cx="505080" cy="215640"/>
          </a:xfrm>
          <a:prstGeom prst="downArrow">
            <a:avLst>
              <a:gd name="adj1" fmla="val 50000"/>
              <a:gd name="adj2" fmla="val 26639"/>
            </a:avLst>
          </a:prstGeom>
          <a:solidFill>
            <a:srgbClr val="edfad2"/>
          </a:solidFill>
          <a:ln cap="sq"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5786280" y="1214280"/>
            <a:ext cx="928800" cy="428760"/>
          </a:xfrm>
          <a:custGeom>
            <a:avLst/>
            <a:gdLst>
              <a:gd name="textAreaLeft" fmla="*/ 191880 w 928800"/>
              <a:gd name="textAreaRight" fmla="*/ 683280 w 9288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1" hR="21600" stAng="10800000" swAng="5400000"/>
                <a:lnTo>
                  <a:pt x="11424" y="0"/>
                </a:lnTo>
                <a:arcTo wR="8931" hR="21600" stAng="-5400000" swAng="3480914"/>
                <a:lnTo>
                  <a:pt x="21316" y="16200"/>
                </a:lnTo>
                <a:lnTo>
                  <a:pt x="19108" y="21600"/>
                </a:lnTo>
                <a:lnTo>
                  <a:pt x="16331" y="16200"/>
                </a:lnTo>
                <a:lnTo>
                  <a:pt x="17577" y="16200"/>
                </a:lnTo>
                <a:arcTo wR="8931" hR="21600" stAng="-1919086" swAng="-3280792"/>
                <a:lnTo>
                  <a:pt x="10177" y="211"/>
                </a:lnTo>
                <a:arcTo wR="8931" hR="21600" stAng="-5600121" swAng="-5199879"/>
                <a:close/>
              </a:path>
              <a:path fill="darkenLess" w="21600" h="21600">
                <a:moveTo>
                  <a:pt x="0" y="21600"/>
                </a:moveTo>
                <a:arcTo wR="8931" hR="21600" stAng="10800000" swAng="5400000"/>
                <a:lnTo>
                  <a:pt x="8931" y="0"/>
                </a:lnTo>
                <a:arcTo wR="8931" hR="21600" stAng="-5400000" swAng="200121"/>
                <a:lnTo>
                  <a:pt x="10177" y="211"/>
                </a:lnTo>
                <a:arcTo wR="8931" hR="21600" stAng="-5600121" swAng="-5199879"/>
                <a:close/>
              </a:path>
            </a:pathLst>
          </a:custGeom>
          <a:gradFill rotWithShape="0">
            <a:gsLst>
              <a:gs pos="0">
                <a:srgbClr val="ffd1db"/>
              </a:gs>
              <a:gs pos="100000">
                <a:srgbClr val="ffffff"/>
              </a:gs>
            </a:gsLst>
            <a:lin ang="5400000"/>
          </a:gradFill>
          <a:ln cap="sq"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5" descr=""/>
          <p:cNvPicPr/>
          <p:nvPr/>
        </p:nvPicPr>
        <p:blipFill>
          <a:blip r:embed="rId1"/>
          <a:stretch/>
        </p:blipFill>
        <p:spPr>
          <a:xfrm>
            <a:off x="1895400" y="1182600"/>
            <a:ext cx="976320" cy="487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6"/>
          <p:cNvSpPr/>
          <p:nvPr/>
        </p:nvSpPr>
        <p:spPr>
          <a:xfrm rot="16200000">
            <a:off x="6674040" y="32698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7"/>
          <p:cNvSpPr/>
          <p:nvPr/>
        </p:nvSpPr>
        <p:spPr>
          <a:xfrm rot="16200000">
            <a:off x="7071120" y="2656080"/>
            <a:ext cx="459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48774-6278-43CF-8051-C791EFDF7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237520" y="6453360"/>
            <a:ext cx="798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6AE9B-7A82-403C-BC51-795C6387A175}" type="slidenum">
              <a:rPr b="0" lang="ru-RU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1429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хват новорожденных вакцинацией БЦЖ в роддоме, Свердловская область, 2008-2013г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6480" y="1773360"/>
            <a:ext cx="8507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1"/>
          <p:cNvGraphicFramePr/>
          <p:nvPr/>
        </p:nvGraphicFramePr>
        <p:xfrm>
          <a:off x="58680" y="290520"/>
          <a:ext cx="9070920" cy="64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290520"/>
                    <a:ext cx="90709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78E50-16E0-4FAE-860D-1A3A8C12F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79280" y="277920"/>
            <a:ext cx="8785440" cy="6332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тизация противотуберкулезных учрежде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11 – 2014 г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79280" y="981000"/>
            <a:ext cx="8956800" cy="5869080"/>
            <a:chOff x="179280" y="981000"/>
            <a:chExt cx="8956800" cy="5869080"/>
          </a:xfrm>
        </p:grpSpPr>
        <p:sp>
          <p:nvSpPr>
            <p:cNvPr id="195" name="AutoShape 4"/>
            <p:cNvSpPr/>
            <p:nvPr/>
          </p:nvSpPr>
          <p:spPr>
            <a:xfrm>
              <a:off x="179280" y="981000"/>
              <a:ext cx="8956800" cy="5869080"/>
            </a:xfrm>
            <a:prstGeom prst="cloudCallout">
              <a:avLst>
                <a:gd name="adj1" fmla="val -43750"/>
                <a:gd name="adj2" fmla="val 73500"/>
              </a:avLst>
            </a:prstGeom>
            <a:solidFill>
              <a:srgbClr val="ffffcc"/>
            </a:solidFill>
            <a:ln cap="sq" w="22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 flipH="1" flipV="1">
              <a:off x="3147840" y="2922480"/>
              <a:ext cx="763920" cy="50328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6"/>
            <p:cNvSpPr/>
            <p:nvPr/>
          </p:nvSpPr>
          <p:spPr>
            <a:xfrm>
              <a:off x="1339920" y="1739880"/>
              <a:ext cx="212076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ониторинг качеств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тивотуб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омощи населени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 flipH="1">
              <a:off x="2522520" y="3917880"/>
              <a:ext cx="1077840" cy="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8"/>
            <p:cNvSpPr/>
            <p:nvPr/>
          </p:nvSpPr>
          <p:spPr>
            <a:xfrm>
              <a:off x="404640" y="3220920"/>
              <a:ext cx="212112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Лекарственны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енедж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9"/>
            <p:cNvSpPr/>
            <p:nvPr/>
          </p:nvSpPr>
          <p:spPr>
            <a:xfrm flipH="1">
              <a:off x="3147840" y="4408560"/>
              <a:ext cx="763920" cy="48744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1339920" y="4700520"/>
              <a:ext cx="212076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елеконсультирова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1"/>
            <p:cNvSpPr/>
            <p:nvPr/>
          </p:nvSpPr>
          <p:spPr>
            <a:xfrm>
              <a:off x="4660920" y="4611600"/>
              <a:ext cx="0" cy="69372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3598920" y="5313240"/>
              <a:ext cx="212076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ерсонализированный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учет осмотренных 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а туберкуле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>
              <a:off x="5411880" y="4408560"/>
              <a:ext cx="747720" cy="48744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5856120" y="4700520"/>
              <a:ext cx="212112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станционно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бучение персона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5"/>
            <p:cNvSpPr/>
            <p:nvPr/>
          </p:nvSpPr>
          <p:spPr>
            <a:xfrm>
              <a:off x="5721480" y="3917880"/>
              <a:ext cx="1062000" cy="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6791400" y="3220920"/>
              <a:ext cx="212076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ониторинг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есурс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 flipV="1">
              <a:off x="5411880" y="2922480"/>
              <a:ext cx="747720" cy="50328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5856120" y="1739880"/>
              <a:ext cx="212112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оордина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ежведомственны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заимодейств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9"/>
            <p:cNvSpPr/>
            <p:nvPr/>
          </p:nvSpPr>
          <p:spPr>
            <a:xfrm flipV="1">
              <a:off x="4660920" y="2512800"/>
              <a:ext cx="0" cy="709560"/>
            </a:xfrm>
            <a:prstGeom prst="line">
              <a:avLst/>
            </a:prstGeom>
            <a:ln cap="sq" w="41400">
              <a:solidFill>
                <a:srgbClr val="593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0"/>
            <p:cNvSpPr/>
            <p:nvPr/>
          </p:nvSpPr>
          <p:spPr>
            <a:xfrm>
              <a:off x="3598920" y="1127160"/>
              <a:ext cx="212076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Единый регист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учета и контрол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лечения больны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"/>
            <p:cNvSpPr/>
            <p:nvPr/>
          </p:nvSpPr>
          <p:spPr>
            <a:xfrm>
              <a:off x="3598920" y="3222720"/>
              <a:ext cx="2120760" cy="1387440"/>
            </a:xfrm>
            <a:prstGeom prst="ellipse">
              <a:avLst/>
            </a:prstGeom>
            <a:solidFill>
              <a:srgbClr val="ffe1ff"/>
            </a:solidFill>
            <a:ln cap="sq"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тегрированн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формационн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истема фтизиатрической 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лужбы обла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940000" y="907920"/>
            <a:ext cx="3124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ии с Распоряжением Правительства Российской Федерации от 28.12.2012 N 2599-р, Приказом Министерства здравоохран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сийской Федерации от 29.12.2012 N 1706 "Об утверждении методических рекомендаций по разработке органами исполнительной власти субъектов Российской Федерации планов мероприятий ("дорожных карт") "Изменения в отраслях социальной сферы, направленные на повышение эффективности здравоохранения в субъекте Российской Федерации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рриториях Свердловской области разрабатываются и внедряются Муниципальные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тиводействия распространению туберкулёза. На сегодняшний день приняты в 14 МО, в том чи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ровском и Североуральском ГО программы предусматривают оплату проезда к месту обследования и л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58816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758920" y="15480"/>
            <a:ext cx="3527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ые программ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тиводействия распространению туберкулё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5DD9-E329-4BE9-A176-36B3ADA38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50920" y="277920"/>
            <a:ext cx="8435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Число больничных коек круглосуточного стационара и мест стационара дневного пребывания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противотуберкулезной службы Свердловской област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395280" y="1197000"/>
          <a:ext cx="847728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772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44360" y="130320"/>
            <a:ext cx="914400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емость туберкулёзом 100 тыс .нас. , 6 мес. 2014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BB9D7-8412-4E74-91DF-D157AD562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0" y="18900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и потребность 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илизации коечного фонда фтизиатрической службы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71640" y="1125360"/>
          <a:ext cx="7321320" cy="5008680"/>
        </p:xfrm>
        <a:graphic>
          <a:graphicData uri="http://schemas.openxmlformats.org/drawingml/2006/table">
            <a:tbl>
              <a:tblPr/>
              <a:tblGrid>
                <a:gridCol w="3324240"/>
                <a:gridCol w="1717560"/>
                <a:gridCol w="2279520"/>
              </a:tblGrid>
              <a:tr h="797760">
                <a:tc>
                  <a:txBody>
                    <a:bodyPr lIns="90000" rIns="90000" tIns="231840" bIns="468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31840" bIns="468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ктически разверну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231840" bIns="468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ая потребность в койк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5240">
                <a:tc>
                  <a:txBody>
                    <a:bodyPr lIns="90000" rIns="90000" tIns="2307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лечения туберкулеза с поздними стадиями ВИЧ-инфе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2800">
                <a:tc>
                  <a:txBody>
                    <a:bodyPr lIns="90000" rIns="90000" tIns="2307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лечения больных с М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69120">
                <a:tc>
                  <a:txBody>
                    <a:bodyPr lIns="90000" rIns="90000" tIns="2307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деления длительного наблюдения за больными с хроническим течением туберкуле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2800">
                <a:tc>
                  <a:txBody>
                    <a:bodyPr lIns="90000" rIns="90000" tIns="2307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ференциальн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3160">
                <a:tc>
                  <a:txBody>
                    <a:bodyPr lIns="90000" rIns="90000" tIns="230760" bIns="46800" anchor="t">
                      <a:noAutofit/>
                    </a:bodyPr>
                    <a:p>
                      <a:pPr algn="just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лечения туберкулеза у де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8160">
                <a:tc>
                  <a:txBody>
                    <a:bodyPr lIns="90000" rIns="90000" tIns="23076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392400" bIns="46800" anchor="t">
                      <a:noAutofit/>
                    </a:bodyPr>
                    <a:p>
                      <a:pPr algn="ctr">
                        <a:lnSpc>
                          <a:spcPct val="5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очередь комплекса зданий ГБУЗ СО «ПТД» по пер. Кустовом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й площадью 22436 кв.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нтгенодиагностическое от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900000" y="1538280"/>
            <a:ext cx="7344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16000" y="27432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гиональна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ктериологической лаборат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6920" y="1550880"/>
            <a:ext cx="777240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очередь строи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1280" y="1341360"/>
            <a:ext cx="88934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395280" y="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12840" y="612720"/>
            <a:ext cx="8518320" cy="56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ершить систему реорганизации противотуберкулезной службы с учетом существующей материально-технической базы и перспектив ее приведения в соответствие с приказом Минздрава России от 15 ноября 2012 года № 932 «Об утверждении Порядка оказания медицинской помощи больным туберкулезом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величить выявляемость туберкулёза за счёт повышения охвата и качества профилактических осмотров ,особое внимание уделять группам высокого социального и медицинского рис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ершить реструктуризацию коечного фонда, развернуть дополнительные койки для пациентов с сочетанной патологией ВИЧ + Т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учшить этиологическую диагностику туберкулёза , создать региональную бактериологическую лабораторию референс - клас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сить квалификацию врачей учреждений первичной медико-санитарной помощи по вопросам раннего выявления туберкулёз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вместно с муниципальными образованиями разработать комплекс мер социальной поддержки больных туберкулёзом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сить эффективность лечения туберкулёза на амбулаторном этапе: в поликлиниках ОЛС, на ФАП и ОВ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96C8-5E98-49C1-A80F-94D9E5F76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35640" y="0"/>
            <a:ext cx="460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ельный вес больных сочетанной инфекцией (туберкулез+ВИЧ-инфекция)  среди активных  контингентов больных туберкулезом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абсолютных числах  и %, Свердловская область, 2013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4952880" y="1486080"/>
          <a:ext cx="374652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486080"/>
                    <a:ext cx="37465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4"/>
          <p:cNvGraphicFramePr/>
          <p:nvPr/>
        </p:nvGraphicFramePr>
        <p:xfrm>
          <a:off x="444600" y="1701720"/>
          <a:ext cx="4127400" cy="410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1701720"/>
                    <a:ext cx="412740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5"/>
          <p:cNvSpPr/>
          <p:nvPr/>
        </p:nvSpPr>
        <p:spPr>
          <a:xfrm>
            <a:off x="252360" y="96840"/>
            <a:ext cx="4033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больных с ВИЧ-инфекцией среди впервые выявленных больных туберкулезом в Свердловской области,   форма № 33 (%), 2013 год и 6 мес. 2014 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812000" y="3645000"/>
            <a:ext cx="6429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66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заболевших туберкулё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-177840" y="1500120"/>
          <a:ext cx="5829480" cy="531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1500120"/>
                    <a:ext cx="582948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4576680" y="1432080"/>
          <a:ext cx="6854760" cy="499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6680" y="1432080"/>
                    <a:ext cx="685476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E8FA-0055-4DEA-869A-143437FF3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042920" y="115920"/>
            <a:ext cx="763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Динамика заболеваемости туберкулезом среди детей в Свердловской области в 2009-2014 годах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(8 форма, на 100 тысяч населени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749160" y="1579680"/>
          <a:ext cx="7963200" cy="231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579680"/>
                    <a:ext cx="796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723960" y="4191120"/>
          <a:ext cx="793728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960" y="4191120"/>
                    <a:ext cx="79372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болеваемость туберкулёзом детей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-17 лет, 6 мес. 2013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457200" y="1743120"/>
          <a:ext cx="8267760" cy="42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43120"/>
                    <a:ext cx="826776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емость туберкулёзом детей на 100 тыс .нас. 0-14 лет, 6 мес.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емость туберкулёзом среди подростков 15-17 лет, 6 мес.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92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0:17:10Z</dcterms:created>
  <dc:creator>user35</dc:creator>
  <dc:description/>
  <dc:language>en-US</dc:language>
  <cp:lastModifiedBy>user</cp:lastModifiedBy>
  <cp:lastPrinted>2014-08-19T10:51:10Z</cp:lastPrinted>
  <dcterms:modified xsi:type="dcterms:W3CDTF">2014-08-20T09:31:11Z</dcterms:modified>
  <cp:revision>210</cp:revision>
  <dc:subject/>
  <dc:title>Слайд 1</dc:title>
</cp:coreProperties>
</file>