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6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13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9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4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8.jpeg" ContentType="image/jpeg"/>
  <Override PartName="/ppt/media/image11.png" ContentType="image/png"/>
  <Override PartName="/ppt/media/image17.jpeg" ContentType="image/jpeg"/>
  <Override PartName="/ppt/media/image14.png" ContentType="image/png"/>
  <Override PartName="/ppt/media/image16.png" ContentType="image/pn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10.png" ContentType="image/png"/>
  <Override PartName="/ppt/media/image6.jpeg" ContentType="image/jpeg"/>
  <Override PartName="/ppt/media/image13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</p:sldMasterIdLst>
  <p:notesMasterIdLst>
    <p:notesMasterId r:id="rId40"/>
  </p:notesMasterIdLst>
  <p:sldIdLst>
    <p:sldId id="256" r:id="rId41"/>
    <p:sldId id="257" r:id="rId42"/>
    <p:sldId id="258" r:id="rId43"/>
    <p:sldId id="259" r:id="rId44"/>
    <p:sldId id="260" r:id="rId45"/>
    <p:sldId id="261" r:id="rId46"/>
    <p:sldId id="262" r:id="rId47"/>
    <p:sldId id="263" r:id="rId48"/>
    <p:sldId id="264" r:id="rId49"/>
    <p:sldId id="265" r:id="rId50"/>
    <p:sldId id="266" r:id="rId51"/>
    <p:sldId id="267" r:id="rId52"/>
    <p:sldId id="268" r:id="rId53"/>
    <p:sldId id="269" r:id="rId54"/>
    <p:sldId id="270" r:id="rId55"/>
    <p:sldId id="271" r:id="rId56"/>
    <p:sldId id="272" r:id="rId57"/>
    <p:sldId id="273" r:id="rId58"/>
    <p:sldId id="274" r:id="rId59"/>
  </p:sldIdLst>
  <p:sldSz cx="9144000" cy="6858000"/>
  <p:notesSz cx="6865938" cy="9996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notesMaster" Target="notesMasters/notesMaster1.xml"/><Relationship Id="rId41" Type="http://schemas.openxmlformats.org/officeDocument/2006/relationships/slide" Target="slides/slide1.xml"/><Relationship Id="rId42" Type="http://schemas.openxmlformats.org/officeDocument/2006/relationships/slide" Target="slides/slide2.xml"/><Relationship Id="rId43" Type="http://schemas.openxmlformats.org/officeDocument/2006/relationships/slide" Target="slides/slide3.xml"/><Relationship Id="rId44" Type="http://schemas.openxmlformats.org/officeDocument/2006/relationships/slide" Target="slides/slide4.xml"/><Relationship Id="rId45" Type="http://schemas.openxmlformats.org/officeDocument/2006/relationships/slide" Target="slides/slide5.xml"/><Relationship Id="rId46" Type="http://schemas.openxmlformats.org/officeDocument/2006/relationships/slide" Target="slides/slide6.xml"/><Relationship Id="rId47" Type="http://schemas.openxmlformats.org/officeDocument/2006/relationships/slide" Target="slides/slide7.xml"/><Relationship Id="rId48" Type="http://schemas.openxmlformats.org/officeDocument/2006/relationships/slide" Target="slides/slide8.xml"/><Relationship Id="rId49" Type="http://schemas.openxmlformats.org/officeDocument/2006/relationships/slide" Target="slides/slide9.xml"/><Relationship Id="rId50" Type="http://schemas.openxmlformats.org/officeDocument/2006/relationships/slide" Target="slides/slide10.xml"/><Relationship Id="rId51" Type="http://schemas.openxmlformats.org/officeDocument/2006/relationships/slide" Target="slides/slide11.xml"/><Relationship Id="rId52" Type="http://schemas.openxmlformats.org/officeDocument/2006/relationships/slide" Target="slides/slide12.xml"/><Relationship Id="rId53" Type="http://schemas.openxmlformats.org/officeDocument/2006/relationships/slide" Target="slides/slide13.xml"/><Relationship Id="rId54" Type="http://schemas.openxmlformats.org/officeDocument/2006/relationships/slide" Target="slides/slide14.xml"/><Relationship Id="rId55" Type="http://schemas.openxmlformats.org/officeDocument/2006/relationships/slide" Target="slides/slide15.xml"/><Relationship Id="rId56" Type="http://schemas.openxmlformats.org/officeDocument/2006/relationships/slide" Target="slides/slide16.xml"/><Relationship Id="rId57" Type="http://schemas.openxmlformats.org/officeDocument/2006/relationships/slide" Target="slides/slide17.xml"/><Relationship Id="rId58" Type="http://schemas.openxmlformats.org/officeDocument/2006/relationships/slide" Target="slides/slide18.xml"/><Relationship Id="rId59" Type="http://schemas.openxmlformats.org/officeDocument/2006/relationships/slide" Target="slides/slide19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"/>
          <p:cNvSpPr/>
          <p:nvPr/>
        </p:nvSpPr>
        <p:spPr>
          <a:xfrm>
            <a:off x="0" y="0"/>
            <a:ext cx="6865200" cy="999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75040" cy="50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PlaceHolder 2"/>
          <p:cNvSpPr>
            <a:spLocks noGrp="1"/>
          </p:cNvSpPr>
          <p:nvPr>
            <p:ph type="dt" idx="115"/>
          </p:nvPr>
        </p:nvSpPr>
        <p:spPr>
          <a:xfrm>
            <a:off x="3887640" y="-360"/>
            <a:ext cx="2975040" cy="50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PlaceHolder 3"/>
          <p:cNvSpPr>
            <a:spLocks noGrp="1"/>
          </p:cNvSpPr>
          <p:nvPr>
            <p:ph type="sldImg"/>
          </p:nvPr>
        </p:nvSpPr>
        <p:spPr>
          <a:xfrm>
            <a:off x="932040" y="749160"/>
            <a:ext cx="5000400" cy="3749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2" name="PlaceHolder 4"/>
          <p:cNvSpPr>
            <a:spLocks noGrp="1"/>
          </p:cNvSpPr>
          <p:nvPr>
            <p:ph type="body"/>
          </p:nvPr>
        </p:nvSpPr>
        <p:spPr>
          <a:xfrm>
            <a:off x="685800" y="4748040"/>
            <a:ext cx="5492880" cy="449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3" name="PlaceHolder 5"/>
          <p:cNvSpPr>
            <a:spLocks noGrp="1"/>
          </p:cNvSpPr>
          <p:nvPr>
            <p:ph type="ftr" idx="116"/>
          </p:nvPr>
        </p:nvSpPr>
        <p:spPr>
          <a:xfrm>
            <a:off x="0" y="9494640"/>
            <a:ext cx="2975040" cy="50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PlaceHolder 6"/>
          <p:cNvSpPr>
            <a:spLocks noGrp="1"/>
          </p:cNvSpPr>
          <p:nvPr>
            <p:ph type="sldNum" idx="117"/>
          </p:nvPr>
        </p:nvSpPr>
        <p:spPr>
          <a:xfrm>
            <a:off x="3887640" y="9494640"/>
            <a:ext cx="2975040" cy="50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787E7-3CBC-4170-8CE9-C7E78D7ACA3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PlaceHolder 1"/>
          <p:cNvSpPr>
            <a:spLocks noGrp="1"/>
          </p:cNvSpPr>
          <p:nvPr>
            <p:ph type="sldImg"/>
          </p:nvPr>
        </p:nvSpPr>
        <p:spPr>
          <a:xfrm>
            <a:off x="932040" y="749160"/>
            <a:ext cx="5000400" cy="3749760"/>
          </a:xfrm>
          <a:prstGeom prst="rect">
            <a:avLst/>
          </a:prstGeom>
          <a:ln w="0">
            <a:noFill/>
          </a:ln>
        </p:spPr>
      </p:sp>
      <p:sp>
        <p:nvSpPr>
          <p:cNvPr id="1713" name="PlaceHolder 2"/>
          <p:cNvSpPr>
            <a:spLocks noGrp="1"/>
          </p:cNvSpPr>
          <p:nvPr>
            <p:ph type="body"/>
          </p:nvPr>
        </p:nvSpPr>
        <p:spPr>
          <a:xfrm>
            <a:off x="685800" y="4748040"/>
            <a:ext cx="5492880" cy="449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4" name="Дата 4"/>
          <p:cNvSpPr/>
          <p:nvPr/>
        </p:nvSpPr>
        <p:spPr>
          <a:xfrm>
            <a:off x="3887640" y="0"/>
            <a:ext cx="29750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PlaceHolder 1"/>
          <p:cNvSpPr>
            <a:spLocks noGrp="1"/>
          </p:cNvSpPr>
          <p:nvPr>
            <p:ph type="sldImg"/>
          </p:nvPr>
        </p:nvSpPr>
        <p:spPr>
          <a:xfrm>
            <a:off x="932040" y="749160"/>
            <a:ext cx="5000400" cy="3749760"/>
          </a:xfrm>
          <a:prstGeom prst="rect">
            <a:avLst/>
          </a:prstGeom>
          <a:ln w="0">
            <a:noFill/>
          </a:ln>
        </p:spPr>
      </p:sp>
      <p:sp>
        <p:nvSpPr>
          <p:cNvPr id="1728" name="PlaceHolder 2"/>
          <p:cNvSpPr>
            <a:spLocks noGrp="1"/>
          </p:cNvSpPr>
          <p:nvPr>
            <p:ph type="body"/>
          </p:nvPr>
        </p:nvSpPr>
        <p:spPr>
          <a:xfrm>
            <a:off x="685800" y="4748040"/>
            <a:ext cx="5492880" cy="449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амках тематической экспертизы, проведенной в соответствии с  приказом  ТФОМС Свердловской области от 16.09.2013 № 348 «О проведении тематической медико-экономической экспертизы и экспертизы качества медицинской помощи, в том числе повторной, случаев оказания медицинской помощи при остром инфаркте миокарда с использованием тромболизиса», проведена экспертиза 41 случая лечения пациентов в 7-ми медицинских организациях Свердловской области, предъявленных на оплату с нозологией острый инфаркт миокарда с проведением тромболизис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одом для данной тематической экспертизы послужили факты предъявления к оплате дорогостоящих случаев проведения тромболизиса у одного пациента на этапе скорой медицинской помощи и в условиях стациона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езультате тематической экспертизы выявлено, что во всех случаях тромболизис проведен на догоспитальном этапе бригадой скорой медицинской помощи, т.е. предъявление на оплату случаев оказания медицинской помощи в стационаре при остром инфаркте миокарда с использованием тромболизиса являлось необоснованным (приписка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ультаты проведенного контроля были доведены до сведения медицинских организаций с предъявлением соответствующих финансовых санкц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9" name="Номер слайда 3"/>
          <p:cNvSpPr/>
          <p:nvPr/>
        </p:nvSpPr>
        <p:spPr>
          <a:xfrm>
            <a:off x="3887640" y="9495000"/>
            <a:ext cx="29750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055AD-5A2C-409E-98E4-097CEF5C7C2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PlaceHolder 1"/>
          <p:cNvSpPr>
            <a:spLocks noGrp="1"/>
          </p:cNvSpPr>
          <p:nvPr>
            <p:ph type="sldImg"/>
          </p:nvPr>
        </p:nvSpPr>
        <p:spPr>
          <a:xfrm>
            <a:off x="932040" y="749160"/>
            <a:ext cx="5000400" cy="3749760"/>
          </a:xfrm>
          <a:prstGeom prst="rect">
            <a:avLst/>
          </a:prstGeom>
          <a:ln w="0">
            <a:noFill/>
          </a:ln>
        </p:spPr>
      </p:sp>
      <p:sp>
        <p:nvSpPr>
          <p:cNvPr id="1731" name="PlaceHolder 2"/>
          <p:cNvSpPr>
            <a:spLocks noGrp="1"/>
          </p:cNvSpPr>
          <p:nvPr>
            <p:ph type="body"/>
          </p:nvPr>
        </p:nvSpPr>
        <p:spPr>
          <a:xfrm>
            <a:off x="685800" y="4748040"/>
            <a:ext cx="5492880" cy="449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2" name="Номер слайда 3"/>
          <p:cNvSpPr/>
          <p:nvPr/>
        </p:nvSpPr>
        <p:spPr>
          <a:xfrm>
            <a:off x="3887640" y="9495000"/>
            <a:ext cx="29750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BD83A-7EE3-4454-9F27-EBD8858CBF9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3" name="PlaceHolder 1"/>
          <p:cNvSpPr>
            <a:spLocks noGrp="1"/>
          </p:cNvSpPr>
          <p:nvPr>
            <p:ph type="sldImg"/>
          </p:nvPr>
        </p:nvSpPr>
        <p:spPr>
          <a:xfrm>
            <a:off x="932040" y="749160"/>
            <a:ext cx="5000400" cy="3749760"/>
          </a:xfrm>
          <a:prstGeom prst="rect">
            <a:avLst/>
          </a:prstGeom>
          <a:ln w="0">
            <a:noFill/>
          </a:ln>
        </p:spPr>
      </p:sp>
      <p:sp>
        <p:nvSpPr>
          <p:cNvPr id="1734" name="PlaceHolder 2"/>
          <p:cNvSpPr>
            <a:spLocks noGrp="1"/>
          </p:cNvSpPr>
          <p:nvPr>
            <p:ph type="body"/>
          </p:nvPr>
        </p:nvSpPr>
        <p:spPr>
          <a:xfrm>
            <a:off x="685800" y="4748040"/>
            <a:ext cx="5492880" cy="449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5" name="Номер слайда 3"/>
          <p:cNvSpPr/>
          <p:nvPr/>
        </p:nvSpPr>
        <p:spPr>
          <a:xfrm>
            <a:off x="3887640" y="9495000"/>
            <a:ext cx="29750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7DA56-C0FF-484D-8EBC-80A04D41F3C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PlaceHolder 1"/>
          <p:cNvSpPr>
            <a:spLocks noGrp="1"/>
          </p:cNvSpPr>
          <p:nvPr>
            <p:ph type="sldImg"/>
          </p:nvPr>
        </p:nvSpPr>
        <p:spPr>
          <a:xfrm>
            <a:off x="932040" y="749160"/>
            <a:ext cx="5000400" cy="3749760"/>
          </a:xfrm>
          <a:prstGeom prst="rect">
            <a:avLst/>
          </a:prstGeom>
          <a:ln w="0">
            <a:noFill/>
          </a:ln>
        </p:spPr>
      </p:sp>
      <p:sp>
        <p:nvSpPr>
          <p:cNvPr id="1737" name="PlaceHolder 2"/>
          <p:cNvSpPr>
            <a:spLocks noGrp="1"/>
          </p:cNvSpPr>
          <p:nvPr>
            <p:ph type="body"/>
          </p:nvPr>
        </p:nvSpPr>
        <p:spPr>
          <a:xfrm>
            <a:off x="685800" y="4748040"/>
            <a:ext cx="5492880" cy="449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8" name="Дата 1"/>
          <p:cNvSpPr/>
          <p:nvPr/>
        </p:nvSpPr>
        <p:spPr>
          <a:xfrm>
            <a:off x="3887640" y="0"/>
            <a:ext cx="29750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PlaceHolder 1"/>
          <p:cNvSpPr>
            <a:spLocks noGrp="1"/>
          </p:cNvSpPr>
          <p:nvPr>
            <p:ph type="sldImg"/>
          </p:nvPr>
        </p:nvSpPr>
        <p:spPr>
          <a:xfrm>
            <a:off x="932040" y="749160"/>
            <a:ext cx="5000400" cy="3749760"/>
          </a:xfrm>
          <a:prstGeom prst="rect">
            <a:avLst/>
          </a:prstGeom>
          <a:ln w="0">
            <a:noFill/>
          </a:ln>
        </p:spPr>
      </p:sp>
      <p:sp>
        <p:nvSpPr>
          <p:cNvPr id="1740" name="PlaceHolder 2"/>
          <p:cNvSpPr>
            <a:spLocks noGrp="1"/>
          </p:cNvSpPr>
          <p:nvPr>
            <p:ph type="body"/>
          </p:nvPr>
        </p:nvSpPr>
        <p:spPr>
          <a:xfrm>
            <a:off x="685800" y="4748040"/>
            <a:ext cx="5492880" cy="449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 загрузки реестр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Плохие» -  на слайде приведены 5 медорганизаций из 38 с неудовлетворительными результатами загрузки реест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1" name="Номер слайда 3"/>
          <p:cNvSpPr/>
          <p:nvPr/>
        </p:nvSpPr>
        <p:spPr>
          <a:xfrm>
            <a:off x="3887640" y="9495000"/>
            <a:ext cx="29750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66912-6B18-4685-8961-774B332BDAD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2" name="PlaceHolder 1"/>
          <p:cNvSpPr>
            <a:spLocks noGrp="1"/>
          </p:cNvSpPr>
          <p:nvPr>
            <p:ph type="sldImg"/>
          </p:nvPr>
        </p:nvSpPr>
        <p:spPr>
          <a:xfrm>
            <a:off x="932040" y="749160"/>
            <a:ext cx="5000400" cy="3749760"/>
          </a:xfrm>
          <a:prstGeom prst="rect">
            <a:avLst/>
          </a:prstGeom>
          <a:ln w="0">
            <a:noFill/>
          </a:ln>
        </p:spPr>
      </p:sp>
      <p:sp>
        <p:nvSpPr>
          <p:cNvPr id="1743" name="PlaceHolder 2"/>
          <p:cNvSpPr>
            <a:spLocks noGrp="1"/>
          </p:cNvSpPr>
          <p:nvPr>
            <p:ph type="body"/>
          </p:nvPr>
        </p:nvSpPr>
        <p:spPr>
          <a:xfrm>
            <a:off x="685800" y="4748040"/>
            <a:ext cx="5492880" cy="449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4" name="Номер слайда 3"/>
          <p:cNvSpPr/>
          <p:nvPr/>
        </p:nvSpPr>
        <p:spPr>
          <a:xfrm>
            <a:off x="3887640" y="9495000"/>
            <a:ext cx="29750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9F165-F872-45D7-9031-34D5A2D37AB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PlaceHolder 1"/>
          <p:cNvSpPr>
            <a:spLocks noGrp="1"/>
          </p:cNvSpPr>
          <p:nvPr>
            <p:ph type="sldImg"/>
          </p:nvPr>
        </p:nvSpPr>
        <p:spPr>
          <a:xfrm>
            <a:off x="932040" y="749160"/>
            <a:ext cx="5000400" cy="3749760"/>
          </a:xfrm>
          <a:prstGeom prst="rect">
            <a:avLst/>
          </a:prstGeom>
          <a:ln w="0">
            <a:noFill/>
          </a:ln>
        </p:spPr>
      </p:sp>
      <p:sp>
        <p:nvSpPr>
          <p:cNvPr id="1716" name="PlaceHolder 2"/>
          <p:cNvSpPr>
            <a:spLocks noGrp="1"/>
          </p:cNvSpPr>
          <p:nvPr>
            <p:ph type="body"/>
          </p:nvPr>
        </p:nvSpPr>
        <p:spPr>
          <a:xfrm>
            <a:off x="685800" y="4748040"/>
            <a:ext cx="5492880" cy="449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7" name="Дата 3"/>
          <p:cNvSpPr/>
          <p:nvPr/>
        </p:nvSpPr>
        <p:spPr>
          <a:xfrm>
            <a:off x="3887640" y="0"/>
            <a:ext cx="29750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8" name="PlaceHolder 1"/>
          <p:cNvSpPr>
            <a:spLocks noGrp="1"/>
          </p:cNvSpPr>
          <p:nvPr>
            <p:ph type="sldImg"/>
          </p:nvPr>
        </p:nvSpPr>
        <p:spPr>
          <a:xfrm>
            <a:off x="932040" y="749160"/>
            <a:ext cx="5000400" cy="3749760"/>
          </a:xfrm>
          <a:prstGeom prst="rect">
            <a:avLst/>
          </a:prstGeom>
          <a:ln w="0">
            <a:noFill/>
          </a:ln>
        </p:spPr>
      </p:sp>
      <p:sp>
        <p:nvSpPr>
          <p:cNvPr id="1719" name="PlaceHolder 2"/>
          <p:cNvSpPr>
            <a:spLocks noGrp="1"/>
          </p:cNvSpPr>
          <p:nvPr>
            <p:ph type="body"/>
          </p:nvPr>
        </p:nvSpPr>
        <p:spPr>
          <a:xfrm>
            <a:off x="685800" y="4748040"/>
            <a:ext cx="5492880" cy="449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0" name="Дата 3"/>
          <p:cNvSpPr/>
          <p:nvPr/>
        </p:nvSpPr>
        <p:spPr>
          <a:xfrm>
            <a:off x="3887640" y="0"/>
            <a:ext cx="29750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1" name="PlaceHolder 1"/>
          <p:cNvSpPr>
            <a:spLocks noGrp="1"/>
          </p:cNvSpPr>
          <p:nvPr>
            <p:ph type="sldImg"/>
          </p:nvPr>
        </p:nvSpPr>
        <p:spPr>
          <a:xfrm>
            <a:off x="932040" y="749160"/>
            <a:ext cx="5000400" cy="3749760"/>
          </a:xfrm>
          <a:prstGeom prst="rect">
            <a:avLst/>
          </a:prstGeom>
          <a:ln w="0">
            <a:noFill/>
          </a:ln>
        </p:spPr>
      </p:sp>
      <p:sp>
        <p:nvSpPr>
          <p:cNvPr id="1722" name="PlaceHolder 2"/>
          <p:cNvSpPr>
            <a:spLocks noGrp="1"/>
          </p:cNvSpPr>
          <p:nvPr>
            <p:ph type="body"/>
          </p:nvPr>
        </p:nvSpPr>
        <p:spPr>
          <a:xfrm>
            <a:off x="685800" y="4748040"/>
            <a:ext cx="5492880" cy="449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3" name="Номер слайда 3"/>
          <p:cNvSpPr/>
          <p:nvPr/>
        </p:nvSpPr>
        <p:spPr>
          <a:xfrm>
            <a:off x="3887640" y="9495000"/>
            <a:ext cx="29750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D8598-DAC4-4AC4-8DBF-BFE5C6F61E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4" name="PlaceHolder 1"/>
          <p:cNvSpPr>
            <a:spLocks noGrp="1"/>
          </p:cNvSpPr>
          <p:nvPr>
            <p:ph type="sldImg"/>
          </p:nvPr>
        </p:nvSpPr>
        <p:spPr>
          <a:xfrm>
            <a:off x="932040" y="749160"/>
            <a:ext cx="5000400" cy="3749760"/>
          </a:xfrm>
          <a:prstGeom prst="rect">
            <a:avLst/>
          </a:prstGeom>
          <a:ln w="0">
            <a:noFill/>
          </a:ln>
        </p:spPr>
      </p:sp>
      <p:sp>
        <p:nvSpPr>
          <p:cNvPr id="1725" name="PlaceHolder 2"/>
          <p:cNvSpPr>
            <a:spLocks noGrp="1"/>
          </p:cNvSpPr>
          <p:nvPr>
            <p:ph type="body"/>
          </p:nvPr>
        </p:nvSpPr>
        <p:spPr>
          <a:xfrm>
            <a:off x="685800" y="4748040"/>
            <a:ext cx="5492880" cy="449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2013 году сумма санкций (включая штрафы), примененных к медицинским организациям по результатам контроля случаев стационарной помощи, как наиболее дорогостоящей, в целом по области составила 173 млн. 765 тыс. руб. или почти 0,9% от оплаченной за медицинскую помощь сум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слайде приведены медицинские организации, в которых доля санкций в 3 раза превысила областной показатель. Значительный размер санкций в ГДБ № 16, ГБ № 4 г. Первоуральска, ДГБ г. Серо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6" name="Номер слайда 3"/>
          <p:cNvSpPr/>
          <p:nvPr/>
        </p:nvSpPr>
        <p:spPr>
          <a:xfrm>
            <a:off x="3887640" y="9495000"/>
            <a:ext cx="29750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0F1C4-18A5-42BC-82EC-F43F03BA29D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8AD1-B5DA-4D7C-B836-E87DF60A4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2CBD-88D4-4A54-B8F3-21C42B1AD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DC853D-69FF-4817-B48C-F2AB01DFA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5DC91D-F1F7-4D03-913E-7510C483C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F9A3B6-09AD-442A-9F2C-E31FCC3A0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DAC98F-1FF8-4264-B11D-2E389868F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86A1A2-0144-4D2F-A8A2-CE04B498D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469582-F8C3-4621-A730-EAF58894C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E14B17-B6C3-4B32-82CF-15C90E7DA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CFC58A-253F-42DE-9088-C08428E99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749B83-A406-47F0-8620-EF3253ABE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F0B9C5-EACE-46E8-A248-44E9719F2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0825-4FD2-459E-948C-219486BFC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CC9030-9FD6-4D07-AD38-723E54C8E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DCCD91-D232-4E06-ACCA-B1C975F31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C80907-B037-473B-8800-08E0291D7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04A31A-54C1-46AC-A857-29E1F4878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FB9D68-AAF5-4925-AF65-BFE90C115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EBF59B-4FFE-4D97-BB8D-1FB5F2F6A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C6463A-AAD6-462B-BA00-7E3F9486D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2C01C8-B640-4B3C-A286-7082FAF21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854B58-E7A2-4D6F-B6F2-DADAB5C65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6105FF-67A5-411D-85C8-51B42BAB4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3025-9DD3-4D96-BF85-B4DF37C18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1A22FB-699E-4D0A-BD47-ACE9ACEA0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CFD551-DC8B-4572-AD4C-144A92693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6BF2ED-9D85-4A9D-85D2-3E2FAB8C8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1CA4ED-D1BD-49E2-BD23-B3354CFD0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8BF915-E1BD-4297-BBFB-56C132F59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A17F59-E66C-4C7B-A63B-10B61B51E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AC8D1F-F73B-4BC6-AD0C-1BF350174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F7F32F-7187-433D-897B-3FCF0EE0E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CF47B6-C5AA-43AE-92A8-01336BE87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3377F4-0C08-42BA-BB6A-EBF1E6D1D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1F5DA-94CA-4C22-99B8-E932CD89A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943FEA-1922-48F2-9B35-0801FD417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32CA15-C74E-4E44-BCCC-ECD181D90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67ED0F-DB9E-4052-B434-A37805DC8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8496BC-6052-4941-91D2-A7C18548F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37A8C9-BDA6-4562-A25B-830117056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8310AB-A6E0-4F31-AF78-2AC48C9CE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B7E7CE-D744-40CC-9EA7-B8879F4B1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29D704-71F3-4F13-9E64-5906369A5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680C5B-B158-4F2F-A891-6EC486778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2889D0-672C-439A-ABC3-DB0FBA68E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A0A0C-2816-4E98-B02C-6056ADC77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3A0FD6-9566-480B-BE61-35FC99D7D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0D4254-9BEF-46C8-AB79-A7E377A54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F9E08D-284B-4AF3-B2BE-C7DEA54CC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DFE7C9-C8FE-4B8C-B0BA-75B79E5AC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D3E5CB-00C7-4BB7-87DC-C8389A962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19626D-4804-4AB3-8B63-83BDE3F39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700671-A79A-4171-94B1-88D0313DB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B8725E-10D0-4E79-A50E-C0C0F9358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31D72C-ADDA-4F3D-ACC5-9D94C2628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8E2CA7-C303-4A97-B2DD-638CB097B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469AD-15A5-40D6-B14E-E0C3B3B85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4976D5-47DE-467B-9D69-63F0154AA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D3EE4F-3671-44C8-A0FE-7A84DA603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E44F95-4C21-49C8-9541-7E30317ED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69C44A-C904-4BEB-B94C-A896D1537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99F4BB-34E0-4EFE-834D-B584DEFC5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8AC7BB-D042-4C33-875C-F38165F1B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141B53-3765-46F3-B744-EE841059B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43A9C87-E754-460A-8478-688D7599D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0500CD2-246A-4DCA-8221-9462915B4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3B5DDB-A81B-4B0A-AC0E-A1A2D39D0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7B3E3-9ABC-4FD6-98FE-9D7000499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817EDB-23DA-41FF-A9EE-C557BDA28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E0D499E-EBC4-4D81-8001-06BF701B1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69632B-47DD-4B74-8DBA-81ED73455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CBDCC1-AE7F-4805-BFFB-4753B21E7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C22B8CF-AF81-4E73-822D-05E50EB31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9F26A9-1F1C-4F75-BB0F-385C6C2F5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3E9FA8-6090-4503-863A-027388BE6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BB60B7-AF95-4AE9-8A35-45EA31139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AEA54B-0EF7-4D38-BD9F-F2209A186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51A0700-2D48-43CF-A915-55215B765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E122C-104A-4044-8D5C-3F921AC16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8987600-DB3F-4195-8B48-6F528E168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C60F458-7C5A-4009-BD0A-07BA0FFB2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B431B2D-3B11-45AC-91C0-83BF2243A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3DFA0C1-122C-437B-B886-7C9476CF8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751A044-2D97-49D4-8A1A-B57611187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3B8A1E9-40DF-468B-8BFD-1BE489BD2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4918D7C-428F-4B96-AE9E-B8619E2EE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8F009EB-4AAE-4745-B733-82385134D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21749F3-360D-4E67-9A79-B10838284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5D6AF42-EC32-4DE9-BD3B-A96B2EB8E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FAB05-C384-4636-A9E1-1ED4CEB75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3EBF7A7-6E34-40C9-8007-B4AE8211A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60BC273-CD55-4433-8F46-CFFA4CE07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9BD4B31-24C7-4412-95EA-788F3C358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4A5DF3C-FEE8-408F-90B7-90346E41E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71350D3-4F96-4AA6-A65F-2E543ABDB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34428B8-6EE3-403F-A1F2-80A61EB2D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4DABFDA-21EC-453A-A7C0-E46CF72CC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14E96D8-6A0E-4DA2-B823-D6FE0C378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13D8471-BE75-4E4B-8A70-AA2776F83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1BA870E-DBB3-48DD-ADFA-2FEF6AD69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A98BD-65C1-48DB-B41B-B2768478C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C602DD5-8639-4251-978F-D65C63249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866F9BB-27B2-4613-A828-0062A00C7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71BD058-DE15-4BCF-A788-4D6DD2A05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80098F2-E4A6-4AFF-8298-79819D1D9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F2D3332-F7EA-4126-841A-7F55CA2F2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6DBB544-9540-4807-8F69-7FD71C47A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509FE14-0E57-4743-9EB7-C97C292B4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ABCD781-7CD6-40DB-9424-15964F8A8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9E46906-AA42-4A48-9231-B2DA3245C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599FABC-9F2A-4D73-8F89-AD66441D6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97CB-C46E-450D-8E0D-A7FE02050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BBBED-1841-40F5-B5DC-682302AFC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0509EE9-64BF-491F-B978-73029E609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35CABEF-3819-414A-8AFB-ADDC9D646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0B18BBF-5C5A-4901-9631-11D445647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52787D4-E192-45C3-A473-7D5171489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95650A7-2DE9-40DF-A801-B8D11747E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36A9383-B981-49AB-AAE5-535B41B66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7F6062D-062E-4A0F-A483-C215467E5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955B881-7DB9-499B-9D6D-185E57177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AC1D2F1-FE1D-4A04-BEA3-22782A4E5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FC8E22A-8FAB-44C9-86B3-F65ABA924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2AEDF-608D-43A7-924B-4FDBEF86F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0525117-2439-4A2F-88E2-19868AE08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AD88487-6583-4236-B8C8-A92E3F632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E252F38-4D20-42BA-B3C0-07727FE8A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7619B18-1CE4-438E-9767-03D67E097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13F5F6F-2520-4F37-B139-FDA5FC849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BC40E8F-F598-4A1B-8F35-6D446B890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A6752A9-FC2A-448C-ACE9-20063E270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5303C01-A7D3-4118-8F03-3EDD5516B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88DB52A-9C9A-4CEB-8E42-C22761BB3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29C6A64-9161-43E3-8890-04F953E35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AE3E7-7D0D-406C-8560-DAC3AE86D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1904319-5A23-404D-8865-8010BCAEA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6631114-2F5E-4987-9331-184AA8392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8C1FFFB-A1B7-421F-A6EF-AC7EDF9EC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7AACF80-292C-44AE-8396-67924BAC3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3826DDB-52A8-42B1-B3DA-3714ADF2D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50C1304-F2EF-4922-8535-97728CBB3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43D46ED-3ABF-494E-AFCA-9EAC6B5C7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FEFEE3D-CF3A-4B57-AF79-5B149C814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B282FFF-7D7F-45C1-AB01-7FD81E5D0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00BECEC-E08D-40B3-A3AF-E434EEC5A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CE682-24EB-4510-A39A-1F2C4E213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5F971B5-9F44-4C8F-840A-92A253F60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04CDFF8-3A50-49EF-A9ED-096ACCD5E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261E2E6-D59C-4286-9776-D780BA6AF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BBEFE00-F6BF-4B95-AF4A-16C957976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435865E-70DC-48B9-B182-622FD0628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0D54CAE-9C23-415E-B264-346B8EE28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35A7FA9-66B1-43CF-A3A0-A9CFCDED2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A42D1E7-5110-4495-A59F-814CFE4C5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237D326-7A1E-427A-97DA-B3E7C6468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5911D14-4AF0-41CA-8F4F-7FE9D56BB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F2FD5-A498-43DC-92ED-842ECF404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EB157DB-54AA-4E68-81D0-FF8497347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26BC771-A451-4F60-87B0-08BFC7AE3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C1D6714-80B9-40D4-B1A6-54A8B01AB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922F798-3AB8-46DC-8109-AAFF57EF6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8E4CE01-CAE0-4147-8ABA-C13165376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8514146-D50C-47BC-B35B-C7C921781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55A40CE-1377-45F4-B649-1B9264C18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BD3ECC0-0724-4EC9-AA55-961AB3B26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3E097CB-01CC-4AE8-BC22-7597C8FB0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064A78F-4296-49A4-A1A9-D034744F9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BE8000-98C4-41AD-ABEE-281CF1CEE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03BD48F-4C98-4291-B412-72A7D1E3A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178537D-757E-42D0-83D5-1A6F2F18C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B05691F-4F86-45BE-A640-A732EDB0A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32E87A6-F5B1-4226-A721-8B609288B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7EE5348-973E-4519-B3E5-9B9E7003F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A6F971A-766D-4481-99B7-7C15256FC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E9C6BF0-120B-4A70-BCDA-4656CC079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302BDCD-5392-4D5C-ACD2-D77DEA84F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26081A5-09A7-4786-A180-B1D82DE73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375B310-04D7-4377-BEF8-EEAA150B5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2B361A-CCF6-4271-BB50-1FDA128EF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6F92AE1-FD00-43EE-96CC-D75B17716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D287212-6860-4B26-AF31-DF21578C1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766F1E5-717C-4143-A73B-6F15EC234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8AC86EB-D6DA-48E8-AC0F-41082E4B7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10EF524-93B9-468B-B42A-8590F209A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9D1271D-6AB5-4F66-8932-191599AAA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9A0094D-79E8-4949-8008-C12BF2EDE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282E877-F1BA-4CDF-89C2-F5AFEA5FE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8CB168F-BE8A-4E75-9D2E-2C8E55191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7A1685A-733E-46BA-9C50-6C4938903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493B33-3CC4-40E2-AA2E-3AE41AA6C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E405DA3-3BDB-41FD-8BFC-0D9FA8B85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DB2A178-4129-4D76-88C5-C972E5AC7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1B0722F-08D8-46C1-958B-0338F2FDF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DF02CBF-AA2D-4EEF-A595-E75880987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F470F71-23A3-4940-BC52-4C7C08EB4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D055743-82CA-4261-9B38-17F6B7DBB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61CCDEF-6C4F-454D-A1B2-8E2F578C9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D3C7888-F311-4AB3-BF08-853DFF3C3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CCCE019-83C7-4C38-ACFF-C9C250FA6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3A15B16-CA62-441A-8433-FCF8CDBA2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8644C4-1C4B-41D2-8F3D-1AA7916F9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8E56A0B-A100-4905-B532-C804F869A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52B8AD9-7F94-4905-B388-1C9697D5F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1391C8B-91B2-4F71-9585-0088CD293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006F3D4-9EFF-4578-B239-A5CB16814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62D9705-07BA-4772-934A-5AD13BA2C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460672E-558B-41CC-AEB9-CFE9224CF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001DF14-22BA-4EA6-BF57-C403C5BE7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DA2E578-F1DF-42CF-9D46-FF2F4A036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68412C8-57B3-4696-BCD2-565BDF1A2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CF1B660-26C7-4E32-803B-23B6190BB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A6CCA0-7276-423A-8B2D-4892E146D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307DD05-9A01-48D4-A0F6-1B4A608ED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FA182C3-C1CB-4CBD-92C9-10D5DB82B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C48E09C-7E3B-4186-B476-FCD9D0591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0199442-28EE-44D5-A19C-A9EEAA440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1BA2279-21A3-42F5-8E07-1BA6B2D2A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95FAEC2-5ACE-4316-BF00-A313629DC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66E5203-E5D8-4DB7-89B4-46BB05EDC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BD103EA-DD88-4DC4-B352-9FE63A328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082D647-E679-48BF-82CF-E660A6166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DABE512-ADB8-4A07-8B06-8C28E8478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B694-D02F-4DDE-9BD7-C9B715027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94D5AC-0EA3-4AF8-A779-0444A8710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22F168C-2CA5-4797-B056-B399B35DE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05415D3-3B8C-4F14-8805-A7D2E419C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DE1A6BD-D6D9-49D9-AB49-FC150EAD1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5208AB3-7496-462A-8A1E-642EFC1D5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1F4223E-B81B-4F2F-A4A4-E72B040FF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968B8C8-AD13-4881-88B9-232E3AC39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27568BF-81E1-493B-BC76-F9FAFD7EF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E5C440E-E0BA-4B50-A876-E06A92470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B12A0CF-CDD4-46C1-9860-18B689A5B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D24C24E-658F-4B98-A24E-C7696590D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504999-5EE4-4103-9D28-44C6B49A0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1185E0D-AF22-478A-9F57-D22DCD8BF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6B1381E-1EF8-4425-9CBA-11A50F006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B5C922D-4590-4552-AD02-771934103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DB45D81-AC90-48B1-A8B2-612930689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E7E7745-DB33-4BF8-9B9E-D946FBFEA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C58AFE6-96F3-410D-9DCB-E02D0D7A6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3066A83-F051-48B6-BB54-B82E23342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A4BDDFF-D614-41B9-8B34-C814A7373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9BC2DD7-711C-4CD6-93F2-A40DF20E7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73ADCC5-ED52-4873-85CE-3D54CFA8B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C73E9B-14A1-4396-B1CE-DE1CA464D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315736B-FFF6-4D18-AC48-F7B7AA1AA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5178566-A31F-47CB-B7A0-E06F03997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931FE8A-CD05-4E9B-A2F0-1321EA60E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A314DC1-D4CF-490F-B86A-3A1568C70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E5DAE20-92F6-49DD-B927-C1B1C11A4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5B05311-72C3-4DAD-909C-F8A098F44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5B3B150-8D3A-4078-974D-CDCF21C09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18842B3-3B02-4B4F-9D04-38F244756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08B5AD0-D2AB-44A9-938A-683361A71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758022C-CF7E-48A2-8B12-A8AB3AC21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2E9325-CD1B-4C73-B6E3-3E9EF664D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90001CD-A10B-4D4B-ACB4-1BA8D04F6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F1E4121-E9F8-460C-961B-C4A33FAC3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2E3773D-EC6B-4885-A121-6AAF8FB85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788B94F-65D5-4C90-9AB5-75E7279CA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58A795E-33F2-445E-B5AF-A3BADFD95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16FB8B8-3A3A-405B-B356-8787DCB44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8DFB334-F5E8-4FE5-9939-801344CC8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1E27B84-4D83-4AA6-9B48-A3BAA70DE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27BB655-4AF4-4186-A1AB-34C0750C5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4F03B70-E833-4D56-AFFF-BAEADF3C6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D2EA6A-A829-4209-9A0F-F3E5F5375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E889E38-8487-4FD4-8CF6-99ECB2F6A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B53BB5E-8B73-4E20-83F2-5592F632E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55573D1-E5BA-4BC1-9E6E-6B5A3FAF7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7250159-8DEC-4842-BC4D-771F7A901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2A1341E-9D4C-4243-8E60-0758BB0B6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0D6D761-F444-494E-B0B3-0D8ED6D08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DACB304-BB77-4185-9379-DCFA403A0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80B77DA-E55D-4369-9EAD-89A59DFF3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CF03A0F-B238-4553-8385-51CC0EF07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DEA489B-CED4-451B-BD47-63C2272C2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3DCF76-DE01-4146-A1D4-CFD37B0AC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9267837-5609-47C1-885C-0125B079F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54527E3-4956-4DEA-A2AD-30AFC9E35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85B1383-D450-49EA-A855-407380D42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855082D-D6AA-4AB1-996D-A08AC0824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E874D60-65C9-4C41-BFCE-FE79784E0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4C2512E-0451-49FD-9E33-E6425DC34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746ECAB-163B-4038-9359-B2F70A6A9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3255424-CD67-4C89-A38E-2EB7730E7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33197B2-48BA-4A7E-A4AD-BDA433E5F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A1C6153-A3EE-47A8-B952-EDAD42CCD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59F46F-E8FF-4820-8F3A-6474D52F1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D6859CC-7A90-4B17-8DAE-9C86BE720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1892DDA-FDA2-4294-BB3A-5B34C8337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13AA3DB-D5C9-45C8-9398-33DB34EB3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BA4589E-FF4F-45C1-8DF6-EFEB20A9A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3889A01-6EA4-44FA-A5D5-B8DDEC99C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A202985-9649-44BC-988C-515A383E6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7BD879F-F1EC-403A-949D-F864C72D2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19C40E9-0A95-4CA6-9419-DF323892B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389A2F1-5519-4437-B3FC-D57581DA3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D776F6A-7CE0-4508-ABF3-75A3C72D7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1C54D0-08AE-4FCB-94F6-3AE462349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BEEA66B-12AC-4154-A80D-B6D64FC43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3DDFE60-66DF-451A-8813-0E05572F3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00B9E45-072F-4E45-A86F-720E56ED8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DA0BFAE-0FFF-43EA-8214-4E69B7D30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FE8FA33-22A3-4AB6-9A21-878279AA6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64CC7DF-C5E8-4611-B369-9DD76D0AA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35C54CD-1DD0-42F5-A11C-D3836C44F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85B329F-1701-430B-90C9-8AC67C49D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86F4EAF-66D2-4034-B709-34A858043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56BAD2C-3FE8-495C-B8FF-4EEDC34D3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94FDB7-C1D8-4629-B8F5-7A3AEE086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04F63AA-9131-4F96-8689-CD03172F4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8750CEE-B52C-4988-81BE-7D020388E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6C1E668-547F-41F4-A36D-97B70757E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A1B0C90-83C9-4556-B8D3-AD683DD1C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50CF4B7-AAEC-4921-81B1-B19D37450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D90074C-84CE-4616-8FD5-9D1958456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66E074A-E681-4240-84FF-7A1D34793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A16A2BB-78E4-472D-AC97-569B6420B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F33C68D-263D-478B-949E-299D07076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403CB6A-400E-461A-87CF-BDD2281B4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9A5C1D-DCEB-43D4-B936-E6281500C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8CBD57C-5F42-4400-9747-4305FA4DA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0BF7680-8CE9-4540-991A-E18DA3737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055715B-E2E6-4378-8414-610987E08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1BC5472-9C8B-42E3-A021-9F71E08A1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05C92E3-34FC-46F3-9406-B1BE78ABD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0AF4D0C-18D9-4143-8F12-30D52E49B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33F42C4-0636-4BCF-BB03-750866EC4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B789ABF-2046-44A4-A703-269A3AA81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8C0DB52-CC98-461F-B934-9ED826D93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6BCCF8A-48B6-4ABA-B3B5-8961917E1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417C-9219-4854-B87F-6FBB52CA5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1C7336-7689-4A4B-B218-BA7209790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56F04D0-34C2-4D48-8FFB-540E87E5F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675B61B-98F9-4C6D-9C24-C0B39FAFA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EB41771-430C-4F6E-BC36-F115E6F01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0B58B9F-33DC-4268-B7EE-3225C5AE5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2770C8F-4F76-40E7-B2F3-CEB6BC078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4FF0D94-DD67-4BAE-9771-CCB50E60A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7DA1626-2E41-4C1F-888A-1DFA8F69C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0B6D0E1-9E50-4317-AAEB-B679AF6DC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A3BA473-BB15-43D0-AA13-B6BB9C2CB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971E715-0AE3-401B-9D30-068F2F6B4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244B77-0A41-49B3-8706-C2954BBE0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CBDCA88-C923-45C9-B2FA-6AE8AE8DF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8A1A82F-539A-4FAA-92D4-DA76F45D1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E4D8E0A-7117-42CA-9B35-8F8D10575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89D4067-B526-424C-B746-32B8CC4C4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CDFC789-3B20-4382-B0E0-F47B47FFA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F307446-2BD3-4319-9680-AFC2E4403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E0C407C-F0A7-436A-8B1A-A7FDE5A8C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378FE53-C349-44DB-8E92-27AF879C7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683E298-0342-4B3F-ADBA-33B7BC9A0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F619B9A-9DBB-4500-959D-33ACF2076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81517E-C53D-48DC-8B5A-FD0BB1A1F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0EAFE82-41EF-421D-81C1-7AEE4859F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0107445-2158-46C5-A184-EBAC00B98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5302430-B8A6-43E9-A4AB-C80D11F8C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75ED432-D6B6-4ABB-A6EB-FFD131064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DF3A539-F2A1-4467-BADC-04855C3F7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BA93DBE-5AF5-4ECB-8B4C-1D65D197E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61C52FC-0126-442D-A528-9F1266C49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FB49DD1-8D1C-4D1E-A5A0-1625D0F4A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AA20EC8-0B90-4F0D-A4A2-967639131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A7D1086-31C3-4C3F-844C-61F319880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115BDF-92FA-483A-B39C-B7C1AE8E9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1C8D469-C432-4C32-BA63-FE2824215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51C86A6-1834-43BD-AC58-A2911B77B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37F0253-F378-4120-BDAF-1222DFEE7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71580104-9F5B-43E5-A10E-CF5B7D65A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5BEA72EB-2CEE-400E-A22D-FEC008B40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B7BA26A7-2BBB-442B-85A1-AC9FCDF74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D2B0623D-7C5D-4266-849D-F021A03F4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C6D7BC9-0777-4E7A-A0AB-0EBC0516E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BCC2557F-4193-440A-B40B-C67FB9F3D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E49576DE-BDAD-44E5-8EBF-740B6529C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4BBB6D-F55E-4177-8E9C-0F2019B82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82C83015-F54E-40C6-951E-840254E69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F3CF2BE0-BF3D-41F0-820F-78A353031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9FB8EAB-001F-42CB-80AE-21B67E9CD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7F9D9C6-D0A9-437A-B650-F761F3F7E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D616529C-E737-4C6A-ADAF-A9045E65F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D88DA72A-3E2B-4986-9B45-51E4908F5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46C71C3B-37AF-4C24-9D45-A246FD507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2CD67EB7-BAAF-44D8-8F00-54C768A28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C95B60F7-2BA4-4F72-866B-421CD5EB5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62F53AE9-72AB-4531-A7A9-7C618E168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39D1F8-CE51-4764-BF51-8DBBDF1A7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947CBA39-AAF1-46F7-8068-76C703DB7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2ACAF67E-0FB2-479A-BDE4-955603B52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56375B19-3F5E-4CE7-A531-BA55C5EDA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7049A1C6-AA3F-4125-B3BD-D6B2B72B2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C492A423-D805-4AD6-8316-00DCB9EA8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EDC1EEF5-CD8C-4E06-9CE2-9EE8BBCD5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C30DFB77-0DC6-42E0-BDB1-4517E4522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BE8BD4-F622-47CB-80EB-E4995E2E0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DDE86A-8904-4512-9168-02E7BACF0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25E116-2DBF-45C1-945C-22E996D56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1101D1-3432-473D-8F7E-FADFE89FC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D2DC-AA9B-4D98-B52C-670605F1C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C8D8B5-3389-42BF-8166-F3907AA76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86A509-7309-4057-9BAB-4882F7B3A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104CCD-7FA5-4E77-9C92-03FEEF3A9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9873A9-6A39-4EFB-AA3B-24EFAAD7B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84FDCC-3E89-4061-A86B-FE9ACFA0A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B0E280-1D99-40C4-BB3E-ED1A5334D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7F3A33-3EA0-4519-ADF3-962B1EC8F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BD3B1D-253E-42C4-9E89-76966D444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26005E-9EA9-46B6-B412-A9A6F20AC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3BAE80-C4A1-4721-994D-84F12077A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26DB-ABEB-40CC-8C9A-25E12EC62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5025E8-3C41-4355-A820-FF9DBC01C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8ABD28-8EED-4B40-A42D-755A3CA67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F2FA79-0E8F-4C5E-B051-55E9C27A0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38AC6E-821B-4300-9F72-948E99BAA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2292E7-083B-470E-A5A8-054217024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32400D-8EB1-4EF1-BA56-F17BF66DB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BADBA6-C979-4AB8-8896-5D706E3BC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28DB22-0917-41AF-9677-332EE1273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2CC6B0-7067-4310-AFAC-3A3EB6F7B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DC708A-10E1-444A-B814-1D32AE85A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DBC5-EE21-4BD6-BC44-D62AF5483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FBEDF5-62D3-499C-B0DE-DC3D5065F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BAA639-BBB3-48AA-BAE6-E8CB67000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32B46B-F855-4EC5-BC3A-D83DDDEBB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DBCBA8-935F-4F63-88E5-4D5D550A8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A22DE7-E089-4FE6-A473-35520E0E9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59212C-0A90-4695-88BD-77DB65141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34F422-5FD1-43ED-A944-B51A38444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CB272C-D699-48CB-A564-97382FD38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4E2CA5-1424-451A-8BFB-BF4548929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4957AB-B204-4E80-B158-6A5EBBFBE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5F0A-49E1-4EAD-9188-F97B0D5CF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8B67EC-C7EE-4CDE-821E-DD99942B8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7B2B9D-006A-4CFA-A6B0-69F55927D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844BB6-6472-4B94-8789-32839C546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3CEEA3-1DCD-4C8F-9127-A1D383AE0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24AB9C-74BE-4520-ADD5-7D5C82F9B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FF08F4-0ECB-4770-A1BC-3FE47EE7B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E9AC75-0BB8-4C6B-AD46-856577DE0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7D3AAD-0BD0-4B3A-B239-1CDA2A58B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40B061-0830-46ED-8E62-3C35F86E8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6620DE-1F4B-404A-B89E-6FC32B297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89D6-65D0-4C2F-9E2B-A69F722EF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15FEF1-58E4-4B90-92B3-B6064B181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D1654C-C716-4735-8A83-AB580B5B8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BD35FC-E980-410B-869B-6838D655F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2B0B28-D66B-4EFD-B10B-6DA7EBFAA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E1B7D1-910F-4533-BD30-12734DCB3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15BEB8-32A6-40E8-A45E-26C78F418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1792F2-3ECE-4011-9695-B9282504E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D3E3F7-355D-4F46-A020-3176DC2B8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A2638A-CB5D-476E-B667-394A13864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3BC751-19EA-4A5F-A231-47030CA1C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DF255-BCE0-46C8-9CE1-2687B674C1C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D3BC6-A7F6-4CFD-9E41-1637B97961A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E38C0-0F79-4D95-8369-9EB4E5CDC46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BC205-AC39-479D-B540-218556FECB6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A9203-0146-4A9F-A5CC-AAACD002946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47E92-5E16-4207-913E-18F34AC4D86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B97DE-1319-4C2A-975E-F9D79FAE5C0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A818B-4B30-4C3C-B883-1CB2233A78C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EC07D-685A-4C04-91E4-8405E806162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FEF2D-C49D-4454-8551-530A94BEA49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2CF61-76B9-4A39-BC9E-668954A2F30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208C6-9785-4FD1-A9B1-3578B10C5E2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67832-BD3C-493A-A60B-783C885E38E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B303A-75C2-40A0-9D41-84716B3867E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D832E-DEA3-42BB-A30A-7ADFFE0EDEC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08AD2-EDC5-4DE5-995E-48C9F5728F8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3C3E0-58E0-4361-A5CE-F55074245A4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 type="dt" idx="7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 type="ftr" idx="7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 type="sldNum" idx="7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C501A-6965-4F9A-925B-6DAA250E689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dt" idx="7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 type="ftr" idx="7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 type="sldNum" idx="7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966B1-1201-46B3-A5B2-4936D2346C6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7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8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8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AAC04-B0DB-4D8F-89F8-06B96CA6623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dt" idx="8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ftr" idx="8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sldNum" idx="8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831A5-D0B7-4020-B381-3C34206B41E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 type="dt" idx="8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 type="ftr" idx="8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2" name="PlaceHolder 5"/>
          <p:cNvSpPr>
            <a:spLocks noGrp="1"/>
          </p:cNvSpPr>
          <p:nvPr>
            <p:ph type="sldNum" idx="8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696DA-2FD4-4FED-97B7-9455307D365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59319-498F-423A-AF92-115956B2231D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9DC72-9B2F-487E-9133-D0257D7F9FC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 type="dt" idx="8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 type="ftr" idx="8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3" name="PlaceHolder 5"/>
          <p:cNvSpPr>
            <a:spLocks noGrp="1"/>
          </p:cNvSpPr>
          <p:nvPr>
            <p:ph type="sldNum" idx="9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762E3-28BF-484F-BA52-ADB350E1F69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 type="dt" idx="9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 type="ftr" idx="9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PlaceHolder 5"/>
          <p:cNvSpPr>
            <a:spLocks noGrp="1"/>
          </p:cNvSpPr>
          <p:nvPr>
            <p:ph type="sldNum" idx="9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E7C1E-DF47-407D-A7F4-007EC8346C0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 type="dt" idx="9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 type="ftr" idx="9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5" name="PlaceHolder 5"/>
          <p:cNvSpPr>
            <a:spLocks noGrp="1"/>
          </p:cNvSpPr>
          <p:nvPr>
            <p:ph type="sldNum" idx="9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6D993-0187-4926-9F59-D674926A289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 type="dt" idx="9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 type="ftr" idx="9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PlaceHolder 5"/>
          <p:cNvSpPr>
            <a:spLocks noGrp="1"/>
          </p:cNvSpPr>
          <p:nvPr>
            <p:ph type="sldNum" idx="9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A5D04-4423-4945-B2F1-D5EE83C83B7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 type="dt" idx="10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 type="ftr" idx="10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7" name="PlaceHolder 5"/>
          <p:cNvSpPr>
            <a:spLocks noGrp="1"/>
          </p:cNvSpPr>
          <p:nvPr>
            <p:ph type="sldNum" idx="10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1B39B-A339-42EB-B664-C6FA3D4F95C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 type="dt" idx="10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PlaceHolder 4"/>
          <p:cNvSpPr>
            <a:spLocks noGrp="1"/>
          </p:cNvSpPr>
          <p:nvPr>
            <p:ph type="ftr" idx="10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8" name="PlaceHolder 5"/>
          <p:cNvSpPr>
            <a:spLocks noGrp="1"/>
          </p:cNvSpPr>
          <p:nvPr>
            <p:ph type="sldNum" idx="10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5DAB0-530C-49A8-89BF-7B9E6177E6D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7" name="PlaceHolder 3"/>
          <p:cNvSpPr>
            <a:spLocks noGrp="1"/>
          </p:cNvSpPr>
          <p:nvPr>
            <p:ph type="dt" idx="10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PlaceHolder 4"/>
          <p:cNvSpPr>
            <a:spLocks noGrp="1"/>
          </p:cNvSpPr>
          <p:nvPr>
            <p:ph type="ftr" idx="10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9" name="PlaceHolder 5"/>
          <p:cNvSpPr>
            <a:spLocks noGrp="1"/>
          </p:cNvSpPr>
          <p:nvPr>
            <p:ph type="sldNum" idx="10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182A6-80BD-4019-BD57-93FDD8B9D28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8" name="PlaceHolder 3"/>
          <p:cNvSpPr>
            <a:spLocks noGrp="1"/>
          </p:cNvSpPr>
          <p:nvPr>
            <p:ph type="dt" idx="10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PlaceHolder 4"/>
          <p:cNvSpPr>
            <a:spLocks noGrp="1"/>
          </p:cNvSpPr>
          <p:nvPr>
            <p:ph type="ftr" idx="1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0" name="PlaceHolder 5"/>
          <p:cNvSpPr>
            <a:spLocks noGrp="1"/>
          </p:cNvSpPr>
          <p:nvPr>
            <p:ph type="sldNum" idx="1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AB3EB-144B-4270-92F7-AA2B46B1F9A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9" name="PlaceHolder 3"/>
          <p:cNvSpPr>
            <a:spLocks noGrp="1"/>
          </p:cNvSpPr>
          <p:nvPr>
            <p:ph type="dt" idx="11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PlaceHolder 4"/>
          <p:cNvSpPr>
            <a:spLocks noGrp="1"/>
          </p:cNvSpPr>
          <p:nvPr>
            <p:ph type="ftr" idx="11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1" name="PlaceHolder 5"/>
          <p:cNvSpPr>
            <a:spLocks noGrp="1"/>
          </p:cNvSpPr>
          <p:nvPr>
            <p:ph type="sldNum" idx="11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5482B-4F87-40FD-BB22-2FBAE04EA3E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6FF2F-78C0-4D7D-B830-1B422AC8D60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EDA7C-8C23-465E-9F7D-221C47240BE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78BB5-7FD2-4257-BA37-DC14DE5B368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BA708-9DEE-4032-B3B4-BC9D9EC70CD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F7E42-D22F-4077-9285-14B15629013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AE982-F0E8-4750-B4AA-B79A0E5D360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3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5" name="Picture 5" descr="D:\Ольга Виноградова\!Т\ТФОМС\Презентация\Картинки для презентации\Лого2.jpg"/>
          <p:cNvPicPr/>
          <p:nvPr/>
        </p:nvPicPr>
        <p:blipFill>
          <a:blip r:embed="rId1"/>
          <a:stretch/>
        </p:blipFill>
        <p:spPr>
          <a:xfrm>
            <a:off x="1908000" y="250920"/>
            <a:ext cx="4494240" cy="1446120"/>
          </a:xfrm>
          <a:prstGeom prst="rect">
            <a:avLst/>
          </a:prstGeom>
          <a:ln w="0">
            <a:noFill/>
          </a:ln>
        </p:spPr>
      </p:pic>
      <p:sp>
        <p:nvSpPr>
          <p:cNvPr id="1566" name="Rectangle 2"/>
          <p:cNvSpPr/>
          <p:nvPr/>
        </p:nvSpPr>
        <p:spPr>
          <a:xfrm>
            <a:off x="38160" y="2660760"/>
            <a:ext cx="8785080" cy="19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595959"/>
                </a:solidFill>
                <a:latin typeface="Arial"/>
              </a:rPr>
              <a:t>Итоги деятельности Территориального фонда обязательного медицинского страхования Свердловской област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595959"/>
                </a:solidFill>
                <a:latin typeface="Arial"/>
              </a:rPr>
              <a:t>в 201</a:t>
            </a:r>
            <a:r>
              <a:rPr b="1" lang="en-US" sz="3000" spc="-1" strike="noStrike">
                <a:solidFill>
                  <a:srgbClr val="595959"/>
                </a:solidFill>
                <a:latin typeface="Arial"/>
              </a:rPr>
              <a:t>3</a:t>
            </a:r>
            <a:r>
              <a:rPr b="1" lang="ru-RU" sz="3000" spc="-1" strike="noStrike">
                <a:solidFill>
                  <a:srgbClr val="595959"/>
                </a:solidFill>
                <a:latin typeface="Arial"/>
              </a:rPr>
              <a:t> году и задачи на 201</a:t>
            </a:r>
            <a:r>
              <a:rPr b="1" lang="en-US" sz="3000" spc="-1" strike="noStrike">
                <a:solidFill>
                  <a:srgbClr val="595959"/>
                </a:solidFill>
                <a:latin typeface="Arial"/>
              </a:rPr>
              <a:t>4</a:t>
            </a:r>
            <a:r>
              <a:rPr b="1" lang="ru-RU" sz="3000" spc="-1" strike="noStrike">
                <a:solidFill>
                  <a:srgbClr val="595959"/>
                </a:solidFill>
                <a:latin typeface="Arial"/>
              </a:rPr>
              <a:t> год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7" name="PlaceHolder 1"/>
          <p:cNvSpPr>
            <a:spLocks noGrp="1"/>
          </p:cNvSpPr>
          <p:nvPr>
            <p:ph type="subTitle"/>
          </p:nvPr>
        </p:nvSpPr>
        <p:spPr>
          <a:xfrm>
            <a:off x="1834920" y="5373720"/>
            <a:ext cx="5624280" cy="96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95959"/>
                </a:solidFill>
                <a:latin typeface="Arial"/>
              </a:rPr>
              <a:t>Директор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95959"/>
                </a:solidFill>
                <a:latin typeface="Arial"/>
              </a:rPr>
              <a:t>Шелякин Валерий Александрови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8" name="Управляющая кнопка: далее 6">
            <a:hlinkClick r:id="" action="ppaction://hlinkshowjump?jump=nextslide"/>
          </p:cNvPr>
          <p:cNvSpPr/>
          <p:nvPr/>
        </p:nvSpPr>
        <p:spPr>
          <a:xfrm>
            <a:off x="8310600" y="6377040"/>
            <a:ext cx="347760" cy="363600"/>
          </a:xfrm>
          <a:custGeom>
            <a:avLst/>
            <a:gdLst>
              <a:gd name="textAreaLeft" fmla="*/ 22320 w 347760"/>
              <a:gd name="textAreaRight" fmla="*/ 325440 w 347760"/>
              <a:gd name="textAreaTop" fmla="*/ 22320 h 363600"/>
              <a:gd name="textAreaBottom" fmla="*/ 341280 h 363600"/>
            </a:gdLst>
            <a:ahLst/>
            <a:rect l="textAreaLeft" t="textAreaTop" r="textAreaRight" b="textAreaBottom"/>
            <a:pathLst>
              <a:path w="21600" h="22583">
                <a:moveTo>
                  <a:pt x="0" y="0"/>
                </a:moveTo>
                <a:lnTo>
                  <a:pt x="21600" y="0"/>
                </a:lnTo>
                <a:lnTo>
                  <a:pt x="21600" y="22583"/>
                </a:lnTo>
                <a:lnTo>
                  <a:pt x="0" y="22583"/>
                </a:lnTo>
                <a:close/>
              </a:path>
              <a:path fill="lightenLess" w="21600" h="2258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583">
                <a:moveTo>
                  <a:pt x="21600" y="0"/>
                </a:moveTo>
                <a:lnTo>
                  <a:pt x="21600" y="22583"/>
                </a:lnTo>
                <a:lnTo>
                  <a:pt x="20200" y="21183"/>
                </a:lnTo>
                <a:lnTo>
                  <a:pt x="20200" y="1400"/>
                </a:lnTo>
                <a:close/>
              </a:path>
              <a:path fill="darkenLess" w="21600" h="22583">
                <a:moveTo>
                  <a:pt x="21600" y="22583"/>
                </a:moveTo>
                <a:lnTo>
                  <a:pt x="0" y="22583"/>
                </a:lnTo>
                <a:lnTo>
                  <a:pt x="1400" y="21183"/>
                </a:lnTo>
                <a:lnTo>
                  <a:pt x="20200" y="21183"/>
                </a:lnTo>
                <a:close/>
              </a:path>
              <a:path fill="lighten" w="21600" h="22583">
                <a:moveTo>
                  <a:pt x="0" y="22583"/>
                </a:moveTo>
                <a:lnTo>
                  <a:pt x="0" y="0"/>
                </a:lnTo>
                <a:lnTo>
                  <a:pt x="1400" y="1400"/>
                </a:lnTo>
                <a:lnTo>
                  <a:pt x="1400" y="21183"/>
                </a:lnTo>
                <a:close/>
              </a:path>
              <a:path fill="darken" w="21600" h="22583">
                <a:moveTo>
                  <a:pt x="3794" y="4285"/>
                </a:moveTo>
                <a:lnTo>
                  <a:pt x="17806" y="11291"/>
                </a:lnTo>
                <a:lnTo>
                  <a:pt x="3794" y="18298"/>
                </a:lnTo>
                <a:close/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9" name="TextBox 1"/>
          <p:cNvSpPr/>
          <p:nvPr/>
        </p:nvSpPr>
        <p:spPr>
          <a:xfrm>
            <a:off x="2154240" y="169704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0" name="TextBox 1"/>
          <p:cNvSpPr/>
          <p:nvPr/>
        </p:nvSpPr>
        <p:spPr>
          <a:xfrm>
            <a:off x="1672920" y="1773360"/>
            <a:ext cx="606492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95959"/>
                </a:solidFill>
                <a:latin typeface="Arial"/>
              </a:rPr>
              <a:t>Коллегия Министерства здравоохранения Свердлов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95959"/>
                </a:solidFill>
                <a:latin typeface="Arial"/>
              </a:rPr>
              <a:t>0</a:t>
            </a:r>
            <a:r>
              <a:rPr b="1" lang="en-US" sz="1400" spc="-1" strike="noStrike">
                <a:solidFill>
                  <a:srgbClr val="595959"/>
                </a:solidFill>
                <a:latin typeface="Arial"/>
              </a:rPr>
              <a:t>9</a:t>
            </a:r>
            <a:r>
              <a:rPr b="1" lang="ru-RU" sz="1400" spc="-1" strike="noStrike">
                <a:solidFill>
                  <a:srgbClr val="595959"/>
                </a:solidFill>
                <a:latin typeface="Arial"/>
              </a:rPr>
              <a:t> апреля 201</a:t>
            </a:r>
            <a:r>
              <a:rPr b="1" lang="en-US" sz="1400" spc="-1" strike="noStrike">
                <a:solidFill>
                  <a:srgbClr val="595959"/>
                </a:solidFill>
                <a:latin typeface="Arial"/>
              </a:rPr>
              <a:t>4</a:t>
            </a:r>
            <a:r>
              <a:rPr b="1" lang="ru-RU" sz="1400" spc="-1" strike="noStrike">
                <a:solidFill>
                  <a:srgbClr val="595959"/>
                </a:solidFill>
                <a:latin typeface="Arial"/>
              </a:rPr>
              <a:t> год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PlaceHolder 1"/>
          <p:cNvSpPr>
            <a:spLocks noGrp="1"/>
          </p:cNvSpPr>
          <p:nvPr>
            <p:ph type="title"/>
          </p:nvPr>
        </p:nvSpPr>
        <p:spPr>
          <a:xfrm>
            <a:off x="2771640" y="272520"/>
            <a:ext cx="605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eaf"/>
                </a:solidFill>
                <a:latin typeface="Arial"/>
                <a:ea typeface="Arial"/>
              </a:rPr>
              <a:t>Результаты тематической экспертизы случаев оказания медицинской помощи  в стационаре при остром инфаркте миокарда с проведением тромболитической терап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0" name="Picture 4" descr="D:\Ольга Виноградова\!Т\ТФОМС\Презентация\Картинки для презентации\Лого1.jpg"/>
          <p:cNvPicPr/>
          <p:nvPr/>
        </p:nvPicPr>
        <p:blipFill>
          <a:blip r:embed="rId1"/>
          <a:stretch/>
        </p:blipFill>
        <p:spPr>
          <a:xfrm>
            <a:off x="179280" y="272880"/>
            <a:ext cx="2448000" cy="708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31" name=""/>
          <p:cNvGraphicFramePr/>
          <p:nvPr/>
        </p:nvGraphicFramePr>
        <p:xfrm>
          <a:off x="468360" y="1557360"/>
          <a:ext cx="8318520" cy="4803840"/>
        </p:xfrm>
        <a:graphic>
          <a:graphicData uri="http://schemas.openxmlformats.org/drawingml/2006/table">
            <a:tbl>
              <a:tblPr/>
              <a:tblGrid>
                <a:gridCol w="4032360"/>
                <a:gridCol w="1500120"/>
                <a:gridCol w="1143000"/>
                <a:gridCol w="1643040"/>
              </a:tblGrid>
              <a:tr h="15127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именование МО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ce6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лучаи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лечения  с применением тромболитической терапи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всего за 2013 год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ce6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личество проведенных эксперти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ce6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личество экспертиз с неподтвержденной тромболитической терапией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ce6ff"/>
                    </a:solidFill>
                  </a:tcPr>
                </a:tc>
              </a:tr>
              <a:tr h="6969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ральский институт кардиологии г.Екатеринбур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4faa8"/>
                    </a:solidFill>
                  </a:tcPr>
                </a:tc>
              </a:tr>
              <a:tr h="5716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ОО МО Новая больница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. Екатеринбур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4faa8"/>
                    </a:solidFill>
                  </a:tcPr>
                </a:tc>
              </a:tr>
              <a:tr h="3506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Б №1 г. Первоуральс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4faa8"/>
                    </a:solidFill>
                  </a:tcPr>
                </a:tc>
              </a:tr>
              <a:tr h="3510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еровская ГБ №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4faa8"/>
                    </a:solidFill>
                  </a:tcPr>
                </a:tc>
              </a:tr>
              <a:tr h="289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Б №3 г. К-Ураль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4faa8"/>
                    </a:solidFill>
                  </a:tcPr>
                </a:tc>
              </a:tr>
              <a:tr h="2905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левская ЦГБ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4faa8"/>
                    </a:solidFill>
                  </a:tcPr>
                </a:tc>
              </a:tr>
              <a:tr h="3700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ерезовская ЦГ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4faa8"/>
                    </a:solidFill>
                  </a:tcPr>
                </a:tc>
              </a:tr>
              <a:tr h="3708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то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4faa8"/>
                    </a:solidFill>
                  </a:tcPr>
                </a:tc>
              </a:tr>
            </a:tbl>
          </a:graphicData>
        </a:graphic>
      </p:graphicFrame>
      <p:sp>
        <p:nvSpPr>
          <p:cNvPr id="1632" name="TextBox 5"/>
          <p:cNvSpPr/>
          <p:nvPr/>
        </p:nvSpPr>
        <p:spPr>
          <a:xfrm>
            <a:off x="8674200" y="7128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Text Box 4"/>
          <p:cNvSpPr/>
          <p:nvPr/>
        </p:nvSpPr>
        <p:spPr>
          <a:xfrm>
            <a:off x="2579760" y="189000"/>
            <a:ext cx="61862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eaf"/>
                </a:solidFill>
                <a:latin typeface="Arial"/>
                <a:ea typeface="Arial"/>
              </a:rPr>
              <a:t>Сравнение структуры обоснованных жалоб граждан, зарегистрированных в СМО и ТФОМС Свердловской области за 2012-2013 гг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4" name="Text Box 78"/>
          <p:cNvSpPr/>
          <p:nvPr/>
        </p:nvSpPr>
        <p:spPr>
          <a:xfrm>
            <a:off x="-3057480" y="-1324080"/>
            <a:ext cx="890424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УТВЕРЖДЕНА постановлением Правительства Свердловской области от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19</a:t>
            </a:r>
            <a:r>
              <a:rPr b="1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04</a:t>
            </a:r>
            <a:r>
              <a:rPr b="1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2011</a:t>
            </a:r>
            <a:r>
              <a:rPr b="1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г.  № 431-ПП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5" name="Picture 4" descr="D:\Ольга Виноградова\!Т\ТФОМС\Презентация\Картинки для презентации\Лого1.jpg"/>
          <p:cNvPicPr/>
          <p:nvPr/>
        </p:nvPicPr>
        <p:blipFill>
          <a:blip r:embed="rId1"/>
          <a:stretch/>
        </p:blipFill>
        <p:spPr>
          <a:xfrm>
            <a:off x="131760" y="189000"/>
            <a:ext cx="2448000" cy="707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36" name=""/>
          <p:cNvGraphicFramePr/>
          <p:nvPr/>
        </p:nvGraphicFramePr>
        <p:xfrm>
          <a:off x="4565520" y="1268280"/>
          <a:ext cx="4254480" cy="5324760"/>
        </p:xfrm>
        <a:graphic>
          <a:graphicData uri="http://schemas.openxmlformats.org/drawingml/2006/table">
            <a:tbl>
              <a:tblPr/>
              <a:tblGrid>
                <a:gridCol w="1413000"/>
                <a:gridCol w="681120"/>
                <a:gridCol w="734760"/>
                <a:gridCol w="746280"/>
                <a:gridCol w="679320"/>
              </a:tblGrid>
              <a:tr h="304920">
                <a:tc row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руктура обоснованных жало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2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3 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ст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ст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311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чество медицинской помощ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0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ганизация работы М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311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зимание денежных средст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42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тика и деонтология медицинских работни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42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каз в оказании медицинской помощ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49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руг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37" name="Управляющая кнопка: далее 10">
            <a:hlinkClick r:id="" action="ppaction://hlinkshowjump?jump=nextslide"/>
          </p:cNvPr>
          <p:cNvSpPr/>
          <p:nvPr/>
        </p:nvSpPr>
        <p:spPr>
          <a:xfrm>
            <a:off x="8532720" y="150840"/>
            <a:ext cx="546120" cy="363600"/>
          </a:xfrm>
          <a:custGeom>
            <a:avLst/>
            <a:gdLst>
              <a:gd name="textAreaLeft" fmla="*/ 23400 w 546120"/>
              <a:gd name="textAreaRight" fmla="*/ 522720 w 546120"/>
              <a:gd name="textAreaTop" fmla="*/ 23400 h 363600"/>
              <a:gd name="textAreaBottom" fmla="*/ 340200 h 363600"/>
            </a:gdLst>
            <a:ahLst/>
            <a:rect l="textAreaLeft" t="textAreaTop" r="textAreaRight" b="textAreaBottom"/>
            <a:pathLst>
              <a:path w="32432" h="21600">
                <a:moveTo>
                  <a:pt x="0" y="0"/>
                </a:moveTo>
                <a:lnTo>
                  <a:pt x="32432" y="0"/>
                </a:lnTo>
                <a:lnTo>
                  <a:pt x="32432" y="21600"/>
                </a:lnTo>
                <a:lnTo>
                  <a:pt x="0" y="21600"/>
                </a:lnTo>
                <a:close/>
              </a:path>
              <a:path fill="lightenLess" w="32432" h="21600">
                <a:moveTo>
                  <a:pt x="0" y="0"/>
                </a:moveTo>
                <a:lnTo>
                  <a:pt x="32432" y="0"/>
                </a:lnTo>
                <a:lnTo>
                  <a:pt x="31032" y="1400"/>
                </a:lnTo>
                <a:lnTo>
                  <a:pt x="1400" y="1400"/>
                </a:lnTo>
                <a:close/>
              </a:path>
              <a:path fill="darken" w="32432" h="21600">
                <a:moveTo>
                  <a:pt x="32432" y="0"/>
                </a:moveTo>
                <a:lnTo>
                  <a:pt x="32432" y="21600"/>
                </a:lnTo>
                <a:lnTo>
                  <a:pt x="31032" y="20200"/>
                </a:lnTo>
                <a:lnTo>
                  <a:pt x="31032" y="1400"/>
                </a:lnTo>
                <a:close/>
              </a:path>
              <a:path fill="darkenLess" w="32432" h="21600">
                <a:moveTo>
                  <a:pt x="324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32" y="20200"/>
                </a:lnTo>
                <a:close/>
              </a:path>
              <a:path fill="lighten" w="324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32" h="21600">
                <a:moveTo>
                  <a:pt x="9210" y="3794"/>
                </a:moveTo>
                <a:lnTo>
                  <a:pt x="23223" y="10800"/>
                </a:lnTo>
                <a:lnTo>
                  <a:pt x="9210" y="17806"/>
                </a:lnTo>
                <a:close/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8" name="Объект 3" descr=""/>
          <p:cNvPicPr/>
          <p:nvPr/>
        </p:nvPicPr>
        <p:blipFill>
          <a:blip r:embed="rId2"/>
          <a:stretch/>
        </p:blipFill>
        <p:spPr>
          <a:xfrm>
            <a:off x="406440" y="1217520"/>
            <a:ext cx="4140000" cy="543096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9" name="Picture 4" descr="D:\Ольга Виноградова\!Т\ТФОМС\Презентация\Картинки для презентации\Лого1.jpg"/>
          <p:cNvPicPr/>
          <p:nvPr/>
        </p:nvPicPr>
        <p:blipFill>
          <a:blip r:embed="rId1"/>
          <a:stretch/>
        </p:blipFill>
        <p:spPr>
          <a:xfrm>
            <a:off x="131760" y="189000"/>
            <a:ext cx="2448000" cy="707760"/>
          </a:xfrm>
          <a:prstGeom prst="rect">
            <a:avLst/>
          </a:prstGeom>
          <a:ln w="0">
            <a:noFill/>
          </a:ln>
        </p:spPr>
      </p:pic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2579760" y="43920"/>
            <a:ext cx="6107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eaf"/>
                </a:solidFill>
                <a:latin typeface="Arial"/>
                <a:ea typeface="Arial"/>
              </a:rPr>
              <a:t>Результаты социологического исследования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ru-RU" sz="1800" spc="-1" strike="noStrike">
                <a:solidFill>
                  <a:srgbClr val="006eaf"/>
                </a:solidFill>
                <a:latin typeface="Arial"/>
                <a:ea typeface="Arial"/>
              </a:rPr>
              <a:t>            удовлетворенности граждан доступностью и качеством оказания медицинской помощ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41" name=""/>
          <p:cNvGraphicFramePr/>
          <p:nvPr/>
        </p:nvGraphicFramePr>
        <p:xfrm>
          <a:off x="179280" y="1271520"/>
          <a:ext cx="6337440" cy="1725840"/>
        </p:xfrm>
        <a:graphic>
          <a:graphicData uri="http://schemas.openxmlformats.org/drawingml/2006/table">
            <a:tbl>
              <a:tblPr/>
              <a:tblGrid>
                <a:gridCol w="727200"/>
                <a:gridCol w="2625840"/>
                <a:gridCol w="2984400"/>
              </a:tblGrid>
              <a:tr h="335160">
                <a:tc gridSpan="3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6eaf"/>
                          </a:solidFill>
                          <a:latin typeface="Arial"/>
                        </a:rPr>
                        <a:t>Показатель удовлетворен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57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д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 получении стационарной помощ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 получении амбулаторно-поликлинической помощ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32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17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42" name=""/>
          <p:cNvGraphicFramePr/>
          <p:nvPr/>
        </p:nvGraphicFramePr>
        <p:xfrm>
          <a:off x="324000" y="3068640"/>
          <a:ext cx="6335640" cy="3733920"/>
        </p:xfrm>
        <a:graphic>
          <a:graphicData uri="http://schemas.openxmlformats.org/drawingml/2006/table">
            <a:tbl>
              <a:tblPr/>
              <a:tblGrid>
                <a:gridCol w="2423880"/>
                <a:gridCol w="782640"/>
                <a:gridCol w="2424240"/>
                <a:gridCol w="704880"/>
              </a:tblGrid>
              <a:tr h="579600">
                <a:tc gridSpan="4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6eaf"/>
                          </a:solidFill>
                          <a:latin typeface="Arial"/>
                        </a:rPr>
                        <a:t>Перечень медицинских организаций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6eaf"/>
                          </a:solidFill>
                          <a:latin typeface="Arial"/>
                        </a:rPr>
                        <a:t>имеющих низкие показатели удовлетворен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8040"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 получении стационарной помощ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 получении амбулаторно-поликлинической помощ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ЦРБ Верхотурского р-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ЦРБ Верхотурского р-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65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ГБ №1 г. Нижний Таги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чканарская ЦГ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66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ировградская ЦГ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рамильска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65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волялинская Р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ГБ г. Куш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%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66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осточная Р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осточная Р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03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ерхнесалдинская ЦГ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ерхнесалдинская ЦГ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02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ГБ №3 г. Екатеринбур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рбитская ЦГ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%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43" name="Прямоугольник 6"/>
          <p:cNvSpPr/>
          <p:nvPr/>
        </p:nvSpPr>
        <p:spPr>
          <a:xfrm>
            <a:off x="468360" y="4149720"/>
            <a:ext cx="395928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4" name="TextBox 2"/>
          <p:cNvSpPr/>
          <p:nvPr/>
        </p:nvSpPr>
        <p:spPr>
          <a:xfrm>
            <a:off x="6594480" y="3697200"/>
            <a:ext cx="255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Всего опрошено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в 2013 г. - </a:t>
            </a:r>
            <a:r>
              <a:rPr b="1" lang="ru-RU" sz="1400" spc="-1" strike="noStrike">
                <a:solidFill>
                  <a:srgbClr val="dc281e"/>
                </a:solidFill>
                <a:latin typeface="Arial"/>
                <a:ea typeface="Arial"/>
              </a:rPr>
              <a:t>5 350 челове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5" name="Управляющая кнопка: далее 7">
            <a:hlinkClick r:id="" action="ppaction://hlinkshowjump?jump=nextslide"/>
          </p:cNvPr>
          <p:cNvSpPr/>
          <p:nvPr/>
        </p:nvSpPr>
        <p:spPr>
          <a:xfrm>
            <a:off x="8532720" y="150840"/>
            <a:ext cx="546120" cy="363600"/>
          </a:xfrm>
          <a:custGeom>
            <a:avLst/>
            <a:gdLst>
              <a:gd name="textAreaLeft" fmla="*/ 23400 w 546120"/>
              <a:gd name="textAreaRight" fmla="*/ 522720 w 546120"/>
              <a:gd name="textAreaTop" fmla="*/ 23400 h 363600"/>
              <a:gd name="textAreaBottom" fmla="*/ 340200 h 363600"/>
            </a:gdLst>
            <a:ahLst/>
            <a:rect l="textAreaLeft" t="textAreaTop" r="textAreaRight" b="textAreaBottom"/>
            <a:pathLst>
              <a:path w="32432" h="21600">
                <a:moveTo>
                  <a:pt x="0" y="0"/>
                </a:moveTo>
                <a:lnTo>
                  <a:pt x="32432" y="0"/>
                </a:lnTo>
                <a:lnTo>
                  <a:pt x="32432" y="21600"/>
                </a:lnTo>
                <a:lnTo>
                  <a:pt x="0" y="21600"/>
                </a:lnTo>
                <a:close/>
              </a:path>
              <a:path fill="lightenLess" w="32432" h="21600">
                <a:moveTo>
                  <a:pt x="0" y="0"/>
                </a:moveTo>
                <a:lnTo>
                  <a:pt x="32432" y="0"/>
                </a:lnTo>
                <a:lnTo>
                  <a:pt x="31032" y="1400"/>
                </a:lnTo>
                <a:lnTo>
                  <a:pt x="1400" y="1400"/>
                </a:lnTo>
                <a:close/>
              </a:path>
              <a:path fill="darken" w="32432" h="21600">
                <a:moveTo>
                  <a:pt x="32432" y="0"/>
                </a:moveTo>
                <a:lnTo>
                  <a:pt x="32432" y="21600"/>
                </a:lnTo>
                <a:lnTo>
                  <a:pt x="31032" y="20200"/>
                </a:lnTo>
                <a:lnTo>
                  <a:pt x="31032" y="1400"/>
                </a:lnTo>
                <a:close/>
              </a:path>
              <a:path fill="darkenLess" w="32432" h="21600">
                <a:moveTo>
                  <a:pt x="324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32" y="20200"/>
                </a:lnTo>
                <a:close/>
              </a:path>
              <a:path fill="lighten" w="324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32" h="21600">
                <a:moveTo>
                  <a:pt x="9210" y="3794"/>
                </a:moveTo>
                <a:lnTo>
                  <a:pt x="23223" y="10800"/>
                </a:lnTo>
                <a:lnTo>
                  <a:pt x="9210" y="17806"/>
                </a:lnTo>
                <a:close/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46" name="Picture 73" descr="D:\Картинки для презентаций\1326826030_1.gif"/>
          <p:cNvPicPr/>
          <p:nvPr/>
        </p:nvPicPr>
        <p:blipFill>
          <a:blip r:embed="rId2"/>
          <a:stretch/>
        </p:blipFill>
        <p:spPr>
          <a:xfrm>
            <a:off x="7064280" y="2492280"/>
            <a:ext cx="1616040" cy="1212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7" name="Picture 4" descr="D:\Ольга Виноградова\!Т\ТФОМС\Презентация\Картинки для презентации\Лого1.jpg"/>
          <p:cNvPicPr/>
          <p:nvPr/>
        </p:nvPicPr>
        <p:blipFill>
          <a:blip r:embed="rId1"/>
          <a:stretch/>
        </p:blipFill>
        <p:spPr>
          <a:xfrm>
            <a:off x="611280" y="333360"/>
            <a:ext cx="2448000" cy="706320"/>
          </a:xfrm>
          <a:prstGeom prst="rect">
            <a:avLst/>
          </a:prstGeom>
          <a:ln w="0">
            <a:noFill/>
          </a:ln>
        </p:spPr>
      </p:pic>
      <p:sp>
        <p:nvSpPr>
          <p:cNvPr id="1648" name="Прямоугольник 1"/>
          <p:cNvSpPr/>
          <p:nvPr/>
        </p:nvSpPr>
        <p:spPr>
          <a:xfrm>
            <a:off x="2859120" y="344520"/>
            <a:ext cx="6465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eaf"/>
                </a:solidFill>
                <a:latin typeface="Arial"/>
                <a:ea typeface="Arial"/>
              </a:rPr>
              <a:t>Показатели бюджета ТФОМС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eaf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006eaf"/>
                </a:solidFill>
                <a:latin typeface="Arial"/>
                <a:ea typeface="Arial"/>
              </a:rPr>
              <a:t>млн. руб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9" name="Управляющая кнопка: далее 13">
            <a:hlinkClick r:id="" action="ppaction://hlinkshowjump?jump=nextslide"/>
          </p:cNvPr>
          <p:cNvSpPr/>
          <p:nvPr/>
        </p:nvSpPr>
        <p:spPr>
          <a:xfrm>
            <a:off x="8532720" y="150840"/>
            <a:ext cx="546120" cy="363600"/>
          </a:xfrm>
          <a:custGeom>
            <a:avLst/>
            <a:gdLst>
              <a:gd name="textAreaLeft" fmla="*/ 23400 w 546120"/>
              <a:gd name="textAreaRight" fmla="*/ 522720 w 546120"/>
              <a:gd name="textAreaTop" fmla="*/ 23400 h 363600"/>
              <a:gd name="textAreaBottom" fmla="*/ 340200 h 363600"/>
            </a:gdLst>
            <a:ahLst/>
            <a:rect l="textAreaLeft" t="textAreaTop" r="textAreaRight" b="textAreaBottom"/>
            <a:pathLst>
              <a:path w="32432" h="21600">
                <a:moveTo>
                  <a:pt x="0" y="0"/>
                </a:moveTo>
                <a:lnTo>
                  <a:pt x="32432" y="0"/>
                </a:lnTo>
                <a:lnTo>
                  <a:pt x="32432" y="21600"/>
                </a:lnTo>
                <a:lnTo>
                  <a:pt x="0" y="21600"/>
                </a:lnTo>
                <a:close/>
              </a:path>
              <a:path fill="lightenLess" w="32432" h="21600">
                <a:moveTo>
                  <a:pt x="0" y="0"/>
                </a:moveTo>
                <a:lnTo>
                  <a:pt x="32432" y="0"/>
                </a:lnTo>
                <a:lnTo>
                  <a:pt x="31032" y="1400"/>
                </a:lnTo>
                <a:lnTo>
                  <a:pt x="1400" y="1400"/>
                </a:lnTo>
                <a:close/>
              </a:path>
              <a:path fill="darken" w="32432" h="21600">
                <a:moveTo>
                  <a:pt x="32432" y="0"/>
                </a:moveTo>
                <a:lnTo>
                  <a:pt x="32432" y="21600"/>
                </a:lnTo>
                <a:lnTo>
                  <a:pt x="31032" y="20200"/>
                </a:lnTo>
                <a:lnTo>
                  <a:pt x="31032" y="1400"/>
                </a:lnTo>
                <a:close/>
              </a:path>
              <a:path fill="darkenLess" w="32432" h="21600">
                <a:moveTo>
                  <a:pt x="324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32" y="20200"/>
                </a:lnTo>
                <a:close/>
              </a:path>
              <a:path fill="lighten" w="324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32" h="21600">
                <a:moveTo>
                  <a:pt x="9210" y="3794"/>
                </a:moveTo>
                <a:lnTo>
                  <a:pt x="23223" y="10800"/>
                </a:lnTo>
                <a:lnTo>
                  <a:pt x="9210" y="17806"/>
                </a:lnTo>
                <a:close/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0" name="TextBox 9"/>
          <p:cNvSpPr/>
          <p:nvPr/>
        </p:nvSpPr>
        <p:spPr>
          <a:xfrm>
            <a:off x="581400" y="4933800"/>
            <a:ext cx="82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eaf"/>
                </a:solidFill>
                <a:latin typeface="Arial"/>
                <a:ea typeface="Arial"/>
              </a:rPr>
              <a:t>2013 г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eaf"/>
                </a:solidFill>
                <a:latin typeface="Arial"/>
                <a:ea typeface="Arial"/>
              </a:rPr>
              <a:t>(факт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1" name="TextBox 22"/>
          <p:cNvSpPr/>
          <p:nvPr/>
        </p:nvSpPr>
        <p:spPr>
          <a:xfrm>
            <a:off x="3075120" y="4929120"/>
            <a:ext cx="82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eaf"/>
                </a:solidFill>
                <a:latin typeface="Arial"/>
                <a:ea typeface="Arial"/>
              </a:rPr>
              <a:t>2014 г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eaf"/>
                </a:solidFill>
                <a:latin typeface="Arial"/>
                <a:ea typeface="Arial"/>
              </a:rPr>
              <a:t>(план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2" name="Стрелка вправо 17"/>
          <p:cNvSpPr/>
          <p:nvPr/>
        </p:nvSpPr>
        <p:spPr>
          <a:xfrm rot="21028800">
            <a:off x="1698480" y="3179880"/>
            <a:ext cx="1175040" cy="295200"/>
          </a:xfrm>
          <a:prstGeom prst="rightArrow">
            <a:avLst>
              <a:gd name="adj1" fmla="val 50000"/>
              <a:gd name="adj2" fmla="val 50032"/>
            </a:avLst>
          </a:prstGeom>
          <a:solidFill>
            <a:srgbClr val="1f497d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3" name="TextBox 28"/>
          <p:cNvSpPr/>
          <p:nvPr/>
        </p:nvSpPr>
        <p:spPr>
          <a:xfrm>
            <a:off x="1816560" y="2833560"/>
            <a:ext cx="81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c281e"/>
                </a:solidFill>
                <a:latin typeface="Arial"/>
                <a:ea typeface="Arial"/>
              </a:rPr>
              <a:t>+ </a:t>
            </a:r>
            <a:r>
              <a:rPr b="1" lang="ru-RU" sz="1600" spc="-1" strike="noStrike">
                <a:solidFill>
                  <a:srgbClr val="dc281e"/>
                </a:solidFill>
                <a:latin typeface="Arial"/>
                <a:ea typeface="Arial"/>
              </a:rPr>
              <a:t>4,1%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54" name="Прямоугольник 18"/>
          <p:cNvGrpSpPr/>
          <p:nvPr/>
        </p:nvGrpSpPr>
        <p:grpSpPr>
          <a:xfrm>
            <a:off x="560520" y="3560760"/>
            <a:ext cx="907920" cy="1255680"/>
            <a:chOff x="560520" y="3560760"/>
            <a:chExt cx="907920" cy="1255680"/>
          </a:xfrm>
        </p:grpSpPr>
        <p:pic>
          <p:nvPicPr>
            <p:cNvPr id="1655" name="Прямоугольник 18" descr=""/>
            <p:cNvPicPr/>
            <p:nvPr/>
          </p:nvPicPr>
          <p:blipFill>
            <a:blip r:embed="rId2"/>
            <a:stretch/>
          </p:blipFill>
          <p:spPr>
            <a:xfrm>
              <a:off x="560520" y="3560760"/>
              <a:ext cx="907920" cy="125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6" name=""/>
            <p:cNvSpPr/>
            <p:nvPr/>
          </p:nvSpPr>
          <p:spPr>
            <a:xfrm>
              <a:off x="576360" y="3570120"/>
              <a:ext cx="882720" cy="12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57" name="Прямая соединительная линия 21"/>
          <p:cNvSpPr/>
          <p:nvPr/>
        </p:nvSpPr>
        <p:spPr>
          <a:xfrm>
            <a:off x="3038400" y="3570120"/>
            <a:ext cx="88416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58" name="Прямоугольник 34"/>
          <p:cNvGrpSpPr/>
          <p:nvPr/>
        </p:nvGrpSpPr>
        <p:grpSpPr>
          <a:xfrm>
            <a:off x="3024360" y="3584520"/>
            <a:ext cx="907920" cy="1255680"/>
            <a:chOff x="3024360" y="3584520"/>
            <a:chExt cx="907920" cy="1255680"/>
          </a:xfrm>
        </p:grpSpPr>
        <p:pic>
          <p:nvPicPr>
            <p:cNvPr id="1659" name="Прямоугольник 34" descr=""/>
            <p:cNvPicPr/>
            <p:nvPr/>
          </p:nvPicPr>
          <p:blipFill>
            <a:blip r:embed="rId3"/>
            <a:stretch/>
          </p:blipFill>
          <p:spPr>
            <a:xfrm>
              <a:off x="3024360" y="3584520"/>
              <a:ext cx="907920" cy="125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0" name=""/>
            <p:cNvSpPr/>
            <p:nvPr/>
          </p:nvSpPr>
          <p:spPr>
            <a:xfrm>
              <a:off x="3038400" y="3598920"/>
              <a:ext cx="884160" cy="12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61" name="Прямоугольник 24"/>
          <p:cNvSpPr/>
          <p:nvPr/>
        </p:nvSpPr>
        <p:spPr>
          <a:xfrm>
            <a:off x="3038400" y="3327480"/>
            <a:ext cx="884160" cy="2426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2" name="Левая фигурная скобка 25"/>
          <p:cNvSpPr/>
          <p:nvPr/>
        </p:nvSpPr>
        <p:spPr>
          <a:xfrm flipH="1">
            <a:off x="4042800" y="3327480"/>
            <a:ext cx="169560" cy="242640"/>
          </a:xfrm>
          <a:custGeom>
            <a:avLst/>
            <a:gdLst>
              <a:gd name="textAreaLeft" fmla="*/ 108360 w 169560"/>
              <a:gd name="textAreaRight" fmla="*/ 169920 w 169560"/>
              <a:gd name="textAreaTop" fmla="*/ 4320 h 242640"/>
              <a:gd name="textAreaBottom" fmla="*/ 238320 h 242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30"/>
                  <a:pt x="10800" y="1259"/>
                </a:cubicBezTo>
                <a:lnTo>
                  <a:pt x="10800" y="9541"/>
                </a:lnTo>
                <a:cubicBezTo>
                  <a:pt x="10800" y="10171"/>
                  <a:pt x="5400" y="10800"/>
                  <a:pt x="0" y="10800"/>
                </a:cubicBezTo>
                <a:cubicBezTo>
                  <a:pt x="5400" y="10800"/>
                  <a:pt x="10800" y="11430"/>
                  <a:pt x="10800" y="12059"/>
                </a:cubicBezTo>
                <a:lnTo>
                  <a:pt x="10800" y="20341"/>
                </a:lnTo>
                <a:cubicBezTo>
                  <a:pt x="10800" y="20971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3" name="TextBox 37"/>
          <p:cNvSpPr/>
          <p:nvPr/>
        </p:nvSpPr>
        <p:spPr>
          <a:xfrm>
            <a:off x="4264560" y="3281400"/>
            <a:ext cx="8575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1 647,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4" name="TextBox 38"/>
          <p:cNvSpPr/>
          <p:nvPr/>
        </p:nvSpPr>
        <p:spPr>
          <a:xfrm>
            <a:off x="545760" y="3208320"/>
            <a:ext cx="97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40 643,7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5" name="TextBox 39"/>
          <p:cNvSpPr/>
          <p:nvPr/>
        </p:nvSpPr>
        <p:spPr>
          <a:xfrm>
            <a:off x="3018240" y="2943360"/>
            <a:ext cx="97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42 291,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6" name="TextBox 1"/>
          <p:cNvSpPr/>
          <p:nvPr/>
        </p:nvSpPr>
        <p:spPr>
          <a:xfrm>
            <a:off x="5292000" y="1766880"/>
            <a:ext cx="377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eaf"/>
                </a:solidFill>
                <a:latin typeface="Arial"/>
                <a:ea typeface="Calibri"/>
              </a:rPr>
              <a:t>Дополнительные расходы в 2014 г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7" name="Прямая соединительная линия 3"/>
          <p:cNvSpPr/>
          <p:nvPr/>
        </p:nvSpPr>
        <p:spPr>
          <a:xfrm>
            <a:off x="324000" y="2257560"/>
            <a:ext cx="467964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8" name="TextBox 20"/>
          <p:cNvSpPr/>
          <p:nvPr/>
        </p:nvSpPr>
        <p:spPr>
          <a:xfrm>
            <a:off x="1259280" y="1751040"/>
            <a:ext cx="247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eaf"/>
                </a:solidFill>
                <a:latin typeface="Arial"/>
                <a:ea typeface="Calibri"/>
              </a:rPr>
              <a:t>Доходы в 2013-2014</a:t>
            </a:r>
            <a:r>
              <a:rPr b="1" lang="en-US" sz="1600" spc="-1" strike="noStrike">
                <a:solidFill>
                  <a:srgbClr val="006eaf"/>
                </a:solidFill>
                <a:latin typeface="Arial"/>
                <a:ea typeface="Calibri"/>
              </a:rPr>
              <a:t> </a:t>
            </a:r>
            <a:r>
              <a:rPr b="1" lang="ru-RU" sz="1600" spc="-1" strike="noStrike">
                <a:solidFill>
                  <a:srgbClr val="006eaf"/>
                </a:solidFill>
                <a:latin typeface="Arial"/>
                <a:ea typeface="Calibri"/>
              </a:rPr>
              <a:t>гг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9" name="Прямая соединительная линия 6"/>
          <p:cNvSpPr/>
          <p:nvPr/>
        </p:nvSpPr>
        <p:spPr>
          <a:xfrm>
            <a:off x="5364000" y="2257560"/>
            <a:ext cx="351324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0" name="TextBox 39"/>
          <p:cNvSpPr/>
          <p:nvPr/>
        </p:nvSpPr>
        <p:spPr>
          <a:xfrm>
            <a:off x="5296680" y="3597120"/>
            <a:ext cx="1590480" cy="763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c281e"/>
                </a:solidFill>
                <a:latin typeface="Arial"/>
                <a:ea typeface="Arial"/>
              </a:rPr>
              <a:t>1 496,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Финансирова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ВМП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1" name="TextBox 39"/>
          <p:cNvSpPr/>
          <p:nvPr/>
        </p:nvSpPr>
        <p:spPr>
          <a:xfrm>
            <a:off x="6994440" y="3578400"/>
            <a:ext cx="1898640" cy="140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c281e"/>
                </a:solidFill>
                <a:latin typeface="Arial"/>
                <a:ea typeface="Arial"/>
              </a:rPr>
              <a:t>   </a:t>
            </a:r>
            <a:r>
              <a:rPr b="1" lang="ru-RU" sz="1600" spc="-1" strike="noStrike">
                <a:solidFill>
                  <a:srgbClr val="dc281e"/>
                </a:solidFill>
                <a:latin typeface="Arial"/>
                <a:ea typeface="Arial"/>
              </a:rPr>
              <a:t>121,5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финансирование СМП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оказываемой учреждениями ФМБ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2" name="Прямая соединительная линия 8"/>
          <p:cNvSpPr/>
          <p:nvPr/>
        </p:nvSpPr>
        <p:spPr>
          <a:xfrm>
            <a:off x="5219640" y="2473200"/>
            <a:ext cx="0" cy="30402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3" name="TextBox 39"/>
          <p:cNvSpPr/>
          <p:nvPr/>
        </p:nvSpPr>
        <p:spPr>
          <a:xfrm>
            <a:off x="6495120" y="2509920"/>
            <a:ext cx="8575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c281e"/>
                </a:solidFill>
                <a:latin typeface="Arial"/>
                <a:ea typeface="Arial"/>
              </a:rPr>
              <a:t>1617</a:t>
            </a:r>
            <a:r>
              <a:rPr b="1" lang="ru-RU" sz="1600" spc="-1" strike="noStrike">
                <a:solidFill>
                  <a:srgbClr val="dc281e"/>
                </a:solidFill>
                <a:latin typeface="Arial"/>
                <a:ea typeface="Arial"/>
              </a:rPr>
              <a:t>,</a:t>
            </a:r>
            <a:r>
              <a:rPr b="1" lang="en-US" sz="1600" spc="-1" strike="noStrike">
                <a:solidFill>
                  <a:srgbClr val="dc281e"/>
                </a:solidFill>
                <a:latin typeface="Arial"/>
                <a:ea typeface="Arial"/>
              </a:rPr>
              <a:t> 9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4" name="Стрелка вправо 38"/>
          <p:cNvSpPr/>
          <p:nvPr/>
        </p:nvSpPr>
        <p:spPr>
          <a:xfrm rot="2442000">
            <a:off x="7326000" y="3154320"/>
            <a:ext cx="646200" cy="295200"/>
          </a:xfrm>
          <a:prstGeom prst="rightArrow">
            <a:avLst>
              <a:gd name="adj1" fmla="val 50000"/>
              <a:gd name="adj2" fmla="val 50023"/>
            </a:avLst>
          </a:prstGeom>
          <a:solidFill>
            <a:srgbClr val="1f497d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5" name="Стрелка вправо 39"/>
          <p:cNvSpPr/>
          <p:nvPr/>
        </p:nvSpPr>
        <p:spPr>
          <a:xfrm rot="8209800">
            <a:off x="5827320" y="3149640"/>
            <a:ext cx="646200" cy="295200"/>
          </a:xfrm>
          <a:prstGeom prst="rightArrow">
            <a:avLst>
              <a:gd name="adj1" fmla="val 50000"/>
              <a:gd name="adj2" fmla="val 50023"/>
            </a:avLst>
          </a:prstGeom>
          <a:solidFill>
            <a:srgbClr val="1f497d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ll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6" name="Picture 4" descr="D:\Ольга Виноградова\!Т\ТФОМС\Презентация\Картинки для презентации\Лого1.jpg"/>
          <p:cNvPicPr/>
          <p:nvPr/>
        </p:nvPicPr>
        <p:blipFill>
          <a:blip r:embed="rId1"/>
          <a:stretch/>
        </p:blipFill>
        <p:spPr>
          <a:xfrm>
            <a:off x="611280" y="333360"/>
            <a:ext cx="2448000" cy="706320"/>
          </a:xfrm>
          <a:prstGeom prst="rect">
            <a:avLst/>
          </a:prstGeom>
          <a:ln w="0">
            <a:noFill/>
          </a:ln>
        </p:spPr>
      </p:pic>
      <p:sp>
        <p:nvSpPr>
          <p:cNvPr id="1677" name="Прямоугольник 1"/>
          <p:cNvSpPr/>
          <p:nvPr/>
        </p:nvSpPr>
        <p:spPr>
          <a:xfrm>
            <a:off x="2700360" y="260280"/>
            <a:ext cx="6465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eaf"/>
                </a:solidFill>
                <a:latin typeface="Arial"/>
                <a:ea typeface="Arial"/>
              </a:rPr>
              <a:t>Сравнение утвержденных показателей Территориальной программы ОМ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eaf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006eaf"/>
                </a:solidFill>
                <a:latin typeface="Arial"/>
                <a:ea typeface="Arial"/>
              </a:rPr>
              <a:t>на 2013 и 2014 гг., млн. руб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8" name="Управляющая кнопка: далее 13">
            <a:hlinkClick r:id="" action="ppaction://hlinkshowjump?jump=nextslide"/>
          </p:cNvPr>
          <p:cNvSpPr/>
          <p:nvPr/>
        </p:nvSpPr>
        <p:spPr>
          <a:xfrm>
            <a:off x="8532720" y="150840"/>
            <a:ext cx="546120" cy="363600"/>
          </a:xfrm>
          <a:custGeom>
            <a:avLst/>
            <a:gdLst>
              <a:gd name="textAreaLeft" fmla="*/ 23400 w 546120"/>
              <a:gd name="textAreaRight" fmla="*/ 522720 w 546120"/>
              <a:gd name="textAreaTop" fmla="*/ 23400 h 363600"/>
              <a:gd name="textAreaBottom" fmla="*/ 340200 h 363600"/>
            </a:gdLst>
            <a:ahLst/>
            <a:rect l="textAreaLeft" t="textAreaTop" r="textAreaRight" b="textAreaBottom"/>
            <a:pathLst>
              <a:path w="32432" h="21600">
                <a:moveTo>
                  <a:pt x="0" y="0"/>
                </a:moveTo>
                <a:lnTo>
                  <a:pt x="32432" y="0"/>
                </a:lnTo>
                <a:lnTo>
                  <a:pt x="32432" y="21600"/>
                </a:lnTo>
                <a:lnTo>
                  <a:pt x="0" y="21600"/>
                </a:lnTo>
                <a:close/>
              </a:path>
              <a:path fill="lightenLess" w="32432" h="21600">
                <a:moveTo>
                  <a:pt x="0" y="0"/>
                </a:moveTo>
                <a:lnTo>
                  <a:pt x="32432" y="0"/>
                </a:lnTo>
                <a:lnTo>
                  <a:pt x="31032" y="1400"/>
                </a:lnTo>
                <a:lnTo>
                  <a:pt x="1400" y="1400"/>
                </a:lnTo>
                <a:close/>
              </a:path>
              <a:path fill="darken" w="32432" h="21600">
                <a:moveTo>
                  <a:pt x="32432" y="0"/>
                </a:moveTo>
                <a:lnTo>
                  <a:pt x="32432" y="21600"/>
                </a:lnTo>
                <a:lnTo>
                  <a:pt x="31032" y="20200"/>
                </a:lnTo>
                <a:lnTo>
                  <a:pt x="31032" y="1400"/>
                </a:lnTo>
                <a:close/>
              </a:path>
              <a:path fill="darkenLess" w="32432" h="21600">
                <a:moveTo>
                  <a:pt x="324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32" y="20200"/>
                </a:lnTo>
                <a:close/>
              </a:path>
              <a:path fill="lighten" w="324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32" h="21600">
                <a:moveTo>
                  <a:pt x="9210" y="3794"/>
                </a:moveTo>
                <a:lnTo>
                  <a:pt x="23223" y="10800"/>
                </a:lnTo>
                <a:lnTo>
                  <a:pt x="9210" y="17806"/>
                </a:lnTo>
                <a:close/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79" name=""/>
          <p:cNvGraphicFramePr/>
          <p:nvPr/>
        </p:nvGraphicFramePr>
        <p:xfrm>
          <a:off x="468360" y="1504800"/>
          <a:ext cx="8136000" cy="3313440"/>
        </p:xfrm>
        <a:graphic>
          <a:graphicData uri="http://schemas.openxmlformats.org/drawingml/2006/table">
            <a:tbl>
              <a:tblPr/>
              <a:tblGrid>
                <a:gridCol w="3638520"/>
                <a:gridCol w="1206360"/>
                <a:gridCol w="1206720"/>
                <a:gridCol w="1041480"/>
                <a:gridCol w="1042920"/>
              </a:tblGrid>
              <a:tr h="36036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казатели Территориальной программ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3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4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4 г. /2013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бс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4446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ходы на Территориальную программу ОМС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4faa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 </a:t>
                      </a: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0</a:t>
                      </a: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4faa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 291,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4faa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320,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4faa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3,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4faa8"/>
                    </a:solidFill>
                  </a:tcPr>
                </a:tc>
              </a:tr>
              <a:tr h="4111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ходы на оплату медицинской помощ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4faa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 139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4faa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 445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4faa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06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4faa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3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4faa8"/>
                    </a:solidFill>
                  </a:tcPr>
                </a:tc>
              </a:tr>
              <a:tr h="41292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том числе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корая медицинская помощ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038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207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8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5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480960">
                <a:tc>
                  <a:txBody>
                    <a:bodyPr lIns="171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мбулаторная помощ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71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590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240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50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2000">
                <a:tc>
                  <a:txBody>
                    <a:bodyPr lIns="171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т. ч. без гемодиализ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71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 807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 240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2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3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80" name=""/>
          <p:cNvGraphicFramePr/>
          <p:nvPr/>
        </p:nvGraphicFramePr>
        <p:xfrm>
          <a:off x="468360" y="5826240"/>
          <a:ext cx="8136000" cy="411120"/>
        </p:xfrm>
        <a:graphic>
          <a:graphicData uri="http://schemas.openxmlformats.org/drawingml/2006/table">
            <a:tbl>
              <a:tblPr/>
              <a:tblGrid>
                <a:gridCol w="3638520"/>
                <a:gridCol w="1206360"/>
                <a:gridCol w="1206720"/>
                <a:gridCol w="1041480"/>
                <a:gridCol w="1042920"/>
              </a:tblGrid>
              <a:tr h="41112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ционарная помощ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 447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 440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7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81" name=""/>
          <p:cNvGraphicFramePr/>
          <p:nvPr/>
        </p:nvGraphicFramePr>
        <p:xfrm>
          <a:off x="468360" y="4889520"/>
          <a:ext cx="8136000" cy="865080"/>
        </p:xfrm>
        <a:graphic>
          <a:graphicData uri="http://schemas.openxmlformats.org/drawingml/2006/table">
            <a:tbl>
              <a:tblPr/>
              <a:tblGrid>
                <a:gridCol w="3638520"/>
                <a:gridCol w="1206360"/>
                <a:gridCol w="1206720"/>
                <a:gridCol w="1041480"/>
                <a:gridCol w="1042920"/>
              </a:tblGrid>
              <a:tr h="411120">
                <a:tc>
                  <a:txBody>
                    <a:bodyPr lIns="8568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ционарозамещающая помощ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568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062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557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94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2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3960">
                <a:tc>
                  <a:txBody>
                    <a:bodyPr lIns="171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т.ч. без гемодиализ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71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062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65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2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8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</a:tbl>
          </a:graphicData>
        </a:graphic>
      </p:graphicFrame>
    </p:spTree>
  </p:cSld>
  <p:transition spd="slow">
    <p:pull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2" name="Picture 4" descr="D:\Ольга Виноградова\!Т\ТФОМС\Презентация\Картинки для презентации\Лого1.jpg"/>
          <p:cNvPicPr/>
          <p:nvPr/>
        </p:nvPicPr>
        <p:blipFill>
          <a:blip r:embed="rId1"/>
          <a:stretch/>
        </p:blipFill>
        <p:spPr>
          <a:xfrm>
            <a:off x="611280" y="333360"/>
            <a:ext cx="2448000" cy="706320"/>
          </a:xfrm>
          <a:prstGeom prst="rect">
            <a:avLst/>
          </a:prstGeom>
          <a:ln w="0">
            <a:noFill/>
          </a:ln>
        </p:spPr>
      </p:pic>
      <p:sp>
        <p:nvSpPr>
          <p:cNvPr id="1683" name="Прямоугольник 1"/>
          <p:cNvSpPr/>
          <p:nvPr/>
        </p:nvSpPr>
        <p:spPr>
          <a:xfrm>
            <a:off x="3000240" y="285840"/>
            <a:ext cx="5929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70c0"/>
                </a:solidFill>
                <a:latin typeface="Arial"/>
                <a:ea typeface="Arial"/>
              </a:rPr>
              <a:t>Основные задачи участников системы ОМС на 2014 год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4" name="Скругленный прямоугольник 8"/>
          <p:cNvSpPr/>
          <p:nvPr/>
        </p:nvSpPr>
        <p:spPr>
          <a:xfrm>
            <a:off x="571680" y="3929040"/>
            <a:ext cx="7786440" cy="78588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25560">
            <a:solidFill>
              <a:srgbClr val="4744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Совершенствование технологии оплаты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медицинской помощ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5" name="Скругленный прямоугольник 11"/>
          <p:cNvSpPr/>
          <p:nvPr/>
        </p:nvSpPr>
        <p:spPr>
          <a:xfrm>
            <a:off x="611280" y="1266840"/>
            <a:ext cx="7777080" cy="73332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25560">
            <a:solidFill>
              <a:srgbClr val="4744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Arial"/>
                <a:ea typeface="Arial"/>
              </a:rPr>
              <a:t>Развитие стационарозамещающих технологий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6" name="Управляющая кнопка: далее 12">
            <a:hlinkClick r:id="" action="ppaction://hlinkshowjump?jump=nextslide"/>
          </p:cNvPr>
          <p:cNvSpPr/>
          <p:nvPr/>
        </p:nvSpPr>
        <p:spPr>
          <a:xfrm>
            <a:off x="8607600" y="65160"/>
            <a:ext cx="492120" cy="363600"/>
          </a:xfrm>
          <a:custGeom>
            <a:avLst/>
            <a:gdLst>
              <a:gd name="textAreaLeft" fmla="*/ 23400 w 492120"/>
              <a:gd name="textAreaRight" fmla="*/ 468720 w 492120"/>
              <a:gd name="textAreaTop" fmla="*/ 23400 h 363600"/>
              <a:gd name="textAreaBottom" fmla="*/ 340200 h 363600"/>
            </a:gdLst>
            <a:ahLst/>
            <a:rect l="textAreaLeft" t="textAreaTop" r="textAreaRight" b="textAreaBottom"/>
            <a:pathLst>
              <a:path w="29227" h="21600">
                <a:moveTo>
                  <a:pt x="0" y="0"/>
                </a:moveTo>
                <a:lnTo>
                  <a:pt x="29227" y="0"/>
                </a:lnTo>
                <a:lnTo>
                  <a:pt x="29227" y="21600"/>
                </a:lnTo>
                <a:lnTo>
                  <a:pt x="0" y="21600"/>
                </a:lnTo>
                <a:close/>
              </a:path>
              <a:path fill="lightenLess" w="29227" h="21600">
                <a:moveTo>
                  <a:pt x="0" y="0"/>
                </a:moveTo>
                <a:lnTo>
                  <a:pt x="29227" y="0"/>
                </a:lnTo>
                <a:lnTo>
                  <a:pt x="27827" y="1400"/>
                </a:lnTo>
                <a:lnTo>
                  <a:pt x="1400" y="1400"/>
                </a:lnTo>
                <a:close/>
              </a:path>
              <a:path fill="darken" w="29227" h="21600">
                <a:moveTo>
                  <a:pt x="29227" y="0"/>
                </a:moveTo>
                <a:lnTo>
                  <a:pt x="29227" y="21600"/>
                </a:lnTo>
                <a:lnTo>
                  <a:pt x="27827" y="20200"/>
                </a:lnTo>
                <a:lnTo>
                  <a:pt x="27827" y="1400"/>
                </a:lnTo>
                <a:close/>
              </a:path>
              <a:path fill="darkenLess" w="29227" h="21600">
                <a:moveTo>
                  <a:pt x="292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27" y="20200"/>
                </a:lnTo>
                <a:close/>
              </a:path>
              <a:path fill="lighten" w="292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227" h="21600">
                <a:moveTo>
                  <a:pt x="7607" y="3794"/>
                </a:moveTo>
                <a:lnTo>
                  <a:pt x="21620" y="10800"/>
                </a:lnTo>
                <a:lnTo>
                  <a:pt x="7607" y="17806"/>
                </a:lnTo>
                <a:close/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7" name="Скругленный прямоугольник 6"/>
          <p:cNvSpPr/>
          <p:nvPr/>
        </p:nvSpPr>
        <p:spPr>
          <a:xfrm>
            <a:off x="611280" y="2143080"/>
            <a:ext cx="7777080" cy="71460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25560">
            <a:solidFill>
              <a:srgbClr val="4744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Выполнение требований «Дорожной карты»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8" name="Скругленный прямоугольник 7"/>
          <p:cNvSpPr/>
          <p:nvPr/>
        </p:nvSpPr>
        <p:spPr>
          <a:xfrm>
            <a:off x="642960" y="3000240"/>
            <a:ext cx="7715160" cy="75564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25560">
            <a:solidFill>
              <a:srgbClr val="4744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Оптимизация медицинских организаций  и сокращение неэффективных расходов лечебной се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9" name="Прямая соединительная линия 9"/>
          <p:cNvSpPr/>
          <p:nvPr/>
        </p:nvSpPr>
        <p:spPr>
          <a:xfrm>
            <a:off x="468360" y="6715080"/>
            <a:ext cx="8207280" cy="0"/>
          </a:xfrm>
          <a:prstGeom prst="line">
            <a:avLst/>
          </a:prstGeom>
          <a:ln w="19080">
            <a:solidFill>
              <a:srgbClr val="dc28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0" name="Скругленный прямоугольник 13"/>
          <p:cNvSpPr/>
          <p:nvPr/>
        </p:nvSpPr>
        <p:spPr>
          <a:xfrm>
            <a:off x="571680" y="4857840"/>
            <a:ext cx="7777080" cy="78588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25560">
            <a:solidFill>
              <a:srgbClr val="4744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Повышение информированности населения об объемах и сроках предоставления гарантированной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медицинской помощ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1" name="Скругленный прямоугольник 14"/>
          <p:cNvSpPr/>
          <p:nvPr/>
        </p:nvSpPr>
        <p:spPr>
          <a:xfrm>
            <a:off x="571680" y="5786280"/>
            <a:ext cx="7777080" cy="78588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25560">
            <a:solidFill>
              <a:srgbClr val="4744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Повышение эффективности экспертной работы СМО. Контроль за обоснованностью госпитализаций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2" name="Рисунок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93" name="Rectangle 2"/>
          <p:cNvSpPr/>
          <p:nvPr/>
        </p:nvSpPr>
        <p:spPr>
          <a:xfrm>
            <a:off x="685800" y="981000"/>
            <a:ext cx="77724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2f2f2"/>
                </a:solidFill>
                <a:latin typeface="Arial"/>
              </a:rPr>
              <a:t>Благодарю за внимание!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Стрелка вправо 17"/>
          <p:cNvSpPr/>
          <p:nvPr/>
        </p:nvSpPr>
        <p:spPr>
          <a:xfrm rot="16200000">
            <a:off x="1295280" y="4544640"/>
            <a:ext cx="1295640" cy="647640"/>
          </a:xfrm>
          <a:prstGeom prst="rightArrow">
            <a:avLst>
              <a:gd name="adj1" fmla="val 50000"/>
              <a:gd name="adj2" fmla="val 50014"/>
            </a:avLst>
          </a:prstGeom>
          <a:solidFill>
            <a:srgbClr val="ffffff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5" name="Стрелка вправо 4"/>
          <p:cNvSpPr/>
          <p:nvPr/>
        </p:nvSpPr>
        <p:spPr>
          <a:xfrm>
            <a:off x="3059280" y="4581360"/>
            <a:ext cx="1296720" cy="648000"/>
          </a:xfrm>
          <a:prstGeom prst="rightArrow">
            <a:avLst>
              <a:gd name="adj1" fmla="val 50000"/>
              <a:gd name="adj2" fmla="val 49963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96" name="Picture 4" descr="D:\Ольга Виноградова\!Т\ТФОМС\Презентация\Картинки для презентации\Лого1.jpg"/>
          <p:cNvPicPr/>
          <p:nvPr/>
        </p:nvPicPr>
        <p:blipFill>
          <a:blip r:embed="rId1"/>
          <a:stretch/>
        </p:blipFill>
        <p:spPr>
          <a:xfrm>
            <a:off x="611280" y="333360"/>
            <a:ext cx="2448000" cy="706320"/>
          </a:xfrm>
          <a:prstGeom prst="rect">
            <a:avLst/>
          </a:prstGeom>
          <a:ln w="0">
            <a:noFill/>
          </a:ln>
        </p:spPr>
      </p:pic>
      <p:sp>
        <p:nvSpPr>
          <p:cNvPr id="1697" name="Управляющая кнопка: далее 13">
            <a:hlinkClick r:id="" action="ppaction://hlinkshowjump?jump=nextslide"/>
          </p:cNvPr>
          <p:cNvSpPr/>
          <p:nvPr/>
        </p:nvSpPr>
        <p:spPr>
          <a:xfrm>
            <a:off x="8562960" y="41400"/>
            <a:ext cx="546120" cy="363240"/>
          </a:xfrm>
          <a:custGeom>
            <a:avLst/>
            <a:gdLst>
              <a:gd name="textAreaLeft" fmla="*/ 23400 w 546120"/>
              <a:gd name="textAreaRight" fmla="*/ 522720 w 546120"/>
              <a:gd name="textAreaTop" fmla="*/ 23400 h 363240"/>
              <a:gd name="textAreaBottom" fmla="*/ 339840 h 363240"/>
            </a:gdLst>
            <a:ahLst/>
            <a:rect l="textAreaLeft" t="textAreaTop" r="textAreaRight" b="textAreaBottom"/>
            <a:pathLst>
              <a:path w="32464" h="21600">
                <a:moveTo>
                  <a:pt x="0" y="0"/>
                </a:moveTo>
                <a:lnTo>
                  <a:pt x="32464" y="0"/>
                </a:lnTo>
                <a:lnTo>
                  <a:pt x="32464" y="21600"/>
                </a:lnTo>
                <a:lnTo>
                  <a:pt x="0" y="21600"/>
                </a:lnTo>
                <a:close/>
              </a:path>
              <a:path fill="lightenLess" w="32464" h="21600">
                <a:moveTo>
                  <a:pt x="0" y="0"/>
                </a:moveTo>
                <a:lnTo>
                  <a:pt x="32464" y="0"/>
                </a:lnTo>
                <a:lnTo>
                  <a:pt x="31064" y="1400"/>
                </a:lnTo>
                <a:lnTo>
                  <a:pt x="1400" y="1400"/>
                </a:lnTo>
                <a:close/>
              </a:path>
              <a:path fill="darken" w="32464" h="21600">
                <a:moveTo>
                  <a:pt x="32464" y="0"/>
                </a:moveTo>
                <a:lnTo>
                  <a:pt x="32464" y="21600"/>
                </a:lnTo>
                <a:lnTo>
                  <a:pt x="31064" y="20200"/>
                </a:lnTo>
                <a:lnTo>
                  <a:pt x="31064" y="1400"/>
                </a:lnTo>
                <a:close/>
              </a:path>
              <a:path fill="darkenLess" w="32464" h="21600">
                <a:moveTo>
                  <a:pt x="324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64" y="20200"/>
                </a:lnTo>
                <a:close/>
              </a:path>
              <a:path fill="lighten" w="324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64" h="21600">
                <a:moveTo>
                  <a:pt x="9226" y="3794"/>
                </a:moveTo>
                <a:lnTo>
                  <a:pt x="23239" y="10800"/>
                </a:lnTo>
                <a:lnTo>
                  <a:pt x="9226" y="17806"/>
                </a:lnTo>
                <a:close/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98" name=""/>
          <p:cNvGraphicFramePr/>
          <p:nvPr/>
        </p:nvGraphicFramePr>
        <p:xfrm>
          <a:off x="1042920" y="2265480"/>
          <a:ext cx="2879640" cy="1884240"/>
        </p:xfrm>
        <a:graphic>
          <a:graphicData uri="http://schemas.openxmlformats.org/drawingml/2006/table">
            <a:tbl>
              <a:tblPr/>
              <a:tblGrid>
                <a:gridCol w="1656000"/>
                <a:gridCol w="1223640"/>
              </a:tblGrid>
              <a:tr h="4442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именование М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работчик П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6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авдинская ЦР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b8b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И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алицкая ЦР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b8b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И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П г.К-Уральск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b8b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А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ысертская ЦР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b8b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И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П № 3 г.Н.Тагил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b8b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А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99" name="Прямоугольник 1"/>
          <p:cNvSpPr/>
          <p:nvPr/>
        </p:nvSpPr>
        <p:spPr>
          <a:xfrm>
            <a:off x="2987640" y="115920"/>
            <a:ext cx="590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eaf"/>
                </a:solidFill>
                <a:latin typeface="Arial"/>
              </a:rPr>
              <a:t>Анализ загрузки реестров медицинской помощи  (по разработчикам программного обеспечения) за периоды «январь 2014», «февраль 2014»        на 25.03.2014 год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0" name="TextBox 9"/>
          <p:cNvSpPr/>
          <p:nvPr/>
        </p:nvSpPr>
        <p:spPr>
          <a:xfrm>
            <a:off x="1042920" y="1487520"/>
            <a:ext cx="2881440" cy="733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Медицинские организации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с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низкими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показателями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загрузки реестров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1" name="TextBox 9"/>
          <p:cNvSpPr/>
          <p:nvPr/>
        </p:nvSpPr>
        <p:spPr>
          <a:xfrm>
            <a:off x="4427640" y="1504080"/>
            <a:ext cx="3240000" cy="733320"/>
          </a:xfrm>
          <a:prstGeom prst="rect">
            <a:avLst/>
          </a:prstGeom>
          <a:noFill/>
          <a:ln w="93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Медицинские организации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с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высокими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показателями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загрузки реестров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02" name=""/>
          <p:cNvGraphicFramePr/>
          <p:nvPr/>
        </p:nvGraphicFramePr>
        <p:xfrm>
          <a:off x="4429080" y="2276640"/>
          <a:ext cx="3238560" cy="3350880"/>
        </p:xfrm>
        <a:graphic>
          <a:graphicData uri="http://schemas.openxmlformats.org/drawingml/2006/table">
            <a:tbl>
              <a:tblPr/>
              <a:tblGrid>
                <a:gridCol w="2158920"/>
                <a:gridCol w="1079640"/>
              </a:tblGrid>
              <a:tr h="4665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именование М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работчик П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79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апаевская ЦГ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И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98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холожская ЦР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А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2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Б № 2 г.К-Уральск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А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1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ГБ №3 г.Н.Таги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А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КБ № 4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динко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8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 Новая больниц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динко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79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ГБ № 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динко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ГБ № 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динко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0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ГКБ № 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динко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ГКБ № 2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динко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1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БУЗ СО Бону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А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03" name="TextBox 3"/>
          <p:cNvSpPr/>
          <p:nvPr/>
        </p:nvSpPr>
        <p:spPr>
          <a:xfrm>
            <a:off x="3059280" y="4724280"/>
            <a:ext cx="115236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  <a:ea typeface="Arial"/>
              </a:rPr>
              <a:t>1</a:t>
            </a:r>
            <a:r>
              <a:rPr b="0" lang="en-US" sz="1800" spc="-1" strike="noStrike">
                <a:solidFill>
                  <a:srgbClr val="0070c0"/>
                </a:solidFill>
                <a:latin typeface="Calibri"/>
                <a:ea typeface="Arial"/>
              </a:rPr>
              <a:t>1</a:t>
            </a:r>
            <a:r>
              <a:rPr b="0" lang="ru-RU" sz="1800" spc="-1" strike="noStrike">
                <a:solidFill>
                  <a:srgbClr val="0070c0"/>
                </a:solidFill>
                <a:latin typeface="Calibri"/>
                <a:ea typeface="Arial"/>
              </a:rPr>
              <a:t> из 12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4" name="TextBox 10"/>
          <p:cNvSpPr/>
          <p:nvPr/>
        </p:nvSpPr>
        <p:spPr>
          <a:xfrm>
            <a:off x="1763640" y="4508640"/>
            <a:ext cx="4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Calibri"/>
                <a:ea typeface="Arial"/>
              </a:rPr>
              <a:t>5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Calibri"/>
                <a:ea typeface="Arial"/>
              </a:rPr>
              <a:t>из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Calibri"/>
                <a:ea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ll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5" name="Picture 4" descr="D:\Ольга Виноградова\!Т\ТФОМС\Презентация\Картинки для презентации\Лого1.jpg"/>
          <p:cNvPicPr/>
          <p:nvPr/>
        </p:nvPicPr>
        <p:blipFill>
          <a:blip r:embed="rId1"/>
          <a:stretch/>
        </p:blipFill>
        <p:spPr>
          <a:xfrm>
            <a:off x="611280" y="333360"/>
            <a:ext cx="2448000" cy="706320"/>
          </a:xfrm>
          <a:prstGeom prst="rect">
            <a:avLst/>
          </a:prstGeom>
          <a:ln w="0">
            <a:noFill/>
          </a:ln>
        </p:spPr>
      </p:pic>
      <p:sp>
        <p:nvSpPr>
          <p:cNvPr id="1706" name="Прямоугольник 1"/>
          <p:cNvSpPr/>
          <p:nvPr/>
        </p:nvSpPr>
        <p:spPr>
          <a:xfrm>
            <a:off x="3059280" y="53280"/>
            <a:ext cx="608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eaf"/>
                </a:solidFill>
                <a:latin typeface="Arial"/>
                <a:ea typeface="Arial"/>
              </a:rPr>
              <a:t>Бюджет ТФОМС Свердловской обла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eaf"/>
                </a:solidFill>
                <a:latin typeface="Arial"/>
                <a:ea typeface="Arial"/>
              </a:rPr>
              <a:t> </a:t>
            </a:r>
            <a:r>
              <a:rPr b="1" lang="ru-RU" sz="1800" spc="-1" strike="noStrike">
                <a:solidFill>
                  <a:srgbClr val="006eaf"/>
                </a:solidFill>
                <a:latin typeface="Arial"/>
                <a:ea typeface="Arial"/>
              </a:rPr>
              <a:t>в 2013 и 2014 годах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eaf"/>
                </a:solidFill>
                <a:latin typeface="Arial"/>
                <a:ea typeface="Arial"/>
              </a:rPr>
              <a:t>(млн, руб.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07" name=""/>
          <p:cNvGraphicFramePr/>
          <p:nvPr/>
        </p:nvGraphicFramePr>
        <p:xfrm>
          <a:off x="457200" y="1197000"/>
          <a:ext cx="8291520" cy="5111640"/>
        </p:xfrm>
        <a:graphic>
          <a:graphicData uri="http://schemas.openxmlformats.org/drawingml/2006/table">
            <a:tbl>
              <a:tblPr/>
              <a:tblGrid>
                <a:gridCol w="3105000"/>
                <a:gridCol w="1801800"/>
                <a:gridCol w="1729080"/>
                <a:gridCol w="934920"/>
                <a:gridCol w="720720"/>
              </a:tblGrid>
              <a:tr h="29988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именование показател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юджет на 2014 г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юджет на 2013 год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4 к 20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2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абс. величина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7200" rIns="7200" tIns="720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ходы бюджета фонда,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 291,0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 635,6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655,4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4,1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87280">
                <a:tc>
                  <a:txBody>
                    <a:bodyPr lIns="7200" rIns="7200" tIns="720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ходы на ОМ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 291,0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ce6f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 608,5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682,5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4,1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ce6ff"/>
                    </a:solidFill>
                  </a:tcPr>
                </a:tc>
              </a:tr>
              <a:tr h="464400">
                <a:tc>
                  <a:txBody>
                    <a:bodyPr lIns="7200" rIns="7200" tIns="720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ства областного бюджета, передаваемые ТФОМС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дополнительное финансовое обеспечение в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мках базовой программы ОМ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356,7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ce6f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508,5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 151,8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,4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ce6ff"/>
                    </a:solidFill>
                  </a:tcPr>
                </a:tc>
              </a:tr>
              <a:tr h="349560">
                <a:tc>
                  <a:txBody>
                    <a:bodyPr lIns="7200" rIns="7200" tIns="720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ства Федерального фонда ОМС, передаваемые ТФОМС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 564,3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ce6f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 757,5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806,8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2,4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ce6ff"/>
                    </a:solidFill>
                  </a:tcPr>
                </a:tc>
              </a:tr>
              <a:tr h="688680">
                <a:tc>
                  <a:txBody>
                    <a:bodyPr lIns="7200" rIns="7200" tIns="7200" bIns="0" anchor="ctr">
                      <a:noAutofit/>
                    </a:bodyPr>
                    <a:p>
                      <a:pPr lvl="1" marL="181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убвенции бюджетам территориальных фондов ОМС на выполнение переданных органам государственной власти субъектов РФ полномочий РФ в сфере ОМС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 564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ce6f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 728,0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836,3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2,5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ce6ff"/>
                    </a:solidFill>
                  </a:tcPr>
                </a:tc>
              </a:tr>
              <a:tr h="690840">
                <a:tc>
                  <a:txBody>
                    <a:bodyPr lIns="7200" rIns="7200" tIns="7200" bIns="0" anchor="ctr">
                      <a:noAutofit/>
                    </a:bodyPr>
                    <a:p>
                      <a:pPr marL="181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жбюджетные трансферты, передаваемые бюджетам ТФОМС на единовременные компенсационные выплаты медицинским работникам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ce6f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,5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9,5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ce6ff"/>
                    </a:solidFill>
                  </a:tcPr>
                </a:tc>
              </a:tr>
              <a:tr h="399960">
                <a:tc>
                  <a:txBody>
                    <a:bodyPr lIns="7200" rIns="7200" tIns="720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чие неналоговые поступления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от других ТФОМС в рамках межтерриториальных расчетов)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0,0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ce6f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1,0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,0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5,4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ce6ff"/>
                    </a:solidFill>
                  </a:tcPr>
                </a:tc>
              </a:tr>
              <a:tr h="431640">
                <a:tc>
                  <a:txBody>
                    <a:bodyPr lIns="7200" rIns="7200" tIns="720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ходы бюджета фонда,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 291,0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 261,5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029,5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,5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87640">
                <a:tc>
                  <a:txBody>
                    <a:bodyPr lIns="7200" rIns="7200" tIns="720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ходы на Территориальную программу ОМ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 291,0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ce6f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 875,9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415,1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3,5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ce6ff"/>
                    </a:solidFill>
                  </a:tcPr>
                </a:tc>
              </a:tr>
              <a:tr h="206280">
                <a:tc>
                  <a:txBody>
                    <a:bodyPr lIns="7200" rIns="7200" tIns="7200" bIns="0" anchor="ctr">
                      <a:noAutofit/>
                    </a:bodyPr>
                    <a:p>
                      <a:pPr marL="181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ходы на АУП ТФОМС и РВД СМ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5,9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ce6f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0,6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3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,8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ce6ff"/>
                    </a:solidFill>
                  </a:tcPr>
                </a:tc>
              </a:tr>
              <a:tr h="368640">
                <a:tc>
                  <a:txBody>
                    <a:bodyPr lIns="7200" rIns="7200" tIns="7200" bIns="0" anchor="ctr">
                      <a:noAutofit/>
                    </a:bodyPr>
                    <a:p>
                      <a:pPr marL="181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ходы на оплату медицинской помощ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 445,1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ce6f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 045,3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399,8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3,5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ce6ff"/>
                    </a:solidFill>
                  </a:tcPr>
                </a:tc>
              </a:tr>
            </a:tbl>
          </a:graphicData>
        </a:graphic>
      </p:graphicFrame>
    </p:spTree>
  </p:cSld>
  <p:transition spd="slow">
    <p:push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8" name="Picture 4" descr="D:\Ольга Виноградова\!Т\ТФОМС\Презентация\Картинки для презентации\Лого1.jpg"/>
          <p:cNvPicPr/>
          <p:nvPr/>
        </p:nvPicPr>
        <p:blipFill>
          <a:blip r:embed="rId1"/>
          <a:stretch/>
        </p:blipFill>
        <p:spPr>
          <a:xfrm>
            <a:off x="611280" y="333360"/>
            <a:ext cx="2448000" cy="706320"/>
          </a:xfrm>
          <a:prstGeom prst="rect">
            <a:avLst/>
          </a:prstGeom>
          <a:ln w="0">
            <a:noFill/>
          </a:ln>
        </p:spPr>
      </p:pic>
      <p:sp>
        <p:nvSpPr>
          <p:cNvPr id="1709" name="Прямоугольник 1"/>
          <p:cNvSpPr/>
          <p:nvPr/>
        </p:nvSpPr>
        <p:spPr>
          <a:xfrm>
            <a:off x="2859120" y="260280"/>
            <a:ext cx="646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eaf"/>
                </a:solidFill>
                <a:latin typeface="Arial"/>
              </a:rPr>
              <a:t>Федеральные и территориальные нормативы амбулаторной и стационарозамещающей помощ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eaf"/>
                </a:solidFill>
                <a:latin typeface="Arial"/>
              </a:rPr>
              <a:t>в 2013-2014 гг., руб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0" name="Управляющая кнопка: далее 13">
            <a:hlinkClick r:id="" action="ppaction://hlinkshowjump?jump=nextslide"/>
          </p:cNvPr>
          <p:cNvSpPr/>
          <p:nvPr/>
        </p:nvSpPr>
        <p:spPr>
          <a:xfrm>
            <a:off x="8532720" y="41400"/>
            <a:ext cx="546120" cy="363240"/>
          </a:xfrm>
          <a:custGeom>
            <a:avLst/>
            <a:gdLst>
              <a:gd name="textAreaLeft" fmla="*/ 23400 w 546120"/>
              <a:gd name="textAreaRight" fmla="*/ 522720 w 546120"/>
              <a:gd name="textAreaTop" fmla="*/ 23400 h 363240"/>
              <a:gd name="textAreaBottom" fmla="*/ 339840 h 363240"/>
            </a:gdLst>
            <a:ahLst/>
            <a:rect l="textAreaLeft" t="textAreaTop" r="textAreaRight" b="textAreaBottom"/>
            <a:pathLst>
              <a:path w="32464" h="21600">
                <a:moveTo>
                  <a:pt x="0" y="0"/>
                </a:moveTo>
                <a:lnTo>
                  <a:pt x="32464" y="0"/>
                </a:lnTo>
                <a:lnTo>
                  <a:pt x="32464" y="21600"/>
                </a:lnTo>
                <a:lnTo>
                  <a:pt x="0" y="21600"/>
                </a:lnTo>
                <a:close/>
              </a:path>
              <a:path fill="lightenLess" w="32464" h="21600">
                <a:moveTo>
                  <a:pt x="0" y="0"/>
                </a:moveTo>
                <a:lnTo>
                  <a:pt x="32464" y="0"/>
                </a:lnTo>
                <a:lnTo>
                  <a:pt x="31064" y="1400"/>
                </a:lnTo>
                <a:lnTo>
                  <a:pt x="1400" y="1400"/>
                </a:lnTo>
                <a:close/>
              </a:path>
              <a:path fill="darken" w="32464" h="21600">
                <a:moveTo>
                  <a:pt x="32464" y="0"/>
                </a:moveTo>
                <a:lnTo>
                  <a:pt x="32464" y="21600"/>
                </a:lnTo>
                <a:lnTo>
                  <a:pt x="31064" y="20200"/>
                </a:lnTo>
                <a:lnTo>
                  <a:pt x="31064" y="1400"/>
                </a:lnTo>
                <a:close/>
              </a:path>
              <a:path fill="darkenLess" w="32464" h="21600">
                <a:moveTo>
                  <a:pt x="324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64" y="20200"/>
                </a:lnTo>
                <a:close/>
              </a:path>
              <a:path fill="lighten" w="324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64" h="21600">
                <a:moveTo>
                  <a:pt x="9226" y="3794"/>
                </a:moveTo>
                <a:lnTo>
                  <a:pt x="23239" y="10800"/>
                </a:lnTo>
                <a:lnTo>
                  <a:pt x="9226" y="17806"/>
                </a:lnTo>
                <a:close/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11" name=""/>
          <p:cNvGraphicFramePr/>
          <p:nvPr/>
        </p:nvGraphicFramePr>
        <p:xfrm>
          <a:off x="324000" y="1395360"/>
          <a:ext cx="8351640" cy="4913280"/>
        </p:xfrm>
        <a:graphic>
          <a:graphicData uri="http://schemas.openxmlformats.org/drawingml/2006/table">
            <a:tbl>
              <a:tblPr/>
              <a:tblGrid>
                <a:gridCol w="2414520"/>
                <a:gridCol w="957240"/>
                <a:gridCol w="961920"/>
                <a:gridCol w="963720"/>
                <a:gridCol w="963720"/>
                <a:gridCol w="1155600"/>
                <a:gridCol w="934920"/>
              </a:tblGrid>
              <a:tr h="728640">
                <a:tc rowSpan="2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словия предоставления помощ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ce6ff"/>
                    </a:solidFill>
                  </a:tcPr>
                </a:tc>
                <a:tc gridSpan="3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едеральные нормативы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веденные в условия Свердловской област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ce6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рриториальные нормативы утвержденные 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с учетом содержани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ce6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3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ce6f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4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ce6f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4 г. /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3 г.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ce6f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3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ce6f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4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ce6f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4 г. / 2013 г.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ce6ff"/>
                    </a:solidFill>
                  </a:tcPr>
                </a:tc>
              </a:tr>
              <a:tr h="728640"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корая медицинская помощь вне медицинской организации (вызов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676,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760,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352,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506,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0dfd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4faa8"/>
                    </a:solidFill>
                  </a:tcPr>
                </a:tc>
              </a:tr>
              <a:tr h="488880"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дицинская помощь в амбулаторных условия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6520">
                <a:tc>
                  <a:txBody>
                    <a:bodyPr lIns="14616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ещение с профилактической целью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4616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1,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1,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0,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2,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0dfd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4faa8"/>
                    </a:solidFill>
                  </a:tcPr>
                </a:tc>
              </a:tr>
              <a:tr h="488880">
                <a:tc>
                  <a:txBody>
                    <a:bodyPr lIns="14616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ещение по неотложной медицинской помощ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4616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8,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6,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6,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6,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0dfd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4faa8"/>
                    </a:solidFill>
                  </a:tcPr>
                </a:tc>
              </a:tr>
              <a:tr h="490680">
                <a:tc>
                  <a:txBody>
                    <a:bodyPr lIns="14616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ращение в связи с заболеванием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4616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2,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089,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58,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089,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0dfd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4faa8"/>
                    </a:solidFill>
                  </a:tcPr>
                </a:tc>
              </a:tr>
              <a:tr h="800640"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дицинская помощь в условиях дневных стационаров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пациенто-день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5,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434,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1,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434,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0dfd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4faa8"/>
                    </a:solidFill>
                  </a:tcPr>
                </a:tc>
              </a:tr>
            </a:tbl>
          </a:graphicData>
        </a:graphic>
      </p:graphicFrame>
    </p:spTree>
  </p:cSld>
  <p:transition spd="slow"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1" name="Picture 4" descr="D:\Ольга Виноградова\!Т\ТФОМС\Презентация\Картинки для презентации\Лого1.jpg"/>
          <p:cNvPicPr/>
          <p:nvPr/>
        </p:nvPicPr>
        <p:blipFill>
          <a:blip r:embed="rId1"/>
          <a:stretch/>
        </p:blipFill>
        <p:spPr>
          <a:xfrm>
            <a:off x="611280" y="333360"/>
            <a:ext cx="2448000" cy="706320"/>
          </a:xfrm>
          <a:prstGeom prst="rect">
            <a:avLst/>
          </a:prstGeom>
          <a:ln w="0">
            <a:noFill/>
          </a:ln>
        </p:spPr>
      </p:pic>
      <p:sp>
        <p:nvSpPr>
          <p:cNvPr id="1572" name="Управляющая кнопка: далее 13">
            <a:hlinkClick r:id="" action="ppaction://hlinkshowjump?jump=nextslide"/>
          </p:cNvPr>
          <p:cNvSpPr/>
          <p:nvPr/>
        </p:nvSpPr>
        <p:spPr>
          <a:xfrm>
            <a:off x="8658360" y="150840"/>
            <a:ext cx="347400" cy="363600"/>
          </a:xfrm>
          <a:custGeom>
            <a:avLst/>
            <a:gdLst>
              <a:gd name="textAreaLeft" fmla="*/ 22320 w 347400"/>
              <a:gd name="textAreaRight" fmla="*/ 325080 w 347400"/>
              <a:gd name="textAreaTop" fmla="*/ 22320 h 363600"/>
              <a:gd name="textAreaBottom" fmla="*/ 341280 h 363600"/>
            </a:gdLst>
            <a:ahLst/>
            <a:rect l="textAreaLeft" t="textAreaTop" r="textAreaRight" b="textAreaBottom"/>
            <a:pathLst>
              <a:path w="21600" h="22606">
                <a:moveTo>
                  <a:pt x="0" y="0"/>
                </a:moveTo>
                <a:lnTo>
                  <a:pt x="21600" y="0"/>
                </a:lnTo>
                <a:lnTo>
                  <a:pt x="21600" y="22606"/>
                </a:lnTo>
                <a:lnTo>
                  <a:pt x="0" y="22606"/>
                </a:lnTo>
                <a:close/>
              </a:path>
              <a:path fill="lightenLess" w="21600" h="226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606">
                <a:moveTo>
                  <a:pt x="21600" y="0"/>
                </a:moveTo>
                <a:lnTo>
                  <a:pt x="21600" y="22606"/>
                </a:lnTo>
                <a:lnTo>
                  <a:pt x="20200" y="21206"/>
                </a:lnTo>
                <a:lnTo>
                  <a:pt x="20200" y="1400"/>
                </a:lnTo>
                <a:close/>
              </a:path>
              <a:path fill="darkenLess" w="21600" h="22606">
                <a:moveTo>
                  <a:pt x="21600" y="22606"/>
                </a:moveTo>
                <a:lnTo>
                  <a:pt x="0" y="22606"/>
                </a:lnTo>
                <a:lnTo>
                  <a:pt x="1400" y="21206"/>
                </a:lnTo>
                <a:lnTo>
                  <a:pt x="20200" y="21206"/>
                </a:lnTo>
                <a:close/>
              </a:path>
              <a:path fill="lighten" w="21600" h="22606">
                <a:moveTo>
                  <a:pt x="0" y="226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1206"/>
                </a:lnTo>
                <a:close/>
              </a:path>
              <a:path fill="darken" w="21600" h="22606">
                <a:moveTo>
                  <a:pt x="3794" y="4297"/>
                </a:moveTo>
                <a:lnTo>
                  <a:pt x="17806" y="11303"/>
                </a:lnTo>
                <a:lnTo>
                  <a:pt x="3794" y="18310"/>
                </a:lnTo>
                <a:close/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3" name="PlaceHolder 1"/>
          <p:cNvSpPr>
            <a:spLocks noGrp="1"/>
          </p:cNvSpPr>
          <p:nvPr>
            <p:ph type="title"/>
          </p:nvPr>
        </p:nvSpPr>
        <p:spPr>
          <a:xfrm>
            <a:off x="3058920" y="43920"/>
            <a:ext cx="577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eaf"/>
                </a:solidFill>
                <a:latin typeface="Arial"/>
                <a:ea typeface="Arial"/>
              </a:rPr>
              <a:t>Исполнение бюджета </a:t>
            </a:r>
            <a:br>
              <a:rPr sz="2000"/>
            </a:br>
            <a:r>
              <a:rPr b="1" lang="ru-RU" sz="2000" spc="-1" strike="noStrike">
                <a:solidFill>
                  <a:srgbClr val="006eaf"/>
                </a:solidFill>
                <a:latin typeface="Arial"/>
                <a:ea typeface="Arial"/>
              </a:rPr>
              <a:t>ТФОМС Свердловской области за 2013 год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74" name=""/>
          <p:cNvGraphicFramePr/>
          <p:nvPr/>
        </p:nvGraphicFramePr>
        <p:xfrm>
          <a:off x="511200" y="1347840"/>
          <a:ext cx="8147160" cy="5176800"/>
        </p:xfrm>
        <a:graphic>
          <a:graphicData uri="http://schemas.openxmlformats.org/drawingml/2006/table">
            <a:tbl>
              <a:tblPr/>
              <a:tblGrid>
                <a:gridCol w="3425760"/>
                <a:gridCol w="1408320"/>
                <a:gridCol w="1101600"/>
                <a:gridCol w="1096920"/>
                <a:gridCol w="1114560"/>
              </a:tblGrid>
              <a:tr h="217440">
                <a:tc rowSpan="2"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именование показателей бюджета ТФОМ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960" marR="3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ce6ff"/>
                    </a:solidFill>
                  </a:tcPr>
                </a:tc>
                <a:tc rowSpan="2"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твержденный план на                2013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960" marR="3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ce6ff"/>
                    </a:solidFill>
                  </a:tcPr>
                </a:tc>
                <a:tc gridSpan="2"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полнено за  2013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960" marR="3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ce6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клонение от плана, млн.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960" marR="3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ce6ff"/>
                    </a:solidFill>
                  </a:tcPr>
                </a:tc>
              </a:tr>
              <a:tr h="64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лн.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960" marR="3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ce6ff"/>
                    </a:solidFill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960" marR="3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ce6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7440">
                <a:tc>
                  <a:txBody>
                    <a:bodyPr lIns="3960" rIns="3960" tIns="39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ходы,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960" marR="3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4faa8"/>
                    </a:solidFill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 635,6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960" marR="3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4faa8"/>
                    </a:solidFill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 670,8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960" marR="3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4faa8"/>
                    </a:solidFill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,1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960" marR="3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4faa8"/>
                    </a:solidFill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,2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960" marR="3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4faa8"/>
                    </a:solidFill>
                  </a:tcPr>
                </a:tc>
              </a:tr>
              <a:tr h="186840">
                <a:tc>
                  <a:txBody>
                    <a:bodyPr lIns="3960" rIns="3960" tIns="39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ходы на ОМ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960" marR="3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 608,5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960" marR="3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 643,7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960" marR="3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,1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960" marR="3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,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960" marR="3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1880">
                <a:tc>
                  <a:txBody>
                    <a:bodyPr lIns="3960" rIns="3960" tIns="3960" bIns="0" anchor="ctr">
                      <a:noAutofit/>
                    </a:bodyPr>
                    <a:p>
                      <a:pPr marL="87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бвенция Федерального фонда ОМС на выполнение Территориальной программы ОМС в рамках базовой программы ОМ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960" marR="3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 728,0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960" marR="3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 728,0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960" marR="3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,0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960" marR="3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960" marR="3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1880">
                <a:tc>
                  <a:txBody>
                    <a:bodyPr lIns="3960" rIns="3960" tIns="3960" bIns="0" anchor="ctr">
                      <a:noAutofit/>
                    </a:bodyPr>
                    <a:p>
                      <a:pPr marL="87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жбюджетный трансферт из областного бюджета (на содержание МО, СМП и выплаты мед.персоналу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960" marR="3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508,5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960" marR="3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508,5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960" marR="3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,0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960" marR="3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960" marR="3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360">
                <a:tc>
                  <a:txBody>
                    <a:bodyPr lIns="3960" rIns="3960" tIns="3960" bIns="0" anchor="ctr">
                      <a:noAutofit/>
                    </a:bodyPr>
                    <a:p>
                      <a:pPr marL="87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тупления за пролеченных граждан, застрахованных по ОМС в других субъекта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960" marR="3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0,0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960" marR="3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8,9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960" marR="3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5,4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960" marR="3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,9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960" marR="3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3960" rIns="3960" tIns="3960" bIns="0" anchor="ctr">
                      <a:noAutofit/>
                    </a:bodyPr>
                    <a:p>
                      <a:pPr marL="87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жбюджетные трансферты Федерального фонда ОМС на единовременные компенсационные выплаты медицинским работникам, переехавшим в сельскую местност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960" marR="3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,5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960" marR="3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,5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960" marR="3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,0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960" marR="3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960" marR="3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360">
                <a:tc>
                  <a:txBody>
                    <a:bodyPr lIns="3960" rIns="3960" tIns="3960" bIns="0" anchor="ctr">
                      <a:noAutofit/>
                    </a:bodyPr>
                    <a:p>
                      <a:pPr marL="87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чие поступления (штрафы, санкции, возмещение ущерба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960" marR="3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,6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960" marR="3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,3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960" marR="3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5,0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960" marR="3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,7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960" marR="3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7440">
                <a:tc>
                  <a:txBody>
                    <a:bodyPr lIns="3960" rIns="3960" tIns="3960" bIns="0" anchor="ctr">
                      <a:noAutofit/>
                    </a:bodyPr>
                    <a:p>
                      <a:pPr marL="87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ходы,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960" marR="3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4faa8"/>
                    </a:solidFill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 261,5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960" marR="3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4faa8"/>
                    </a:solidFill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 946,8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960" marR="3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4faa8"/>
                    </a:solidFill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,2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960" marR="3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4faa8"/>
                    </a:solidFill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14,7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960" marR="3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4faa8"/>
                    </a:solidFill>
                  </a:tcPr>
                </a:tc>
              </a:tr>
              <a:tr h="369360">
                <a:tc>
                  <a:txBody>
                    <a:bodyPr lIns="3960" rIns="3960" tIns="3960" bIns="0" anchor="ctr">
                      <a:noAutofit/>
                    </a:bodyPr>
                    <a:p>
                      <a:pPr marL="874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ходы на Территориальную программу ОМ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960" marR="3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 875,9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960" marR="3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 561,1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960" marR="3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,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960" marR="3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14,8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960" marR="3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6840">
                <a:tc>
                  <a:txBody>
                    <a:bodyPr lIns="3960" rIns="3960" tIns="39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ходы на АУП ТФОМС и РВД СМО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960" marR="3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0,6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960" marR="3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4,3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960" marR="3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,4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960" marR="3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" rIns="3960" tIns="3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96,3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960" marR="3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5" name="Picture 4" descr="D:\Ольга Виноградова\!Т\ТФОМС\Презентация\Картинки для презентации\Лого1.jpg"/>
          <p:cNvPicPr/>
          <p:nvPr/>
        </p:nvPicPr>
        <p:blipFill>
          <a:blip r:embed="rId1"/>
          <a:stretch/>
        </p:blipFill>
        <p:spPr>
          <a:xfrm>
            <a:off x="611280" y="333360"/>
            <a:ext cx="2448000" cy="706320"/>
          </a:xfrm>
          <a:prstGeom prst="rect">
            <a:avLst/>
          </a:prstGeom>
          <a:ln w="0">
            <a:noFill/>
          </a:ln>
        </p:spPr>
      </p:pic>
      <p:sp>
        <p:nvSpPr>
          <p:cNvPr id="1576" name="Прямоугольник 1"/>
          <p:cNvSpPr/>
          <p:nvPr/>
        </p:nvSpPr>
        <p:spPr>
          <a:xfrm>
            <a:off x="3203640" y="317520"/>
            <a:ext cx="561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eaf"/>
                </a:solidFill>
                <a:latin typeface="Arial"/>
                <a:ea typeface="Arial"/>
              </a:rPr>
              <a:t>Финансирование Территориальной программы в 2009-2014 гг., млн. руб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77" name=""/>
          <p:cNvGraphicFramePr/>
          <p:nvPr/>
        </p:nvGraphicFramePr>
        <p:xfrm>
          <a:off x="611280" y="1824120"/>
          <a:ext cx="8064360" cy="3486240"/>
        </p:xfrm>
        <a:graphic>
          <a:graphicData uri="http://schemas.openxmlformats.org/drawingml/2006/table">
            <a:tbl>
              <a:tblPr/>
              <a:tblGrid>
                <a:gridCol w="1173240"/>
                <a:gridCol w="1931760"/>
                <a:gridCol w="2033640"/>
                <a:gridCol w="1414440"/>
                <a:gridCol w="1511280"/>
              </a:tblGrid>
              <a:tr h="453960">
                <a:tc rowSpan="2">
                  <a:txBody>
                    <a:bodyPr lIns="7200" rIns="720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ce6ff"/>
                    </a:solidFill>
                  </a:tcPr>
                </a:tc>
                <a:tc rowSpan="2">
                  <a:txBody>
                    <a:bodyPr lIns="7200" rIns="720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четная величина Терпрограммы ОМС по федеральным норматива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ce6ff"/>
                    </a:solidFill>
                  </a:tcPr>
                </a:tc>
                <a:tc rowSpan="2">
                  <a:txBody>
                    <a:bodyPr lIns="7200" rIns="720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ств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Терпрограмму ОМС в рамках утвержденного бюджета Фон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ce6ff"/>
                    </a:solidFill>
                  </a:tcPr>
                </a:tc>
                <a:tc gridSpan="2">
                  <a:txBody>
                    <a:bodyPr lIns="7200" rIns="720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фицит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профицит средств ОМ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ce6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9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бс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ce6ff"/>
                    </a:solidFill>
                  </a:tcPr>
                </a:tc>
                <a:tc>
                  <a:txBody>
                    <a:bodyPr lIns="7200" rIns="720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ce6ff"/>
                    </a:solidFill>
                  </a:tcPr>
                </a:tc>
              </a:tr>
              <a:tr h="389520">
                <a:tc>
                  <a:txBody>
                    <a:bodyPr lIns="7200" rIns="720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 86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 50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7 36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,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3680">
                <a:tc>
                  <a:txBody>
                    <a:bodyPr lIns="7200" rIns="720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 86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 33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7 53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,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7200" rIns="720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 08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 50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4 57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,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>
                  <a:txBody>
                    <a:bodyPr lIns="7200" rIns="720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 25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 59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65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1320">
                <a:tc>
                  <a:txBody>
                    <a:bodyPr lIns="7200" rIns="720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4faa8"/>
                    </a:solidFill>
                  </a:tcPr>
                </a:tc>
                <a:tc>
                  <a:txBody>
                    <a:bodyPr lIns="7200" rIns="720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4faa8"/>
                    </a:solidFill>
                  </a:tcPr>
                </a:tc>
                <a:tc>
                  <a:txBody>
                    <a:bodyPr lIns="7200" rIns="720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 87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4faa8"/>
                    </a:solidFill>
                  </a:tcPr>
                </a:tc>
                <a:tc>
                  <a:txBody>
                    <a:bodyPr lIns="7200" rIns="720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4faa8"/>
                    </a:solidFill>
                  </a:tcPr>
                </a:tc>
                <a:tc>
                  <a:txBody>
                    <a:bodyPr lIns="7200" rIns="720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4faa8"/>
                    </a:solidFill>
                  </a:tcPr>
                </a:tc>
              </a:tr>
              <a:tr h="389880">
                <a:tc>
                  <a:txBody>
                    <a:bodyPr lIns="7200" rIns="720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4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 28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 29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78" name="TextBox 1"/>
          <p:cNvSpPr/>
          <p:nvPr/>
        </p:nvSpPr>
        <p:spPr>
          <a:xfrm>
            <a:off x="8675640" y="189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9" name="Picture 2" descr="C:\Users\gerbikh\Pictures\Рисунок1.jpg"/>
          <p:cNvPicPr/>
          <p:nvPr/>
        </p:nvPicPr>
        <p:blipFill>
          <a:blip r:embed="rId1"/>
          <a:stretch/>
        </p:blipFill>
        <p:spPr>
          <a:xfrm>
            <a:off x="2822400" y="2098800"/>
            <a:ext cx="6286680" cy="4714920"/>
          </a:xfrm>
          <a:prstGeom prst="rect">
            <a:avLst/>
          </a:prstGeom>
          <a:ln w="0">
            <a:noFill/>
          </a:ln>
        </p:spPr>
      </p:pic>
      <p:sp>
        <p:nvSpPr>
          <p:cNvPr id="1580" name="Прямоугольник 2"/>
          <p:cNvSpPr/>
          <p:nvPr/>
        </p:nvSpPr>
        <p:spPr>
          <a:xfrm>
            <a:off x="2843280" y="1989000"/>
            <a:ext cx="6286320" cy="4714920"/>
          </a:xfrm>
          <a:prstGeom prst="rect">
            <a:avLst/>
          </a:prstGeom>
          <a:solidFill>
            <a:srgbClr val="ffffff">
              <a:alpha val="76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1" name="Picture 4" descr="D:\Ольга Виноградова\!Т\ТФОМС\Презентация\Картинки для презентации\Лого1.jpg"/>
          <p:cNvPicPr/>
          <p:nvPr/>
        </p:nvPicPr>
        <p:blipFill>
          <a:blip r:embed="rId2"/>
          <a:stretch/>
        </p:blipFill>
        <p:spPr>
          <a:xfrm>
            <a:off x="611280" y="333360"/>
            <a:ext cx="2448000" cy="706320"/>
          </a:xfrm>
          <a:prstGeom prst="rect">
            <a:avLst/>
          </a:prstGeom>
          <a:ln w="0">
            <a:noFill/>
          </a:ln>
        </p:spPr>
      </p:pic>
      <p:sp>
        <p:nvSpPr>
          <p:cNvPr id="1582" name="Управляющая кнопка: далее 13">
            <a:hlinkClick r:id="" action="ppaction://hlinkshowjump?jump=nextslide"/>
          </p:cNvPr>
          <p:cNvSpPr/>
          <p:nvPr/>
        </p:nvSpPr>
        <p:spPr>
          <a:xfrm>
            <a:off x="8658360" y="150840"/>
            <a:ext cx="347400" cy="363600"/>
          </a:xfrm>
          <a:custGeom>
            <a:avLst/>
            <a:gdLst>
              <a:gd name="textAreaLeft" fmla="*/ 22320 w 347400"/>
              <a:gd name="textAreaRight" fmla="*/ 325080 w 347400"/>
              <a:gd name="textAreaTop" fmla="*/ 22320 h 363600"/>
              <a:gd name="textAreaBottom" fmla="*/ 341280 h 363600"/>
            </a:gdLst>
            <a:ahLst/>
            <a:rect l="textAreaLeft" t="textAreaTop" r="textAreaRight" b="textAreaBottom"/>
            <a:pathLst>
              <a:path w="21600" h="22606">
                <a:moveTo>
                  <a:pt x="0" y="0"/>
                </a:moveTo>
                <a:lnTo>
                  <a:pt x="21600" y="0"/>
                </a:lnTo>
                <a:lnTo>
                  <a:pt x="21600" y="22606"/>
                </a:lnTo>
                <a:lnTo>
                  <a:pt x="0" y="22606"/>
                </a:lnTo>
                <a:close/>
              </a:path>
              <a:path fill="lightenLess" w="21600" h="226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606">
                <a:moveTo>
                  <a:pt x="21600" y="0"/>
                </a:moveTo>
                <a:lnTo>
                  <a:pt x="21600" y="22606"/>
                </a:lnTo>
                <a:lnTo>
                  <a:pt x="20200" y="21206"/>
                </a:lnTo>
                <a:lnTo>
                  <a:pt x="20200" y="1400"/>
                </a:lnTo>
                <a:close/>
              </a:path>
              <a:path fill="darkenLess" w="21600" h="22606">
                <a:moveTo>
                  <a:pt x="21600" y="22606"/>
                </a:moveTo>
                <a:lnTo>
                  <a:pt x="0" y="22606"/>
                </a:lnTo>
                <a:lnTo>
                  <a:pt x="1400" y="21206"/>
                </a:lnTo>
                <a:lnTo>
                  <a:pt x="20200" y="21206"/>
                </a:lnTo>
                <a:close/>
              </a:path>
              <a:path fill="lighten" w="21600" h="22606">
                <a:moveTo>
                  <a:pt x="0" y="226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1206"/>
                </a:lnTo>
                <a:close/>
              </a:path>
              <a:path fill="darken" w="21600" h="22606">
                <a:moveTo>
                  <a:pt x="3794" y="4297"/>
                </a:moveTo>
                <a:lnTo>
                  <a:pt x="17806" y="11303"/>
                </a:lnTo>
                <a:lnTo>
                  <a:pt x="3794" y="18310"/>
                </a:lnTo>
                <a:close/>
              </a:path>
            </a:pathLst>
          </a:custGeom>
          <a:blipFill rotWithShape="0">
            <a:blip r:embed="rId3">
              <a:alphaModFix amt="0"/>
            </a:blip>
            <a:srcRect/>
            <a:tile tx="0" ty="0" sx="100000" sy="100000" algn="ctr"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3" name="PlaceHolder 1"/>
          <p:cNvSpPr>
            <a:spLocks noGrp="1"/>
          </p:cNvSpPr>
          <p:nvPr>
            <p:ph type="title"/>
          </p:nvPr>
        </p:nvSpPr>
        <p:spPr>
          <a:xfrm>
            <a:off x="3059280" y="43920"/>
            <a:ext cx="562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eaf"/>
                </a:solidFill>
                <a:latin typeface="Arial"/>
                <a:ea typeface="Arial"/>
              </a:rPr>
              <a:t>Сведения о среднемесячной </a:t>
            </a:r>
            <a:br>
              <a:rPr sz="2000"/>
            </a:br>
            <a:r>
              <a:rPr b="1" lang="ru-RU" sz="2000" spc="-1" strike="noStrike">
                <a:solidFill>
                  <a:srgbClr val="006eaf"/>
                </a:solidFill>
                <a:latin typeface="Arial"/>
                <a:ea typeface="Arial"/>
              </a:rPr>
              <a:t>начисленной заработной плат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84" name=""/>
          <p:cNvGraphicFramePr/>
          <p:nvPr/>
        </p:nvGraphicFramePr>
        <p:xfrm>
          <a:off x="539640" y="1341360"/>
          <a:ext cx="7054920" cy="3694320"/>
        </p:xfrm>
        <a:graphic>
          <a:graphicData uri="http://schemas.openxmlformats.org/drawingml/2006/table">
            <a:tbl>
              <a:tblPr/>
              <a:tblGrid>
                <a:gridCol w="1276560"/>
                <a:gridCol w="1098360"/>
                <a:gridCol w="1008000"/>
                <a:gridCol w="1152720"/>
                <a:gridCol w="1079280"/>
                <a:gridCol w="1440000"/>
              </a:tblGrid>
              <a:tr h="9997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тегория персонал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работная плата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 2013 г. </a:t>
                      </a:r>
                      <a:r>
                        <a:rPr b="1" i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тыс. руб.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4faa8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работная плата за 2012 г. </a:t>
                      </a:r>
                      <a:r>
                        <a:rPr b="1" i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тыс.руб.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отношение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3 г.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 2012 г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отношение к средней з/плате по Свердловской области</a:t>
                      </a:r>
                      <a:r>
                        <a:rPr b="1" i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7,98 тыс. руб. –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 2013 г.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0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ктическо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левое </a:t>
                      </a:r>
                      <a:r>
                        <a:rPr b="1" lang="ru-RU" sz="1300" spc="-1" strike="noStrike">
                          <a:solidFill>
                            <a:srgbClr val="dc281e"/>
                          </a:solidFill>
                          <a:latin typeface="Arial"/>
                        </a:rPr>
                        <a:t>*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98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рачи, включая руководителей структурных подразделе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,6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4faa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8,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8,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6,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ний медицинский персона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,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4faa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7,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,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,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ладший медицинский персона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,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4faa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5,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,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,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85" name="TextBox 5"/>
          <p:cNvSpPr/>
          <p:nvPr/>
        </p:nvSpPr>
        <p:spPr>
          <a:xfrm>
            <a:off x="179280" y="5607000"/>
            <a:ext cx="59770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dc281e"/>
                </a:solidFill>
                <a:latin typeface="Arial"/>
              </a:rPr>
              <a:t>* В соответствии с Постановлением Правительства Свердловской области от 26.02.2013 г. № 225-ПП "Об утверждении плана мероприятий ("Дорожной карты") "Изменения в отраслях социальной сферы, направленные на повышение эффективности здравоохранения в Свердловской области"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PlaceHolder 1"/>
          <p:cNvSpPr>
            <a:spLocks noGrp="1"/>
          </p:cNvSpPr>
          <p:nvPr>
            <p:ph type="title"/>
          </p:nvPr>
        </p:nvSpPr>
        <p:spPr>
          <a:xfrm>
            <a:off x="3059280" y="-27360"/>
            <a:ext cx="562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eaf"/>
                </a:solidFill>
                <a:latin typeface="Arial"/>
                <a:ea typeface="Arial"/>
              </a:rPr>
              <a:t>Информация о численности                застрахованных по ОМС лиц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7" name="Picture 4" descr="D:\Ольга Виноградова\!Т\ТФОМС\Презентация\Картинки для презентации\Лого1.jpg"/>
          <p:cNvPicPr/>
          <p:nvPr/>
        </p:nvPicPr>
        <p:blipFill>
          <a:blip r:embed="rId1"/>
          <a:stretch/>
        </p:blipFill>
        <p:spPr>
          <a:xfrm>
            <a:off x="179280" y="272880"/>
            <a:ext cx="2448000" cy="708120"/>
          </a:xfrm>
          <a:prstGeom prst="rect">
            <a:avLst/>
          </a:prstGeom>
          <a:ln w="0">
            <a:noFill/>
          </a:ln>
        </p:spPr>
      </p:pic>
      <p:sp>
        <p:nvSpPr>
          <p:cNvPr id="1588" name="TextBox 4"/>
          <p:cNvSpPr/>
          <p:nvPr/>
        </p:nvSpPr>
        <p:spPr>
          <a:xfrm>
            <a:off x="8712360" y="108000"/>
            <a:ext cx="5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89" name=""/>
          <p:cNvGraphicFramePr/>
          <p:nvPr/>
        </p:nvGraphicFramePr>
        <p:xfrm>
          <a:off x="539640" y="981000"/>
          <a:ext cx="8280360" cy="5019840"/>
        </p:xfrm>
        <a:graphic>
          <a:graphicData uri="http://schemas.openxmlformats.org/drawingml/2006/table">
            <a:tbl>
              <a:tblPr/>
              <a:tblGrid>
                <a:gridCol w="420840"/>
                <a:gridCol w="2603520"/>
                <a:gridCol w="1079280"/>
                <a:gridCol w="1729080"/>
                <a:gridCol w="1079280"/>
                <a:gridCol w="1368360"/>
              </a:tblGrid>
              <a:tr h="312840">
                <a:tc rowSpan="3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 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/п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М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застрахованны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том числе, зарегистрированные в Свердловской област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крепленные к медицинским организация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9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01.01.2014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кт (чел.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ля от количества застрахованны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4faa8"/>
                    </a:solidFill>
                  </a:tcPr>
                </a:tc>
              </a:tr>
              <a:tr h="287280"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СТРАМЕД-М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720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636 3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606 9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720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471 0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720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,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4faa8"/>
                    </a:solidFill>
                  </a:tcPr>
                </a:tc>
              </a:tr>
              <a:tr h="289080"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ГМК-Медици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720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8 5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6 8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720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3 1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720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,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4faa8"/>
                    </a:solidFill>
                  </a:tcPr>
                </a:tc>
              </a:tr>
              <a:tr h="274680"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рал-Рецепт 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720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8 18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5 3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720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8 9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720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,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4faa8"/>
                    </a:solidFill>
                  </a:tcPr>
                </a:tc>
              </a:tr>
              <a:tr h="287280"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катеринбург РОСНО-М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720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9 1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8 1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720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7 9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720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,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4faa8"/>
                    </a:solidFill>
                  </a:tcPr>
                </a:tc>
              </a:tr>
              <a:tr h="372960"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катеринбургский филиа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ГАЗ-Ме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720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2 6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7 1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720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5 2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720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,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4faa8"/>
                    </a:solidFill>
                  </a:tcPr>
                </a:tc>
              </a:tr>
              <a:tr h="372960"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илиал Ингосстрах-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г.Екатеринбург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720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8 1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4 1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720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7 6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720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,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4faa8"/>
                    </a:solidFill>
                  </a:tcPr>
                </a:tc>
              </a:tr>
              <a:tr h="393840"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илиал Астра-Металл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Свердловской обла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720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 0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 1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720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 77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720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,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4faa8"/>
                    </a:solidFill>
                  </a:tcPr>
                </a:tc>
              </a:tr>
              <a:tr h="372960"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катеринбургский Филиал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К-Милосерд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720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 9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 6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720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 6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720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,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4faa8"/>
                    </a:solidFill>
                  </a:tcPr>
                </a:tc>
              </a:tr>
              <a:tr h="372960"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илиал АСК-Ме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лая Башня-Ме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ce6ff"/>
                    </a:solidFill>
                  </a:tcPr>
                </a:tc>
                <a:tc>
                  <a:txBody>
                    <a:bodyPr lIns="7200" rIns="7200" tIns="720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 3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ce6ff"/>
                    </a:solidFill>
                  </a:tcPr>
                </a:tc>
                <a:tc>
                  <a:txBody>
                    <a:bodyPr lIns="7200" rIns="7200" tIns="720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 9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ce6ff"/>
                    </a:solidFill>
                  </a:tcPr>
                </a:tc>
                <a:tc>
                  <a:txBody>
                    <a:bodyPr lIns="7200" rIns="7200" tIns="720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 2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ce6ff"/>
                    </a:solidFill>
                  </a:tcPr>
                </a:tc>
                <a:tc>
                  <a:txBody>
                    <a:bodyPr lIns="7200" rIns="7200" tIns="720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,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ce6ff"/>
                    </a:solidFill>
                  </a:tcPr>
                </a:tc>
              </a:tr>
              <a:tr h="343080"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РМС Территори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работает в системе ОМС с 01.01.2014 г.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7200" rIns="7200" tIns="720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7440"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т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526 2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460 3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209 67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,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4faa8"/>
                    </a:solidFill>
                  </a:tcPr>
                </a:tc>
              </a:tr>
            </a:tbl>
          </a:graphicData>
        </a:graphic>
      </p:graphicFrame>
      <p:sp>
        <p:nvSpPr>
          <p:cNvPr id="1590" name="Прямоугольник 8"/>
          <p:cNvSpPr/>
          <p:nvPr/>
        </p:nvSpPr>
        <p:spPr>
          <a:xfrm>
            <a:off x="468360" y="6161040"/>
            <a:ext cx="8405640" cy="550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правочно: по данным Росстата численность населения Свердловской области на 01.01.2013 составляла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ff3300"/>
                </a:solidFill>
                <a:latin typeface="Arial"/>
                <a:ea typeface="Arial"/>
              </a:rPr>
              <a:t>4 315 830 чел.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1" name="Picture 4" descr="D:\Ольга Виноградова\!Т\ТФОМС\Презентация\Картинки для презентации\Лого1.jpg"/>
          <p:cNvPicPr/>
          <p:nvPr/>
        </p:nvPicPr>
        <p:blipFill>
          <a:blip r:embed="rId1"/>
          <a:stretch/>
        </p:blipFill>
        <p:spPr>
          <a:xfrm>
            <a:off x="324000" y="260280"/>
            <a:ext cx="2447640" cy="706680"/>
          </a:xfrm>
          <a:prstGeom prst="rect">
            <a:avLst/>
          </a:prstGeom>
          <a:ln w="0">
            <a:noFill/>
          </a:ln>
        </p:spPr>
      </p:pic>
      <p:sp>
        <p:nvSpPr>
          <p:cNvPr id="1592" name="Заголовок 1"/>
          <p:cNvSpPr/>
          <p:nvPr/>
        </p:nvSpPr>
        <p:spPr>
          <a:xfrm>
            <a:off x="2868480" y="260280"/>
            <a:ext cx="602460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eaf"/>
                </a:solidFill>
                <a:latin typeface="Arial"/>
                <a:ea typeface="Arial"/>
              </a:rPr>
              <a:t>Актуализация Регистра на 01.04.2014 год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3" name="Рисунок 1" descr=""/>
          <p:cNvPicPr/>
          <p:nvPr/>
        </p:nvPicPr>
        <p:blipFill>
          <a:blip r:embed="rId2"/>
          <a:stretch/>
        </p:blipFill>
        <p:spPr>
          <a:xfrm>
            <a:off x="5846760" y="3573360"/>
            <a:ext cx="3046320" cy="935280"/>
          </a:xfrm>
          <a:prstGeom prst="rect">
            <a:avLst/>
          </a:prstGeom>
          <a:ln w="9360">
            <a:solidFill>
              <a:srgbClr val="36b4ff"/>
            </a:solidFill>
            <a:miter/>
          </a:ln>
          <a:effectLst>
            <a:outerShdw dist="153753" dir="2700000" blurRad="0" rotWithShape="0">
              <a:srgbClr val="000000">
                <a:alpha val="20000"/>
              </a:srgbClr>
            </a:outerShdw>
          </a:effectLst>
        </p:spPr>
      </p:pic>
      <p:pic>
        <p:nvPicPr>
          <p:cNvPr id="1594" name="Рисунок 5" descr=""/>
          <p:cNvPicPr/>
          <p:nvPr/>
        </p:nvPicPr>
        <p:blipFill>
          <a:blip r:embed="rId3"/>
          <a:stretch/>
        </p:blipFill>
        <p:spPr>
          <a:xfrm>
            <a:off x="2700360" y="3284640"/>
            <a:ext cx="2558880" cy="2016000"/>
          </a:xfrm>
          <a:prstGeom prst="rect">
            <a:avLst/>
          </a:prstGeom>
          <a:ln w="9360">
            <a:solidFill>
              <a:srgbClr val="36b4ff"/>
            </a:solidFill>
            <a:miter/>
          </a:ln>
          <a:effectLst>
            <a:outerShdw dist="153753" dir="2700000" blurRad="0" rotWithShape="0">
              <a:srgbClr val="000000">
                <a:alpha val="20000"/>
              </a:srgbClr>
            </a:outerShdw>
          </a:effectLst>
        </p:spPr>
      </p:pic>
      <p:pic>
        <p:nvPicPr>
          <p:cNvPr id="1595" name="Рисунок 6" descr=""/>
          <p:cNvPicPr/>
          <p:nvPr/>
        </p:nvPicPr>
        <p:blipFill>
          <a:blip r:embed="rId4"/>
          <a:stretch/>
        </p:blipFill>
        <p:spPr>
          <a:xfrm>
            <a:off x="5869080" y="1495440"/>
            <a:ext cx="3024000" cy="1646280"/>
          </a:xfrm>
          <a:prstGeom prst="rect">
            <a:avLst/>
          </a:prstGeom>
          <a:ln w="9360">
            <a:solidFill>
              <a:srgbClr val="36b4ff"/>
            </a:solidFill>
            <a:miter/>
          </a:ln>
          <a:effectLst>
            <a:outerShdw dist="153753" dir="2700000" blurRad="0" rotWithShape="0">
              <a:srgbClr val="000000">
                <a:alpha val="20000"/>
              </a:srgbClr>
            </a:outerShdw>
          </a:effectLst>
        </p:spPr>
      </p:pic>
      <p:pic>
        <p:nvPicPr>
          <p:cNvPr id="1596" name="Рисунок 8" descr=""/>
          <p:cNvPicPr/>
          <p:nvPr/>
        </p:nvPicPr>
        <p:blipFill>
          <a:blip r:embed="rId5"/>
          <a:stretch/>
        </p:blipFill>
        <p:spPr>
          <a:xfrm>
            <a:off x="250920" y="3284640"/>
            <a:ext cx="1873080" cy="2016000"/>
          </a:xfrm>
          <a:prstGeom prst="rect">
            <a:avLst/>
          </a:prstGeom>
          <a:ln w="9360">
            <a:solidFill>
              <a:srgbClr val="79cd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597" name="TextBox 9"/>
          <p:cNvSpPr/>
          <p:nvPr/>
        </p:nvSpPr>
        <p:spPr>
          <a:xfrm>
            <a:off x="250920" y="2762280"/>
            <a:ext cx="1873080" cy="520200"/>
          </a:xfrm>
          <a:prstGeom prst="rect">
            <a:avLst/>
          </a:prstGeom>
          <a:solidFill>
            <a:srgbClr val="f2f2f2"/>
          </a:solidFill>
          <a:ln w="9360">
            <a:solidFill>
              <a:srgbClr val="36b4ff"/>
            </a:solidFill>
            <a:miter/>
          </a:ln>
          <a:effectLst>
            <a:outerShdw dist="153753" dir="27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757"/>
                </a:solidFill>
                <a:latin typeface="Arial"/>
              </a:rPr>
              <a:t>Старый полис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757"/>
                </a:solidFill>
                <a:latin typeface="Arial"/>
              </a:rPr>
              <a:t>– </a:t>
            </a:r>
            <a:r>
              <a:rPr b="0" lang="ru-RU" sz="1400" spc="-1" strike="noStrike">
                <a:solidFill>
                  <a:srgbClr val="003757"/>
                </a:solidFill>
                <a:latin typeface="Arial"/>
              </a:rPr>
              <a:t>1 230 138 чел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8" name="TextBox 15"/>
          <p:cNvSpPr/>
          <p:nvPr/>
        </p:nvSpPr>
        <p:spPr>
          <a:xfrm>
            <a:off x="5869080" y="1176480"/>
            <a:ext cx="3024000" cy="307080"/>
          </a:xfrm>
          <a:prstGeom prst="rect">
            <a:avLst/>
          </a:prstGeom>
          <a:solidFill>
            <a:srgbClr val="f2f2f2"/>
          </a:solidFill>
          <a:ln w="9360">
            <a:solidFill>
              <a:srgbClr val="36b4ff"/>
            </a:solidFill>
            <a:miter/>
          </a:ln>
          <a:effectLst>
            <a:outerShdw dist="153753" dir="27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757"/>
                </a:solidFill>
                <a:latin typeface="Arial"/>
              </a:rPr>
              <a:t>Новый полис – 1 791 276 чел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9" name="TextBox 16"/>
          <p:cNvSpPr/>
          <p:nvPr/>
        </p:nvSpPr>
        <p:spPr>
          <a:xfrm>
            <a:off x="5846760" y="3265560"/>
            <a:ext cx="3046320" cy="307080"/>
          </a:xfrm>
          <a:prstGeom prst="rect">
            <a:avLst/>
          </a:prstGeom>
          <a:solidFill>
            <a:srgbClr val="f2f2f2"/>
          </a:solidFill>
          <a:ln w="9360">
            <a:solidFill>
              <a:srgbClr val="36b4ff"/>
            </a:solidFill>
            <a:miter/>
          </a:ln>
          <a:effectLst>
            <a:outerShdw dist="153753" dir="27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757"/>
                </a:solidFill>
                <a:latin typeface="Arial"/>
              </a:rPr>
              <a:t>Электронный полис – 991 751 </a:t>
            </a:r>
            <a:r>
              <a:rPr b="1" lang="ru-RU" sz="1200" spc="-1" strike="noStrike">
                <a:solidFill>
                  <a:srgbClr val="003757"/>
                </a:solidFill>
                <a:latin typeface="Arial"/>
              </a:rPr>
              <a:t>че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0" name="TextBox 17"/>
          <p:cNvSpPr/>
          <p:nvPr/>
        </p:nvSpPr>
        <p:spPr>
          <a:xfrm>
            <a:off x="2700360" y="2762280"/>
            <a:ext cx="2558880" cy="520200"/>
          </a:xfrm>
          <a:prstGeom prst="rect">
            <a:avLst/>
          </a:prstGeom>
          <a:solidFill>
            <a:srgbClr val="f2f2f2"/>
          </a:solidFill>
          <a:ln w="9360">
            <a:solidFill>
              <a:srgbClr val="36b4ff"/>
            </a:solidFill>
            <a:miter/>
          </a:ln>
          <a:effectLst>
            <a:outerShdw dist="153753" dir="27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757"/>
                </a:solidFill>
                <a:latin typeface="Arial"/>
              </a:rPr>
              <a:t>Временное свидетельство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757"/>
                </a:solidFill>
                <a:latin typeface="Arial"/>
              </a:rPr>
              <a:t>– </a:t>
            </a:r>
            <a:r>
              <a:rPr b="0" lang="ru-RU" sz="1400" spc="-1" strike="noStrike">
                <a:solidFill>
                  <a:srgbClr val="003757"/>
                </a:solidFill>
                <a:latin typeface="Arial"/>
              </a:rPr>
              <a:t>422 061 чел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1" name="Прямая соединительная линия 21"/>
          <p:cNvSpPr/>
          <p:nvPr/>
        </p:nvSpPr>
        <p:spPr>
          <a:xfrm>
            <a:off x="468360" y="1125360"/>
            <a:ext cx="8424720" cy="0"/>
          </a:xfrm>
          <a:prstGeom prst="line">
            <a:avLst/>
          </a:prstGeom>
          <a:ln w="19080">
            <a:solidFill>
              <a:srgbClr val="006e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2" name="Picture 28" descr="C:\Users\denislamova\AppData\Local\Microsoft\Windows\Temporary Internet Files\Content.Outlook\MJ4G7F0E\УЭК.jpg"/>
          <p:cNvPicPr/>
          <p:nvPr/>
        </p:nvPicPr>
        <p:blipFill>
          <a:blip r:embed="rId6"/>
          <a:stretch/>
        </p:blipFill>
        <p:spPr>
          <a:xfrm>
            <a:off x="5846760" y="5229360"/>
            <a:ext cx="3046320" cy="1224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03" name="TextBox 26"/>
          <p:cNvSpPr/>
          <p:nvPr/>
        </p:nvSpPr>
        <p:spPr>
          <a:xfrm>
            <a:off x="5846760" y="4705200"/>
            <a:ext cx="3067200" cy="520200"/>
          </a:xfrm>
          <a:prstGeom prst="rect">
            <a:avLst/>
          </a:prstGeom>
          <a:solidFill>
            <a:srgbClr val="f2f2f2"/>
          </a:solidFill>
          <a:ln w="9360">
            <a:solidFill>
              <a:srgbClr val="36b4ff"/>
            </a:solidFill>
            <a:miter/>
          </a:ln>
          <a:effectLst>
            <a:outerShdw dist="153753" dir="27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757"/>
                </a:solidFill>
                <a:latin typeface="Arial"/>
              </a:rPr>
              <a:t>Универсальная электронная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757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3757"/>
                </a:solidFill>
                <a:latin typeface="Arial"/>
              </a:rPr>
              <a:t>карта – 3 760 чел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4" name="Прямоугольник 2"/>
          <p:cNvSpPr/>
          <p:nvPr/>
        </p:nvSpPr>
        <p:spPr>
          <a:xfrm>
            <a:off x="539640" y="1351080"/>
            <a:ext cx="4646880" cy="925560"/>
          </a:xfrm>
          <a:prstGeom prst="rect">
            <a:avLst/>
          </a:prstGeom>
          <a:solidFill>
            <a:srgbClr val="006eaf"/>
          </a:solidFill>
          <a:ln w="25560">
            <a:solidFill>
              <a:srgbClr val="474444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Численность Регистра на 01.04.2014 год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4 438 986  чел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5" name="Прямоугольник 4"/>
          <p:cNvSpPr/>
          <p:nvPr/>
        </p:nvSpPr>
        <p:spPr>
          <a:xfrm>
            <a:off x="401760" y="5765760"/>
            <a:ext cx="4933800" cy="684360"/>
          </a:xfrm>
          <a:prstGeom prst="rect">
            <a:avLst/>
          </a:prstGeom>
          <a:solidFill>
            <a:srgbClr val="006eaf"/>
          </a:solidFill>
          <a:ln w="25560">
            <a:solidFill>
              <a:srgbClr val="4744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Доля актуализированных записей в Регистре (застрахованное лицо имеет временное свидетельство или полис единого образца) 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7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06" name="Плюс 29"/>
          <p:cNvGrpSpPr/>
          <p:nvPr/>
        </p:nvGrpSpPr>
        <p:grpSpPr>
          <a:xfrm>
            <a:off x="2146320" y="4200480"/>
            <a:ext cx="554040" cy="547560"/>
            <a:chOff x="2146320" y="4200480"/>
            <a:chExt cx="554040" cy="547560"/>
          </a:xfrm>
        </p:grpSpPr>
        <p:pic>
          <p:nvPicPr>
            <p:cNvPr id="1607" name="Плюс 29" descr=""/>
            <p:cNvPicPr/>
            <p:nvPr/>
          </p:nvPicPr>
          <p:blipFill>
            <a:blip r:embed="rId7"/>
            <a:stretch/>
          </p:blipFill>
          <p:spPr>
            <a:xfrm>
              <a:off x="2146320" y="4200480"/>
              <a:ext cx="554040" cy="54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8" name=""/>
            <p:cNvSpPr/>
            <p:nvPr/>
          </p:nvSpPr>
          <p:spPr>
            <a:xfrm>
              <a:off x="2203560" y="4379760"/>
              <a:ext cx="442800" cy="1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09" name="Плюс 33"/>
          <p:cNvGrpSpPr/>
          <p:nvPr/>
        </p:nvGrpSpPr>
        <p:grpSpPr>
          <a:xfrm>
            <a:off x="5273640" y="4200480"/>
            <a:ext cx="547560" cy="547560"/>
            <a:chOff x="5273640" y="4200480"/>
            <a:chExt cx="547560" cy="547560"/>
          </a:xfrm>
        </p:grpSpPr>
        <p:pic>
          <p:nvPicPr>
            <p:cNvPr id="1610" name="Плюс 33" descr=""/>
            <p:cNvPicPr/>
            <p:nvPr/>
          </p:nvPicPr>
          <p:blipFill>
            <a:blip r:embed="rId8"/>
            <a:stretch/>
          </p:blipFill>
          <p:spPr>
            <a:xfrm>
              <a:off x="5273640" y="4200480"/>
              <a:ext cx="547560" cy="54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1" name=""/>
            <p:cNvSpPr/>
            <p:nvPr/>
          </p:nvSpPr>
          <p:spPr>
            <a:xfrm>
              <a:off x="5326200" y="4379760"/>
              <a:ext cx="442800" cy="1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12" name="Стрелка вниз 34"/>
          <p:cNvGrpSpPr/>
          <p:nvPr/>
        </p:nvGrpSpPr>
        <p:grpSpPr>
          <a:xfrm>
            <a:off x="2646360" y="2316240"/>
            <a:ext cx="414360" cy="403200"/>
            <a:chOff x="2646360" y="2316240"/>
            <a:chExt cx="414360" cy="403200"/>
          </a:xfrm>
        </p:grpSpPr>
        <p:pic>
          <p:nvPicPr>
            <p:cNvPr id="1613" name="Стрелка вниз 34" descr=""/>
            <p:cNvPicPr/>
            <p:nvPr/>
          </p:nvPicPr>
          <p:blipFill>
            <a:blip r:embed="rId9"/>
            <a:stretch/>
          </p:blipFill>
          <p:spPr>
            <a:xfrm>
              <a:off x="2646360" y="2316240"/>
              <a:ext cx="414360" cy="40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4" name=""/>
            <p:cNvSpPr/>
            <p:nvPr/>
          </p:nvSpPr>
          <p:spPr>
            <a:xfrm>
              <a:off x="2776680" y="2349360"/>
              <a:ext cx="15372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15" name="Прямая соединительная линия 22"/>
          <p:cNvSpPr/>
          <p:nvPr/>
        </p:nvSpPr>
        <p:spPr>
          <a:xfrm>
            <a:off x="401760" y="6450120"/>
            <a:ext cx="8491320" cy="0"/>
          </a:xfrm>
          <a:prstGeom prst="line">
            <a:avLst/>
          </a:prstGeom>
          <a:ln w="19080">
            <a:solidFill>
              <a:srgbClr val="dc28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6" name="Управляющая кнопка: далее 35">
            <a:hlinkClick r:id="" action="ppaction://hlinkshowjump?jump=nextslide"/>
          </p:cNvPr>
          <p:cNvSpPr/>
          <p:nvPr/>
        </p:nvSpPr>
        <p:spPr>
          <a:xfrm>
            <a:off x="8636040" y="44280"/>
            <a:ext cx="473040" cy="363600"/>
          </a:xfrm>
          <a:custGeom>
            <a:avLst/>
            <a:gdLst>
              <a:gd name="textAreaLeft" fmla="*/ 23400 w 473040"/>
              <a:gd name="textAreaRight" fmla="*/ 449640 w 473040"/>
              <a:gd name="textAreaTop" fmla="*/ 23400 h 363600"/>
              <a:gd name="textAreaBottom" fmla="*/ 340200 h 363600"/>
            </a:gdLst>
            <a:ahLst/>
            <a:rect l="textAreaLeft" t="textAreaTop" r="textAreaRight" b="textAreaBottom"/>
            <a:pathLst>
              <a:path w="28095" h="21600">
                <a:moveTo>
                  <a:pt x="0" y="0"/>
                </a:moveTo>
                <a:lnTo>
                  <a:pt x="28095" y="0"/>
                </a:lnTo>
                <a:lnTo>
                  <a:pt x="28095" y="21600"/>
                </a:lnTo>
                <a:lnTo>
                  <a:pt x="0" y="21600"/>
                </a:lnTo>
                <a:close/>
              </a:path>
              <a:path fill="lightenLess" w="28095" h="21600">
                <a:moveTo>
                  <a:pt x="0" y="0"/>
                </a:moveTo>
                <a:lnTo>
                  <a:pt x="28095" y="0"/>
                </a:lnTo>
                <a:lnTo>
                  <a:pt x="26695" y="1400"/>
                </a:lnTo>
                <a:lnTo>
                  <a:pt x="1400" y="1400"/>
                </a:lnTo>
                <a:close/>
              </a:path>
              <a:path fill="darken" w="28095" h="21600">
                <a:moveTo>
                  <a:pt x="28095" y="0"/>
                </a:moveTo>
                <a:lnTo>
                  <a:pt x="28095" y="21600"/>
                </a:lnTo>
                <a:lnTo>
                  <a:pt x="26695" y="20200"/>
                </a:lnTo>
                <a:lnTo>
                  <a:pt x="26695" y="1400"/>
                </a:lnTo>
                <a:close/>
              </a:path>
              <a:path fill="darkenLess" w="28095" h="21600">
                <a:moveTo>
                  <a:pt x="280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695" y="20200"/>
                </a:lnTo>
                <a:close/>
              </a:path>
              <a:path fill="lighten" w="280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095" h="21600">
                <a:moveTo>
                  <a:pt x="7041" y="3794"/>
                </a:moveTo>
                <a:lnTo>
                  <a:pt x="21054" y="10800"/>
                </a:lnTo>
                <a:lnTo>
                  <a:pt x="7041" y="17806"/>
                </a:lnTo>
                <a:close/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17" name=""/>
          <p:cNvGraphicFramePr/>
          <p:nvPr/>
        </p:nvGraphicFramePr>
        <p:xfrm>
          <a:off x="539640" y="1413000"/>
          <a:ext cx="8064720" cy="4532040"/>
        </p:xfrm>
        <a:graphic>
          <a:graphicData uri="http://schemas.openxmlformats.org/drawingml/2006/table">
            <a:tbl>
              <a:tblPr/>
              <a:tblGrid>
                <a:gridCol w="1890720"/>
                <a:gridCol w="2260800"/>
                <a:gridCol w="2087640"/>
                <a:gridCol w="1825560"/>
              </a:tblGrid>
              <a:tr h="3981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имен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ce6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а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ce6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к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ce6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полнение,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ce6ff"/>
                    </a:solidFill>
                  </a:tcPr>
                </a:tc>
              </a:tr>
              <a:tr h="428760">
                <a:tc gridSpan="4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6eaf"/>
                          </a:solidFill>
                          <a:latin typeface="Arial"/>
                        </a:rPr>
                        <a:t>Амбулаторно-поликлиническая помощ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06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ещ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 299 9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 144 5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fdf"/>
                    </a:solidFill>
                  </a:tcPr>
                </a:tc>
              </a:tr>
              <a:tr h="428760">
                <a:tc gridSpan="4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6eaf"/>
                          </a:solidFill>
                          <a:latin typeface="Arial"/>
                        </a:rPr>
                        <a:t>Стационарная помощ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4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спитализ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4 8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6 4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dc281e"/>
                          </a:solidFill>
                          <a:latin typeface="Arial"/>
                        </a:rPr>
                        <a:t>104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fdf"/>
                    </a:solidFill>
                  </a:tcPr>
                </a:tc>
              </a:tr>
              <a:tr h="4302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йко-дн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850 5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921 57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dc281e"/>
                          </a:solidFill>
                          <a:latin typeface="Arial"/>
                        </a:rPr>
                        <a:t>100</a:t>
                      </a:r>
                      <a:r>
                        <a:rPr b="1" lang="en-US" sz="1600" spc="-1" strike="noStrike">
                          <a:solidFill>
                            <a:srgbClr val="dc281e"/>
                          </a:solidFill>
                          <a:latin typeface="Arial"/>
                        </a:rPr>
                        <a:t>,</a:t>
                      </a:r>
                      <a:r>
                        <a:rPr b="1" lang="ru-RU" sz="1600" spc="-1" strike="noStrike">
                          <a:solidFill>
                            <a:srgbClr val="dc281e"/>
                          </a:solidFill>
                          <a:latin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fdf"/>
                    </a:solidFill>
                  </a:tcPr>
                </a:tc>
              </a:tr>
              <a:tr h="428760">
                <a:tc gridSpan="4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6eaf"/>
                          </a:solidFill>
                          <a:latin typeface="Arial"/>
                        </a:rPr>
                        <a:t>Стационарозамещающая помощ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06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учаи леч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0 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1 9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fdf"/>
                    </a:solidFill>
                  </a:tcPr>
                </a:tc>
              </a:tr>
              <a:tr h="3888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циенто-дн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421 4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305 87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fdf"/>
                    </a:solidFill>
                  </a:tcPr>
                </a:tc>
              </a:tr>
              <a:tr h="428760">
                <a:tc gridSpan="4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6eaf"/>
                          </a:solidFill>
                          <a:latin typeface="Arial"/>
                        </a:rPr>
                        <a:t>Скорая медицинская помощ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02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зовы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291 5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038 3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fdf"/>
                    </a:solidFill>
                  </a:tcPr>
                </a:tc>
              </a:tr>
            </a:tbl>
          </a:graphicData>
        </a:graphic>
      </p:graphicFrame>
      <p:pic>
        <p:nvPicPr>
          <p:cNvPr id="1618" name="Picture 4" descr="D:\Ольга Виноградова\!Т\ТФОМС\Презентация\Картинки для презентации\Лого1.jpg"/>
          <p:cNvPicPr/>
          <p:nvPr/>
        </p:nvPicPr>
        <p:blipFill>
          <a:blip r:embed="rId1"/>
          <a:stretch/>
        </p:blipFill>
        <p:spPr>
          <a:xfrm>
            <a:off x="611280" y="333360"/>
            <a:ext cx="2448000" cy="706320"/>
          </a:xfrm>
          <a:prstGeom prst="rect">
            <a:avLst/>
          </a:prstGeom>
          <a:ln w="0">
            <a:noFill/>
          </a:ln>
        </p:spPr>
      </p:pic>
      <p:sp>
        <p:nvSpPr>
          <p:cNvPr id="1619" name="PlaceHolder 1"/>
          <p:cNvSpPr>
            <a:spLocks noGrp="1"/>
          </p:cNvSpPr>
          <p:nvPr>
            <p:ph type="title"/>
          </p:nvPr>
        </p:nvSpPr>
        <p:spPr>
          <a:xfrm>
            <a:off x="3059280" y="43920"/>
            <a:ext cx="562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eaf"/>
                </a:solidFill>
                <a:latin typeface="Arial"/>
                <a:ea typeface="Arial"/>
              </a:rPr>
              <a:t>Исполнение Территориальной </a:t>
            </a:r>
            <a:br>
              <a:rPr sz="2000"/>
            </a:br>
            <a:r>
              <a:rPr b="1" lang="ru-RU" sz="2000" spc="-1" strike="noStrike">
                <a:solidFill>
                  <a:srgbClr val="006eaf"/>
                </a:solidFill>
                <a:latin typeface="Arial"/>
                <a:ea typeface="Arial"/>
              </a:rPr>
              <a:t>программы ОМС за 2013 го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0" name="Управляющая кнопка: далее 8">
            <a:hlinkClick r:id="" action="ppaction://hlinkshowjump?jump=nextslide"/>
          </p:cNvPr>
          <p:cNvSpPr/>
          <p:nvPr/>
        </p:nvSpPr>
        <p:spPr>
          <a:xfrm>
            <a:off x="8562960" y="150840"/>
            <a:ext cx="473040" cy="363600"/>
          </a:xfrm>
          <a:custGeom>
            <a:avLst/>
            <a:gdLst>
              <a:gd name="textAreaLeft" fmla="*/ 23400 w 473040"/>
              <a:gd name="textAreaRight" fmla="*/ 449640 w 473040"/>
              <a:gd name="textAreaTop" fmla="*/ 23400 h 363600"/>
              <a:gd name="textAreaBottom" fmla="*/ 340200 h 363600"/>
            </a:gdLst>
            <a:ahLst/>
            <a:rect l="textAreaLeft" t="textAreaTop" r="textAreaRight" b="textAreaBottom"/>
            <a:pathLst>
              <a:path w="28095" h="21600">
                <a:moveTo>
                  <a:pt x="0" y="0"/>
                </a:moveTo>
                <a:lnTo>
                  <a:pt x="28095" y="0"/>
                </a:lnTo>
                <a:lnTo>
                  <a:pt x="28095" y="21600"/>
                </a:lnTo>
                <a:lnTo>
                  <a:pt x="0" y="21600"/>
                </a:lnTo>
                <a:close/>
              </a:path>
              <a:path fill="lightenLess" w="28095" h="21600">
                <a:moveTo>
                  <a:pt x="0" y="0"/>
                </a:moveTo>
                <a:lnTo>
                  <a:pt x="28095" y="0"/>
                </a:lnTo>
                <a:lnTo>
                  <a:pt x="26695" y="1400"/>
                </a:lnTo>
                <a:lnTo>
                  <a:pt x="1400" y="1400"/>
                </a:lnTo>
                <a:close/>
              </a:path>
              <a:path fill="darken" w="28095" h="21600">
                <a:moveTo>
                  <a:pt x="28095" y="0"/>
                </a:moveTo>
                <a:lnTo>
                  <a:pt x="28095" y="21600"/>
                </a:lnTo>
                <a:lnTo>
                  <a:pt x="26695" y="20200"/>
                </a:lnTo>
                <a:lnTo>
                  <a:pt x="26695" y="1400"/>
                </a:lnTo>
                <a:close/>
              </a:path>
              <a:path fill="darkenLess" w="28095" h="21600">
                <a:moveTo>
                  <a:pt x="280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695" y="20200"/>
                </a:lnTo>
                <a:close/>
              </a:path>
              <a:path fill="lighten" w="280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095" h="21600">
                <a:moveTo>
                  <a:pt x="7041" y="3794"/>
                </a:moveTo>
                <a:lnTo>
                  <a:pt x="21054" y="10800"/>
                </a:lnTo>
                <a:lnTo>
                  <a:pt x="7041" y="17806"/>
                </a:lnTo>
                <a:close/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ll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1" name="Picture 4" descr="D:\Ольга Виноградова\!Т\ТФОМС\Презентация\Картинки для презентации\Лого1.jpg"/>
          <p:cNvPicPr/>
          <p:nvPr/>
        </p:nvPicPr>
        <p:blipFill>
          <a:blip r:embed="rId1"/>
          <a:stretch/>
        </p:blipFill>
        <p:spPr>
          <a:xfrm>
            <a:off x="611280" y="333360"/>
            <a:ext cx="2448000" cy="706320"/>
          </a:xfrm>
          <a:prstGeom prst="rect">
            <a:avLst/>
          </a:prstGeom>
          <a:ln w="0">
            <a:noFill/>
          </a:ln>
        </p:spPr>
      </p:pic>
      <p:sp>
        <p:nvSpPr>
          <p:cNvPr id="1622" name="Управляющая кнопка: далее 6">
            <a:hlinkClick r:id="" action="ppaction://hlinkshowjump?jump=nextslide"/>
          </p:cNvPr>
          <p:cNvSpPr/>
          <p:nvPr/>
        </p:nvSpPr>
        <p:spPr>
          <a:xfrm>
            <a:off x="8636040" y="41400"/>
            <a:ext cx="473040" cy="363240"/>
          </a:xfrm>
          <a:custGeom>
            <a:avLst/>
            <a:gdLst>
              <a:gd name="textAreaLeft" fmla="*/ 23400 w 473040"/>
              <a:gd name="textAreaRight" fmla="*/ 449640 w 473040"/>
              <a:gd name="textAreaTop" fmla="*/ 23400 h 363240"/>
              <a:gd name="textAreaBottom" fmla="*/ 339840 h 363240"/>
            </a:gdLst>
            <a:ahLst/>
            <a:rect l="textAreaLeft" t="textAreaTop" r="textAreaRight" b="textAreaBottom"/>
            <a:pathLst>
              <a:path w="28123" h="21600">
                <a:moveTo>
                  <a:pt x="0" y="0"/>
                </a:moveTo>
                <a:lnTo>
                  <a:pt x="28123" y="0"/>
                </a:lnTo>
                <a:lnTo>
                  <a:pt x="28123" y="21600"/>
                </a:lnTo>
                <a:lnTo>
                  <a:pt x="0" y="21600"/>
                </a:lnTo>
                <a:close/>
              </a:path>
              <a:path fill="lightenLess" w="28123" h="21600">
                <a:moveTo>
                  <a:pt x="0" y="0"/>
                </a:moveTo>
                <a:lnTo>
                  <a:pt x="28123" y="0"/>
                </a:lnTo>
                <a:lnTo>
                  <a:pt x="26723" y="1400"/>
                </a:lnTo>
                <a:lnTo>
                  <a:pt x="1400" y="1400"/>
                </a:lnTo>
                <a:close/>
              </a:path>
              <a:path fill="darken" w="28123" h="21600">
                <a:moveTo>
                  <a:pt x="28123" y="0"/>
                </a:moveTo>
                <a:lnTo>
                  <a:pt x="28123" y="21600"/>
                </a:lnTo>
                <a:lnTo>
                  <a:pt x="26723" y="20200"/>
                </a:lnTo>
                <a:lnTo>
                  <a:pt x="26723" y="1400"/>
                </a:lnTo>
                <a:close/>
              </a:path>
              <a:path fill="darkenLess" w="28123" h="21600">
                <a:moveTo>
                  <a:pt x="281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723" y="20200"/>
                </a:lnTo>
                <a:close/>
              </a:path>
              <a:path fill="lighten" w="281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123" h="21600">
                <a:moveTo>
                  <a:pt x="7055" y="3794"/>
                </a:moveTo>
                <a:lnTo>
                  <a:pt x="21068" y="10800"/>
                </a:lnTo>
                <a:lnTo>
                  <a:pt x="7055" y="17806"/>
                </a:lnTo>
                <a:close/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23" name=""/>
          <p:cNvGraphicFramePr/>
          <p:nvPr/>
        </p:nvGraphicFramePr>
        <p:xfrm>
          <a:off x="468360" y="1308240"/>
          <a:ext cx="8351640" cy="5073480"/>
        </p:xfrm>
        <a:graphic>
          <a:graphicData uri="http://schemas.openxmlformats.org/drawingml/2006/table">
            <a:tbl>
              <a:tblPr/>
              <a:tblGrid>
                <a:gridCol w="2448000"/>
                <a:gridCol w="1317600"/>
                <a:gridCol w="795240"/>
                <a:gridCol w="1127160"/>
                <a:gridCol w="725400"/>
                <a:gridCol w="1001880"/>
                <a:gridCol w="936360"/>
              </a:tblGrid>
              <a:tr h="791280">
                <a:tc rowSpan="3"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именование медицинской организ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ходы на стационарную помощь в рамках ОМС </a:t>
                      </a: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всего,тыс.руб.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оимость койко-дня за счёт средств ОМ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ce6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5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г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том числе п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дикамента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4faa8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ля (%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дуктам питания          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с учётом аутсорсинга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4faa8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ля (%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1240">
                <a:tc>
                  <a:txBody>
                    <a:bodyPr lIns="7560" rIns="7560" tIns="756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ердловская обла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560" rIns="7560" tIns="7560" bIns="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 062 922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560" rIns="7560" tIns="7560" bIns="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534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560" rIns="7560" tIns="7560" bIns="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7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560" rIns="7560" tIns="756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560" rIns="7560" tIns="7560" bIns="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560" rIns="7560" tIns="756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05440">
                <a:tc>
                  <a:txBody>
                    <a:bodyPr lIns="7560" rIns="7560" tIns="75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ртёмовская ЦРБ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5 870,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276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4faa8"/>
                    </a:solidFill>
                  </a:tcPr>
                </a:tc>
                <a:tc>
                  <a:txBody>
                    <a:bodyPr lIns="7560" rIns="7560" tIns="756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1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4faa8"/>
                    </a:solidFill>
                  </a:tcPr>
                </a:tc>
                <a:tc>
                  <a:txBody>
                    <a:bodyPr lIns="7560" rIns="7560" tIns="756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4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160">
                <a:tc>
                  <a:txBody>
                    <a:bodyPr lIns="7560" rIns="7560" tIns="75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волялинская РБ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 690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785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4faa8"/>
                    </a:solidFill>
                  </a:tcPr>
                </a:tc>
                <a:tc>
                  <a:txBody>
                    <a:bodyPr lIns="7560" rIns="7560" tIns="756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4faa8"/>
                    </a:solidFill>
                  </a:tcPr>
                </a:tc>
                <a:tc>
                  <a:txBody>
                    <a:bodyPr lIns="7560" rIns="7560" tIns="756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360">
                <a:tc>
                  <a:txBody>
                    <a:bodyPr lIns="7560" rIns="7560" tIns="75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холожская ЦРБ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8 368,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110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4faa8"/>
                    </a:solidFill>
                  </a:tcPr>
                </a:tc>
                <a:tc>
                  <a:txBody>
                    <a:bodyPr lIns="7560" rIns="7560" tIns="756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7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4faa8"/>
                    </a:solidFill>
                  </a:tcPr>
                </a:tc>
                <a:tc>
                  <a:txBody>
                    <a:bodyPr lIns="7560" rIns="7560" tIns="756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3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72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родская инфекционна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ьница г.Нижний Таги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5 558,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961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4faa8"/>
                    </a:solidFill>
                  </a:tcPr>
                </a:tc>
                <a:tc>
                  <a:txBody>
                    <a:bodyPr lIns="7560" rIns="7560" tIns="756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9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4faa8"/>
                    </a:solidFill>
                  </a:tcPr>
                </a:tc>
                <a:tc>
                  <a:txBody>
                    <a:bodyPr lIns="7560" rIns="7560" tIns="756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2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800">
                <a:tc>
                  <a:txBody>
                    <a:bodyPr lIns="7560" rIns="7560" tIns="75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ГБ № 1 г.Нижний Таги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 885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644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4faa8"/>
                    </a:solidFill>
                  </a:tcPr>
                </a:tc>
                <a:tc>
                  <a:txBody>
                    <a:bodyPr lIns="7560" rIns="7560" tIns="756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7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4faa8"/>
                    </a:solidFill>
                  </a:tcPr>
                </a:tc>
                <a:tc>
                  <a:txBody>
                    <a:bodyPr lIns="7560" rIns="7560" tIns="756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400">
                <a:tc>
                  <a:txBody>
                    <a:bodyPr lIns="7560" rIns="7560" tIns="75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ГБ № 20 г.Екатеринбург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5 145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057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4faa8"/>
                    </a:solidFill>
                  </a:tcPr>
                </a:tc>
                <a:tc>
                  <a:txBody>
                    <a:bodyPr lIns="7560" rIns="7560" tIns="756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4faa8"/>
                    </a:solidFill>
                  </a:tcPr>
                </a:tc>
                <a:tc>
                  <a:txBody>
                    <a:bodyPr lIns="7560" rIns="7560" tIns="756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24" name="Заголовок 1"/>
          <p:cNvSpPr/>
          <p:nvPr/>
        </p:nvSpPr>
        <p:spPr>
          <a:xfrm>
            <a:off x="3059280" y="189000"/>
            <a:ext cx="6084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eaf"/>
                </a:solidFill>
                <a:latin typeface="Arial"/>
                <a:ea typeface="Arial"/>
              </a:rPr>
              <a:t>Медицинские организации с минимальным уровнем расходов на медикаменты и продукты питания в 2013 год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PlaceHolder 1"/>
          <p:cNvSpPr>
            <a:spLocks noGrp="1"/>
          </p:cNvSpPr>
          <p:nvPr>
            <p:ph type="title"/>
          </p:nvPr>
        </p:nvSpPr>
        <p:spPr>
          <a:xfrm>
            <a:off x="2626920" y="188640"/>
            <a:ext cx="62658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eaf"/>
                </a:solidFill>
                <a:latin typeface="Arial"/>
                <a:ea typeface="Arial"/>
              </a:rPr>
              <a:t>Анализ сумм финансовых санкций, примененных к медицинским организациям по результатам контроля в 2013 г. (стационар)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26" name=""/>
          <p:cNvGraphicFramePr/>
          <p:nvPr/>
        </p:nvGraphicFramePr>
        <p:xfrm>
          <a:off x="395280" y="1268280"/>
          <a:ext cx="8137440" cy="4824720"/>
        </p:xfrm>
        <a:graphic>
          <a:graphicData uri="http://schemas.openxmlformats.org/drawingml/2006/table">
            <a:tbl>
              <a:tblPr/>
              <a:tblGrid>
                <a:gridCol w="1728720"/>
                <a:gridCol w="936720"/>
                <a:gridCol w="1150920"/>
                <a:gridCol w="1008000"/>
                <a:gridCol w="1008000"/>
                <a:gridCol w="1081080"/>
                <a:gridCol w="1224000"/>
              </a:tblGrid>
              <a:tr h="7858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имено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fd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случае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fd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лачено по реестрам, тыс.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fd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мма удержания по МЭЭ, тыс.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fd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мма удержания по ЭКМП, тыс.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fd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го сумма санкций, тыс.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fd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ля санкций от оплаченной суммы,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dfdf"/>
                    </a:solidFill>
                  </a:tcPr>
                </a:tc>
              </a:tr>
              <a:tr h="582840"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ердловская област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ce6ff"/>
                    </a:solidFill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3 79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ce6ff"/>
                    </a:solidFill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 162 835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ce6ff"/>
                    </a:solidFill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7 111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ce6ff"/>
                    </a:solidFill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 168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ce6ff"/>
                    </a:solidFill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3 765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ce6ff"/>
                    </a:solidFill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8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ce6ff"/>
                    </a:solidFill>
                  </a:tcPr>
                </a:tc>
              </a:tr>
              <a:tr h="4316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ГБ № 16 г.Екатеринбург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66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 548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317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340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4faa8"/>
                    </a:solidFill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7,6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4faa8"/>
                    </a:solidFill>
                  </a:tcPr>
                </a:tc>
              </a:tr>
              <a:tr h="4316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Б 4 г.Первоуральс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3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 747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052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0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782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4faa8"/>
                    </a:solidFill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6,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4faa8"/>
                    </a:solidFill>
                  </a:tcPr>
                </a:tc>
              </a:tr>
              <a:tr h="4320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ГБ г.Сер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19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 266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470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8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908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4faa8"/>
                    </a:solidFill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5,9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4faa8"/>
                    </a:solidFill>
                  </a:tcPr>
                </a:tc>
              </a:tr>
              <a:tr h="4316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РБ Верхотурско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йон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6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 490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782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5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917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4faa8"/>
                    </a:solidFill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5,8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4faa8"/>
                    </a:solidFill>
                  </a:tcPr>
                </a:tc>
              </a:tr>
              <a:tr h="3603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Б г.В.Таги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28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 959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222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8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330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4faa8"/>
                    </a:solidFill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4faa8"/>
                    </a:solidFill>
                  </a:tcPr>
                </a:tc>
              </a:tr>
              <a:tr h="3603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ртинская ЦРБ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86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9 884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076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3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309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4faa8"/>
                    </a:solidFill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4faa8"/>
                    </a:solidFill>
                  </a:tcPr>
                </a:tc>
              </a:tr>
              <a:tr h="5050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ГБ г.Асбес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88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 607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368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376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4faa8"/>
                    </a:solidFill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6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4faa8"/>
                    </a:solidFill>
                  </a:tcPr>
                </a:tc>
              </a:tr>
              <a:tr h="5032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алинская ЦГБ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4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 973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900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4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214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4faa8"/>
                    </a:solidFill>
                  </a:tcPr>
                </a:tc>
                <a:tc>
                  <a:txBody>
                    <a:bodyPr lIns="9360" rIns="9360" tIns="9360" bIns="0" anchor="ctr" anchorCtr="1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5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4faa8"/>
                    </a:solidFill>
                  </a:tcPr>
                </a:tc>
              </a:tr>
            </a:tbl>
          </a:graphicData>
        </a:graphic>
      </p:graphicFrame>
      <p:pic>
        <p:nvPicPr>
          <p:cNvPr id="1627" name="Picture 4" descr="D:\Ольга Виноградова\!Т\ТФОМС\Презентация\Картинки для презентации\Лого1.jpg"/>
          <p:cNvPicPr/>
          <p:nvPr/>
        </p:nvPicPr>
        <p:blipFill>
          <a:blip r:embed="rId1"/>
          <a:stretch/>
        </p:blipFill>
        <p:spPr>
          <a:xfrm>
            <a:off x="179280" y="272880"/>
            <a:ext cx="2448000" cy="708120"/>
          </a:xfrm>
          <a:prstGeom prst="rect">
            <a:avLst/>
          </a:prstGeom>
          <a:ln w="0">
            <a:noFill/>
          </a:ln>
        </p:spPr>
      </p:pic>
      <p:sp>
        <p:nvSpPr>
          <p:cNvPr id="1628" name="TextBox 5"/>
          <p:cNvSpPr/>
          <p:nvPr/>
        </p:nvSpPr>
        <p:spPr>
          <a:xfrm>
            <a:off x="8674200" y="7128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7T11:43:19Z</dcterms:created>
  <dc:creator>Designer-Solaris</dc:creator>
  <dc:description/>
  <dc:language>en-US</dc:language>
  <cp:lastModifiedBy>Денисламова Елена Михайловна</cp:lastModifiedBy>
  <cp:lastPrinted>2014-04-09T03:18:25Z</cp:lastPrinted>
  <dcterms:modified xsi:type="dcterms:W3CDTF">2014-04-09T04:05:35Z</dcterms:modified>
  <cp:revision>572</cp:revision>
  <dc:subject/>
  <dc:title>Презентация PowerPoint</dc:title>
</cp:coreProperties>
</file>