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4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E59-2156-4BF7-A904-E0D9944BA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CD5-EC5C-4AA3-B5DE-FB6CB6A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7D6-239D-47D2-B607-095D8902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5F9-A7F5-49EB-8974-4CB1FEDB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A22-2D16-4626-8410-1663F351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B79-633D-46CD-AA36-01EB795E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412-F153-43B7-BE2C-220A2ADF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F90-A5FC-4AB1-A72A-64A8985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84F-E156-4CAC-843A-7576CCFA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BCC-EB6B-4A00-A218-0AE1678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120-FB05-47E6-AC8E-8510DB8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DC9-4F6A-4BE7-8B48-AB10EEE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0E8-90DF-4C85-BB58-C4AAA22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4F58-36A8-4289-920A-66B41A02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package" Target="../embeddings/oleObject3.xlsx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583-54EC-43B7-8819-1D945678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1843560"/>
            <a:ext cx="846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чи по организации межведомственного взаимо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 противодействию распространению ВИЧ-инфе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 Свердл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43-36.png"/>
          <p:cNvPicPr/>
          <p:nvPr/>
        </p:nvPicPr>
        <p:blipFill>
          <a:blip r:embed="rId2"/>
          <a:stretch/>
        </p:blipFill>
        <p:spPr>
          <a:xfrm>
            <a:off x="3492360" y="260280"/>
            <a:ext cx="2076480" cy="1481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763640" y="48690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"/>
              </a:rPr>
              <a:t>В.А. Власов - первый Заместитель Председателя Прави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Arial"/>
              </a:rPr>
              <a:t>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0160" y="623736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декабря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2" descr="3.wmf"/>
          <p:cNvPicPr/>
          <p:nvPr/>
        </p:nvPicPr>
        <p:blipFill>
          <a:blip r:embed="rId2"/>
          <a:stretch/>
        </p:blipFill>
        <p:spPr>
          <a:xfrm>
            <a:off x="826920" y="189000"/>
            <a:ext cx="7635960" cy="1493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график6.wmf"/>
          <p:cNvPicPr/>
          <p:nvPr/>
        </p:nvPicPr>
        <p:blipFill>
          <a:blip r:embed="rId3"/>
          <a:stretch/>
        </p:blipFill>
        <p:spPr>
          <a:xfrm>
            <a:off x="1835280" y="1844640"/>
            <a:ext cx="6784920" cy="42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349360"/>
            <a:ext cx="7777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вердловская область, 2013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5000" y="2997360"/>
            <a:ext cx="8251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новь выявлено 6000 ВИЧ-инфициров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760" y="3645000"/>
            <a:ext cx="65678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мерло 980 ВИЧ-инфицированн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том числе 4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653000"/>
            <a:ext cx="6480360" cy="180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гноз ВИЧ-инфекция подтвержд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 детям рожденным от ВИЧ-инфицированных жен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3" descr="ВИЧ.wmf"/>
          <p:cNvPicPr/>
          <p:nvPr/>
        </p:nvPicPr>
        <p:blipFill>
          <a:blip r:embed="rId2"/>
          <a:stretch/>
        </p:blipFill>
        <p:spPr>
          <a:xfrm>
            <a:off x="250920" y="1413000"/>
            <a:ext cx="8497800" cy="5040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график3.wmf"/>
          <p:cNvPicPr/>
          <p:nvPr/>
        </p:nvPicPr>
        <p:blipFill>
          <a:blip r:embed="rId3"/>
          <a:stretch/>
        </p:blipFill>
        <p:spPr>
          <a:xfrm>
            <a:off x="395280" y="189000"/>
            <a:ext cx="828036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D:\PL4.png"/>
          <p:cNvPicPr/>
          <p:nvPr/>
        </p:nvPicPr>
        <p:blipFill>
          <a:blip r:embed="rId2"/>
          <a:stretch/>
        </p:blipFill>
        <p:spPr>
          <a:xfrm>
            <a:off x="250920" y="189000"/>
            <a:ext cx="8643960" cy="136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33336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 Правительств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ердл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28.01.2008г. №44-РП«О дополнительных мерах по противодействию распространения ВИЧ-инфе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ердловской облас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424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Координационная комиссия по ВИЧ-инфекции при Правительств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дл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оординации деятельности муниципальных образований утвержден </a:t>
            </a:r>
            <a:r>
              <a:rPr b="1" lang="ru-RU" sz="1800" spc="-1" strike="noStrike" u="sng">
                <a:solidFill>
                  <a:srgbClr val="222268"/>
                </a:solidFill>
                <a:uFillTx/>
                <a:latin typeface="Arial"/>
              </a:rPr>
              <a:t>проект муниципальной программ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профилактике ВИЧ-инфекции с необходимым объемом мероприятий и 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ы рекомендации по работе межведомственных муниципальных комиссий и деятельности субъектов профилак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:\PL4.png"/>
          <p:cNvPicPr/>
          <p:nvPr/>
        </p:nvPicPr>
        <p:blipFill>
          <a:blip r:embed="rId3"/>
          <a:stretch/>
        </p:blipFill>
        <p:spPr>
          <a:xfrm>
            <a:off x="324000" y="4149720"/>
            <a:ext cx="8643960" cy="115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1628640"/>
            <a:ext cx="1152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292640"/>
            <a:ext cx="80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поряжение Правительства Свердловской области от 17.05.2013г. №629-РП «О дополнительных мерах по ограничению распространения ВИЧ-инфекции в Свердловской облас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5373720"/>
            <a:ext cx="1152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734080"/>
            <a:ext cx="8497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тверждены критерии результативности реализации мероприятий в муниципальных образованиях по  ограничению распространения ВИЧ-инфе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D:\PL4.png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67788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B4B-875C-4DF5-89AD-E750A2FC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57120" y="1168920"/>
            <a:ext cx="835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рганизовано взаимодействие с министерствами, ведомствами и органами местного самоуправления по вопросам противодействия ВИЧ-инфе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во всех муниципальных образованиях Свердловской области были разработаны муниципальные программы по ВИЧ-инфе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зданы муниципальные межведомственные комиссии по профилактике ВИЧ-инфекции или социально-значимых заболева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утверждены критерии оценки деятельности муниципальных образований Свердловской области по ограничению распространения ВИЧ-инфекции с ежегодным анализом и оценкой деятель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89000"/>
            <a:ext cx="91440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ультаты реализации Распоряжения ПСО №4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D:\PL4.png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2D8E-E5AB-4C9D-8222-7C3A3680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3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зультаты реализации Распоряжения ПСО №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979200"/>
            <a:ext cx="82152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недряется профилактическая программа по ВИЧ-инфекции  среди учащихся образовательных учреждени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реализуется межведомственный подход в оказании медицинской и социальной помощи ВИЧ-инфицированным граждан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ато взаимодействие учреждений здравоохранения и правоохранительных органов по выявлению ВИЧ-инфекции среди групп высокого р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рганизовано обучение специалистов различных учреждений по вопросам ВИЧ-инфе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работана профилактическая программа по ВИЧ-инфекции среди работающей молодежи дл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нформация о мерах личной и общественной профилактики ВИЧ-инфекции освещается в СМ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14"/>
          <p:cNvGrpSpPr/>
          <p:nvPr/>
        </p:nvGrpSpPr>
        <p:grpSpPr>
          <a:xfrm>
            <a:off x="395280" y="189000"/>
            <a:ext cx="8358120" cy="792000"/>
            <a:chOff x="395280" y="189000"/>
            <a:chExt cx="8358120" cy="792000"/>
          </a:xfrm>
        </p:grpSpPr>
        <p:pic>
          <p:nvPicPr>
            <p:cNvPr id="78" name="Picture 13" descr="D:\GKFIRF1.png"/>
            <p:cNvPicPr/>
            <p:nvPr/>
          </p:nvPicPr>
          <p:blipFill>
            <a:blip r:embed="rId2"/>
            <a:stretch/>
          </p:blipFill>
          <p:spPr>
            <a:xfrm>
              <a:off x="395280" y="189000"/>
              <a:ext cx="41432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3" descr="D:\GKFIRF1.png"/>
            <p:cNvPicPr/>
            <p:nvPr/>
          </p:nvPicPr>
          <p:blipFill>
            <a:blip r:embed="rId3"/>
            <a:stretch/>
          </p:blipFill>
          <p:spPr>
            <a:xfrm>
              <a:off x="4753080" y="189000"/>
              <a:ext cx="40003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341-EE7C-4B04-BA37-973DD325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324000" y="1052640"/>
          <a:ext cx="4262400" cy="26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052640"/>
                    <a:ext cx="42624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145584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0"/>
          <p:cNvGraphicFramePr/>
          <p:nvPr/>
        </p:nvGraphicFramePr>
        <p:xfrm>
          <a:off x="4716360" y="1052640"/>
          <a:ext cx="4141800" cy="252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1052640"/>
                    <a:ext cx="41418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Прямоугольник 11"/>
          <p:cNvSpPr/>
          <p:nvPr/>
        </p:nvSpPr>
        <p:spPr>
          <a:xfrm>
            <a:off x="468360" y="18900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нижение заболеваем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Ч-инфекцией среди лиц 15-29 лет (на 100 тыс. насе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3"/>
          <p:cNvSpPr/>
          <p:nvPr/>
        </p:nvSpPr>
        <p:spPr>
          <a:xfrm>
            <a:off x="5003640" y="260280"/>
            <a:ext cx="357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нижение уровня лет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уд.вес,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395280" y="4229280"/>
          <a:ext cx="4484520" cy="262872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4229280"/>
                    <a:ext cx="448452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3"/>
          <p:cNvSpPr/>
          <p:nvPr/>
        </p:nvSpPr>
        <p:spPr>
          <a:xfrm>
            <a:off x="468360" y="3645000"/>
            <a:ext cx="4319640" cy="642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ижение уровня передачи ВИЧ от матери ребенку – 3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4581360"/>
            <a:ext cx="3200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3640" y="3789360"/>
          <a:ext cx="4140360" cy="292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3789360"/>
                    <a:ext cx="4140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3"/>
          <p:cNvSpPr/>
          <p:nvPr/>
        </p:nvSpPr>
        <p:spPr>
          <a:xfrm>
            <a:off x="5076720" y="3645000"/>
            <a:ext cx="3886200" cy="642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ижение числа отказных детей (абс. чис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7" descr="D:\23.png"/>
          <p:cNvPicPr/>
          <p:nvPr/>
        </p:nvPicPr>
        <p:blipFill>
          <a:blip r:embed="rId2"/>
          <a:stretch/>
        </p:blipFill>
        <p:spPr>
          <a:xfrm>
            <a:off x="374760" y="214200"/>
            <a:ext cx="8412120" cy="1486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642960" y="357120"/>
            <a:ext cx="80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47628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оритетные направления в профилактике ВИЧ-инфекции на 201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76640"/>
            <a:ext cx="4608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филактика, выявление и лечение ВИЧ-инфекции среди уязвимых групп населения  (низкопорогов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437000"/>
            <a:ext cx="4608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филактика ВИЧ-инфекции среди работающего нас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6560" y="2008080"/>
            <a:ext cx="347652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нансирование мероприятий из муниципально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3789360"/>
            <a:ext cx="347832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чение всех заинтересован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4960800"/>
            <a:ext cx="338436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лечение 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5516640"/>
            <a:ext cx="347652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троль и ежегодный мониторинг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349360"/>
            <a:ext cx="152280" cy="3311640"/>
          </a:xfrm>
          <a:custGeom>
            <a:avLst/>
            <a:gdLst>
              <a:gd name="textAreaLeft" fmla="*/ 0 w 152280"/>
              <a:gd name="textAreaRight" fmla="*/ 55080 w 152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4ED-FB2E-4F45-AF03-DD47C087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071720" y="321480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новые открытки.png"/>
          <p:cNvPicPr/>
          <p:nvPr/>
        </p:nvPicPr>
        <p:blipFill>
          <a:blip r:embed="rId2"/>
          <a:stretch/>
        </p:blipFill>
        <p:spPr>
          <a:xfrm>
            <a:off x="1000080" y="571680"/>
            <a:ext cx="2643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43:01Z</dcterms:created>
  <dc:creator>laykovskaya</dc:creator>
  <dc:description/>
  <dc:language>en-US</dc:language>
  <cp:lastModifiedBy>1</cp:lastModifiedBy>
  <cp:lastPrinted>2012-12-04T11:39:35Z</cp:lastPrinted>
  <dcterms:modified xsi:type="dcterms:W3CDTF">2013-11-27T06:44:16Z</dcterms:modified>
  <cp:revision>967</cp:revision>
  <dc:subject/>
  <dc:title>Слайд 1</dc:title>
</cp:coreProperties>
</file>