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6750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6672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77640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7764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132A-4D46-4C2B-8315-7F7639A225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77676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D140-FE8D-4FBA-AA8A-2EC9C539BBE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ре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прогн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- финансово затратная тема- РФ, обла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ее- общие поставки, теперь- тест-системы на рег.бюджеты и бюджеты М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31033-BE98-4F80-943D-147A04FD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A660-8EA9-42EA-9A94-9C0E49AE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AFE7F-3ADB-44A2-BA16-B0A876DD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47FA7-63D3-4A01-8871-39704EFC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3D36-04AD-4DB6-9735-F5410E9D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DCDE-3D8F-43A7-8675-53AF38F6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9987-F88C-42D0-94EA-EA6FAF89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11CA-DFDB-45E1-8AEB-D000BA3A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5614-AF41-4CD8-8859-FC10A1FF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8176-71F5-4487-A258-6B8A73DB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69A9-DE98-4596-9D8A-7A6884FC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60A34-A8DC-400A-A9D7-8B01DF38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DEA0-D68B-4B82-8D44-88B97746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A364-DB7C-47D1-AA1F-542A325D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EE73-1524-459E-B555-AD0D7F3A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3F03-FCBE-491B-AFE9-90F9C543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57C4-9834-4B43-9685-A5ADB88F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94DD4-7B35-4DE8-879F-0D6E5934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4C00F-2B54-4443-B754-65D68D42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1F43F-F9A1-469E-BADF-1BD4158D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5EC6E-04B1-426D-A34A-6B2F51DE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ACEFE-3DD2-46CB-BE44-DDB1BF16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97F8F-623D-45BA-8649-AE6D4EB5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8F2DF-93C6-4F08-9EC4-E23A4484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8038-4FFC-4939-953A-E8E983E2CC0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698C-D029-4676-A4C7-B7C672DE69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66.rospotrebnadzor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640" y="2924280"/>
            <a:ext cx="72280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ль органов местного самоуправления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фере профилактики ВИЧ- инфекци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02920" y="4797000"/>
            <a:ext cx="73040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руковод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 Роспотребнадз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вердл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И.Юров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logo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89000"/>
            <a:ext cx="344484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егативный опы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96640"/>
            <a:ext cx="403848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ский 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 Алапаев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меют возможность осуществлять целевое финансирование муниципально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78.1 Бюджетного кодекса Р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284720" y="1196640"/>
            <a:ext cx="46800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зовский 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ожение о порядке предоставления из бюджета Березовского ГО субсидий некоммерческим организациям, не являющимся бюджетными (Постановление администрации Березовского ГО от 09.11.2009 г. № 47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жегодно проводится конкурсный отбор проектов 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явлений на участие в конкурсе от НКО, работающих в сфере профилактике ВИЧ, не поступал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468360" y="1700280"/>
          <a:ext cx="821844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1844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893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Финансирование комплекса мероприятий по диагностике, лечению и профилактике ВИЧ- инфекции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(млн. руб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79280" y="981000"/>
          <a:ext cx="8785440" cy="5792760"/>
        </p:xfrm>
        <a:graphic>
          <a:graphicData uri="http://schemas.openxmlformats.org/drawingml/2006/table">
            <a:tbl>
              <a:tblPr/>
              <a:tblGrid>
                <a:gridCol w="538200"/>
                <a:gridCol w="2691000"/>
                <a:gridCol w="5556240"/>
              </a:tblGrid>
              <a:tr h="382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c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c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ирование профилактических програ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caff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Екатеринбу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г. – 1 841,0 тыс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 Богдан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2014 г. – 220 тыс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 Верх - Нейв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2014 г. – 10 рублей на 1 чел. 15-49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 Верхняя Пыш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г. – 233,3 тыс. рубле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2014 г. – 760,5 тыс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ин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2014 г. – 24,5 тыс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Нижний Таги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ены субсидии 4 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лялин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г. – предусмотрено выделение  ассиг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турин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намерение обеспечить финансированием профилактические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 Первоураль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г. – 30 тыс. рубле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2014 г. – 30 тыс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 Сухой 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г. - предусмотрены ассигн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тин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намерение обеспечить финансированием профилактические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 Рев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г. – предусмотрено выделение  ассиг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вдин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г. – 182 тыс. рубле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2014 г. – 220 тыс. рублей (10 руб. на 1 чел. 15- 49 л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38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 ЗАТО Свобо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2014 г. – 82 тыс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f"/>
                    </a:solidFill>
                  </a:tcPr>
                </a:tc>
              </a:tr>
            </a:tbl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14716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ценка рассмотрения органами местного самоуправления Предложения 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468360" y="47628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2013 год: на аппаратных совещаниях в Правительстве Свердловской области заслушаны главы (заместители глав по социальной политике) 22 муниципальных образований (территорий, наиболее неблагополучные по ВИЧ-инфе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46600" y="2563920"/>
            <a:ext cx="3935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ероуральский городской о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градский городской окру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ской городской о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округ Верхняя Пыш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округ Верхнее Дубр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аменск-Ураль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округ Сухой 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округ Верхний Таг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ярский городской о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сертский городской о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мильский городской о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643280" y="2637000"/>
            <a:ext cx="4248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инский городской о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дановичский городской о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гтярский городской о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ноуральский городской о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евской городской окру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вдинский городской о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нетуринский городской о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гулымский городской окру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лялинский городской о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дельский городской о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 г. Алапаевс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24000" y="404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 результатам заслушивания установле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 соответствии с критериями оценки деятельности муниципальных образ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68360" y="2773440"/>
            <a:ext cx="252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ероуральский 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лялинский 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нетуринский 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дельский 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595440" y="1628640"/>
            <a:ext cx="241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а призн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удовлетворите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 муницип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508200" y="1628640"/>
            <a:ext cx="22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а призн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статоч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3 муниципалит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338880" y="1700280"/>
            <a:ext cx="219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а призн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довлетворите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муницип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492360" y="2643840"/>
            <a:ext cx="2376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градский 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 Верхняя Пыш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 Верхнее Дубро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Каменск-Ураль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 Верхний Тагил Белоярского 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 Сухой Лог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мильский 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сертский 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гтярский ГО Горноуральский Г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вдинский 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Алапаевск Тугулымский 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263700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ской 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инский 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дановичский 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гулымский 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ми образованиям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коплен определенный опы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еализации программ первичной профилактики ВИЧ- инфекции среди на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н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имания социальных последствий распространения ВИЧ- инфекции среди населения муниципалитета: снижение продолжительности жизни, уменьшение трудовых ресурсов, увеличение доли неработающего населения, увеличение пенсионной нагрузки, увеличение затрат на здравоохранение, социальную сф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навыков оценки всех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меющих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ов, которые могли бы быть привлечены для реализации профилактических программ, в том числе малобюдже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дминистраций муниципальных образований недостаточно опыта п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жведомственной консолидации усил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влечению к профилактике ВИЧ- инфекции представителей гражданского общества –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К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, обобщить опыт отдельных муниципалитетов и тиражировать наиболее эффективные подходы в профилактике ВИЧ- инф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я общие принципы, использовать дифференцированный подход к реализации профилактических вмешательств для муниципальных образований с различными показателями пораженности на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обходимо в каждом муниципальном образован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, утвердить, финансировать и реализовывать межведомственные программы профилактики ВИЧ-инфе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енее одного раза в год проводить анализ эффективности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итическу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ценку и корректировку реализуемых на территории муниципалитета профилактически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руководство и межведомственное взаимодействие всех субъектов профилактики, присутствующих в муниципалите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постоянном режим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формиро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еления муниципального образования, в том числе через средства массовой информации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 рисках заражения и последствия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Ч-инфе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ращивать усилия по реализации эффективных профилактических мер именн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группах с наибольшим риском инфицир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том числе  используя программы низкопорогового доступа к медицинским, социальным и иных услуг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одолжать подготовку педагогических кадров, реализовывать профилактические программы в образовательной среде с использованием форм и методов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тересных для молодёж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недрять программы профилактики ВИЧ- инфекции в сфере труд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 все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приятиях, учреждениях, организац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использова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сурс гражданского обществ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коммерческие общественные организации, сообщество ЛЖВС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олноценно использовать возможност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МИ, современных  средств коммуник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т.ч. сети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1" descr="C:\Users\gosha\Desktop\thumbnail-20131115175426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684360" y="333360"/>
            <a:ext cx="799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и красной ленточки в Свердловской обла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492360" y="1052640"/>
            <a:ext cx="5183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ю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нимаю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йствую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95280" y="4005360"/>
            <a:ext cx="6769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ои поведенческие рис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значение для сво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я и здоровья окружающ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ю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у здоровь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280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Заболеваемость ВИЧ-инфекцией в Российской Федерации и  Свердл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0" y="404640"/>
          <a:ext cx="9029880" cy="645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902988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5"/>
          <p:cNvSpPr/>
          <p:nvPr/>
        </p:nvSpPr>
        <p:spPr>
          <a:xfrm>
            <a:off x="6012000" y="105264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042920" y="5445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вердловская обл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на 01.10.13г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регистрировано 64 318 случаев ВИЧ-инфек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казатель распространенности – 1490,3 на 100 тыс.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 flipV="1">
            <a:off x="4427640" y="2204640"/>
            <a:ext cx="4321080" cy="863640"/>
          </a:xfrm>
          <a:prstGeom prst="line">
            <a:avLst/>
          </a:prstGeom>
          <a:ln w="34920">
            <a:solidFill>
              <a:srgbClr val="00007d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3780000" y="1233000"/>
            <a:ext cx="515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В последние два  года в области ежегодно выявляется свыше 5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овых случаев ВИЧ - инфекции</a:t>
            </a:r>
            <a:r>
              <a:rPr b="1" lang="ru-RU" sz="1800" spc="-1" strike="noStrike">
                <a:solidFill>
                  <a:srgbClr val="990303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ценка эпидемиологической ситуации  и мер по противодействию распространения ВИЧ - инфекции в Свердл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демиологическая ситуация расценивается как неблагополучная – в течение последних двух лет ежегодный прирост заболеваемости составляет 11-14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10 месяцев 2013 года выявлено 5627 случаев ВИЧ – инфекции, показатель первичной заболеваемости составил 130,4 случаев на 100 тысяч населения, рост на 11% по сравнению с аналогичным периодом прошлого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годно на наличие антител к ВИЧ-инфекции обследуется более 700 000 человек. За 10 месяцев 2013 года охват скринингом на ВИЧ составил 16,2%, прогноз за 2013 год – более 18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эффективность данной технологии осталась на прежнем уровне - в течение нескольких лет представители групп риска суммарно не превышают в общем числе 8-10%. Причем удельный вес одной из ведущих групп риска (ПИН) сокращается и по итогам 2012 год составил 2,2% проц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недрены «низкопороговые» технологии оказания медицинской помощи лицам из уязвимых групп на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79311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не медленно внедряются «низкопороговые» технологии оказания различных видов помощи лицам из основных групп риск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576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8642160" cy="79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250920" y="2637000"/>
            <a:ext cx="864216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8642160" cy="79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5"/>
          <a:stretch/>
        </p:blipFill>
        <p:spPr>
          <a:xfrm>
            <a:off x="250920" y="4149720"/>
            <a:ext cx="864216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6"/>
          <a:stretch/>
        </p:blipFill>
        <p:spPr>
          <a:xfrm>
            <a:off x="250920" y="5661000"/>
            <a:ext cx="8642160" cy="936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"/>
          <p:cNvPicPr/>
          <p:nvPr/>
        </p:nvPicPr>
        <p:blipFill>
          <a:blip r:embed="rId7"/>
          <a:stretch/>
        </p:blipFill>
        <p:spPr>
          <a:xfrm>
            <a:off x="250920" y="5084640"/>
            <a:ext cx="8642160" cy="720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2"/>
          <p:cNvSpPr/>
          <p:nvPr/>
        </p:nvSpPr>
        <p:spPr>
          <a:xfrm>
            <a:off x="7812000" y="3736800"/>
            <a:ext cx="9367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сутствие паспор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7236000" y="2224080"/>
            <a:ext cx="14396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сутствие полиса медицинского страх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6804000" y="5084640"/>
            <a:ext cx="172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Отсутствие постоянного места жительства, постоянного легального источника доход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тог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признать, чт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билизировать уровень заболеваемости не удалос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ак следствие это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ет бремя социальных последствий - масштабы распространенности ВИЧ- инфекции среди населения области требуют пропорционального увеличения влож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затратности программ лечения инфекц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среди социально адаптированного населения лекарственно устойчивых штаммом туберкулеза и ВИЧ- инф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й объем профилактических вмешательств среди групп населения, определяющих развитие эпидемического процесса – потребителей инъекционных наркотиков, лиц, практикующих коммерческий секс, мужчин, имеющих секс с мужчи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я эффективность проводимых в регионе профилактических программ – они не оказывают выраженного влияния на стабилизацию эпидемическ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1471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ЕДЛОЖЕНИЕ о реализации мер по улучшению  санитарно – эпидемиологической обстановки и выполнению требований санитарного законодательства от 23.09.2013г. № 1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оценку реализуемых муниципальных профилактических программ и внести, при необходимости, корректировки в программы с учетом изменений в развитии эпидемического процесса ВИЧ- инфекции на территории муниципального образ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дополнительные меры, направленные на повышение охвата населения, в том числе групп высокого риска инфицирования, программами по профилактике ВИЧ- инфекции: повышение уровня знания о ВИЧ- инфекции, формирование мотивации на снижение поведенческих рис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вопрос о выделении ассигнований для финансирования программ первичной профилактики ВИЧ- инфекции в 2014 го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ЕДЛОЖЕНИЕ о реализации мер по улучшению  санитарно – эпидемиологической обстановки и выполнению требований санитарного законодательства от 23.09.2013 г. №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механизмы, обеспечивающие доступ в средства массовой информации материалов социальной рекламы по профилактике основных социально - обусловленных заболеваний, в том числе по профилактике ВИЧ- инфек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механизмы привлечения и поддержки общественных организаций, работающих в сфере профилактики ВИЧ – инфекции, и изыскать возможность финансирования их деятельности из средств местного бюдже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седаниях межведомственных комиссий по противодействию распространению ВИЧ- инфекции рассмотреть вопросы профилактики ВИЧ- инфекции в сфере труда. При необходимости разработать комплекс мер, направленных на создание  работодателями условий для реализации первичных профилактических мероприятий на рабочих мест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ценка рассмотрения 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рганами местного самоуправления Предложени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5280" y="1052640"/>
          <a:ext cx="8353440" cy="5975280"/>
        </p:xfrm>
        <a:graphic>
          <a:graphicData uri="http://schemas.openxmlformats.org/drawingml/2006/table">
            <a:tbl>
              <a:tblPr/>
              <a:tblGrid>
                <a:gridCol w="595440"/>
                <a:gridCol w="2717640"/>
                <a:gridCol w="2664000"/>
                <a:gridCol w="237636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с уровнем пораженности населения ВИЧ более 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с уровнем пораженности населения ВИЧ от 1 до 1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с уровнем пораженности населения до 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140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отрели пред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 Верхняя Пыш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уральский 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оложский 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 г. Екатеринбур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 Богдан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тинский 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М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04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едставл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овоградский 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оуральский 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евской 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 Верхний Таги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 Верхнее Дубр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амильский 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сертский 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нский 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ышевский 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 Краснотуринс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 Дегтярс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ярский 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 Красноуральс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 Качкан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 Заречн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ложительный опыт в профилактике  ВИЧ- инфекции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47163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вдинский городской окру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акль «Только чтобы жить», посвященный проблемам распространения в молодежной среде  ВИЧ  и наркомании. Актеры – молодые люди. Значительный интерес в социальных се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программы «Трудовое лето 2013» профилактические мероприятия с подрост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– квест «Нескучный город» – задания направлены на профилактику ВИЧ- инф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используется ресурс  официального сайта админист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муниципальными С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профилактики ВИЧ в сфере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ая секция по профилактике ВИЧ в рамках Слета работающей молодежи и активистов общественных организаций Восточного управленческого округа «АКТИ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0360" y="981000"/>
            <a:ext cx="439236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Екатеринбур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тная продукция (80,5 тыс. экз.): ЛПУ, ВУЗы, СУЗы,  промпредприятия,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рговые центры, подъезды жилых до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ляция аудио ролика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родские радиоканал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инотеатры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рговые центры, рын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ПУ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рк отдыха им. Маяков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ляция флеш -ролика«Профилактика ВИЧ-инфекции»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азмещение на интернет порталах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il.ru, uralweb.ru, 66.ru, e1.ru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проведение интерактивных занятий по профилактика ВИЧ - инфекции с использованием материалов выставки «Помнить. Знать. Жить» на базе образовательных учреждений и промышленных предпри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илотный» проект по реализации программ в сфере труда на промпредприятиях Чкалов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05:09:18Z</dcterms:created>
  <dc:creator>1</dc:creator>
  <dc:description/>
  <dc:language>en-US</dc:language>
  <cp:lastModifiedBy>Юровских Андрей Иванович</cp:lastModifiedBy>
  <dcterms:modified xsi:type="dcterms:W3CDTF">2013-11-29T08:38:56Z</dcterms:modified>
  <cp:revision>375</cp:revision>
  <dc:subject/>
  <dc:title>Задачи муниципальных образований в части выполнения требований законодательства по противодействию распространению ВИЧ-инфекции</dc:title>
</cp:coreProperties>
</file>