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28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42.png" ContentType="image/png"/>
  <Override PartName="/ppt/media/image31.png" ContentType="image/png"/>
  <Override PartName="/ppt/media/image43.png" ContentType="image/png"/>
  <Override PartName="/ppt/media/image7.png" ContentType="image/png"/>
  <Override PartName="/ppt/media/image37.png" ContentType="image/png"/>
  <Override PartName="/ppt/media/image45.png" ContentType="image/png"/>
  <Override PartName="/ppt/media/image44.jpeg" ContentType="image/jpeg"/>
  <Override PartName="/ppt/media/image38.png" ContentType="image/png"/>
  <Override PartName="/ppt/media/image8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</p:sldMasterIdLst>
  <p:notesMasterIdLst>
    <p:notesMasterId r:id="rId53"/>
  </p:notesMasterIdLst>
  <p:sldIdLst>
    <p:sldId id="256" r:id="rId54"/>
    <p:sldId id="257" r:id="rId55"/>
    <p:sldId id="258" r:id="rId56"/>
    <p:sldId id="259" r:id="rId57"/>
    <p:sldId id="260" r:id="rId58"/>
    <p:sldId id="261" r:id="rId59"/>
    <p:sldId id="262" r:id="rId60"/>
    <p:sldId id="263" r:id="rId61"/>
    <p:sldId id="264" r:id="rId62"/>
    <p:sldId id="265" r:id="rId63"/>
    <p:sldId id="266" r:id="rId64"/>
    <p:sldId id="267" r:id="rId65"/>
    <p:sldId id="268" r:id="rId66"/>
    <p:sldId id="269" r:id="rId67"/>
    <p:sldId id="270" r:id="rId68"/>
    <p:sldId id="271" r:id="rId69"/>
    <p:sldId id="272" r:id="rId7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notesMaster" Target="notesMasters/notesMaster1.xml"/><Relationship Id="rId54" Type="http://schemas.openxmlformats.org/officeDocument/2006/relationships/slide" Target="slides/slide1.xml"/><Relationship Id="rId55" Type="http://schemas.openxmlformats.org/officeDocument/2006/relationships/slide" Target="slides/slide2.xml"/><Relationship Id="rId56" Type="http://schemas.openxmlformats.org/officeDocument/2006/relationships/slide" Target="slides/slide3.xml"/><Relationship Id="rId57" Type="http://schemas.openxmlformats.org/officeDocument/2006/relationships/slide" Target="slides/slide4.xml"/><Relationship Id="rId58" Type="http://schemas.openxmlformats.org/officeDocument/2006/relationships/slide" Target="slides/slide5.xml"/><Relationship Id="rId59" Type="http://schemas.openxmlformats.org/officeDocument/2006/relationships/slide" Target="slides/slide6.xml"/><Relationship Id="rId60" Type="http://schemas.openxmlformats.org/officeDocument/2006/relationships/slide" Target="slides/slide7.xml"/><Relationship Id="rId61" Type="http://schemas.openxmlformats.org/officeDocument/2006/relationships/slide" Target="slides/slide8.xml"/><Relationship Id="rId62" Type="http://schemas.openxmlformats.org/officeDocument/2006/relationships/slide" Target="slides/slide9.xml"/><Relationship Id="rId63" Type="http://schemas.openxmlformats.org/officeDocument/2006/relationships/slide" Target="slides/slide10.xml"/><Relationship Id="rId64" Type="http://schemas.openxmlformats.org/officeDocument/2006/relationships/slide" Target="slides/slide11.xml"/><Relationship Id="rId65" Type="http://schemas.openxmlformats.org/officeDocument/2006/relationships/slide" Target="slides/slide12.xml"/><Relationship Id="rId66" Type="http://schemas.openxmlformats.org/officeDocument/2006/relationships/slide" Target="slides/slide13.xml"/><Relationship Id="rId67" Type="http://schemas.openxmlformats.org/officeDocument/2006/relationships/slide" Target="slides/slide14.xml"/><Relationship Id="rId68" Type="http://schemas.openxmlformats.org/officeDocument/2006/relationships/slide" Target="slides/slide15.xml"/><Relationship Id="rId69" Type="http://schemas.openxmlformats.org/officeDocument/2006/relationships/slide" Target="slides/slide16.xml"/><Relationship Id="rId70" Type="http://schemas.openxmlformats.org/officeDocument/2006/relationships/slide" Target="slides/slide1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dt" idx="15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5"/>
          <p:cNvSpPr>
            <a:spLocks noGrp="1"/>
          </p:cNvSpPr>
          <p:nvPr>
            <p:ph type="ftr" idx="15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6"/>
          <p:cNvSpPr>
            <a:spLocks noGrp="1"/>
          </p:cNvSpPr>
          <p:nvPr>
            <p:ph type="sldNum" idx="15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CF2B-9B32-4C9B-8BCF-7D3358C5D0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8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Дата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3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BDB7-2946-4A9B-A46B-2726F10694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6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3097-E95D-4B60-932F-AB97EF1990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9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0" name="Дата 1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71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55A6-2652-4B18-B8ED-4067005EB1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74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1627-D1F4-4E77-8FBA-C243B7AB6D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0A0A-6102-4604-A5F7-5A1A402957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B924-41B6-4FE4-B7C6-E0FFE9AAE5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49B-2F5F-4390-BCC1-946868B7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A7C-EB68-40B1-A8C3-55DF870F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81133-DF94-4566-9374-5500557F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F0A91-584A-43BA-A97C-86E45463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69345-8183-485C-BC8E-263981F5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19DAD-BD7F-49A4-8A13-9CB9BF6B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9498C-AA59-41B8-8E76-C0F5A6EE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6C4D5-F50B-4214-B91B-B7C051FA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AE0C5-BA86-4003-85C4-9099BC02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EA5EC-3EDB-4E22-9B00-70A377A8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37A12-55E5-461D-8ED8-402C56D6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3399E-7DAA-427D-8201-C26C5893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9948-80FD-4853-B284-A0B016D7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F1F3F-4885-4229-98C2-BCB73D50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20371-BDB4-4B8A-A9F9-7275A527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091A9-6123-4D7E-AAD4-1E2DAC50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725E8-4D65-4372-82E5-BED715BB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DDB24-967C-4035-AA4F-D61618F2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58727-0D4D-4ED7-9803-A2DAF59A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97D58-99C1-49D5-8223-8C885389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4EE86-4195-42B8-8963-2F625539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90672-3463-4200-8FF8-301A6E4D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F6E21-FC5C-44E2-B1DD-D652AC80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DF5A-69DF-473E-87AE-9703CF85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D3875-AD7A-48FE-AA1C-2A03DBFF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F1F53-F8D9-4506-BE6C-ECDDCE22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93E7D-E642-4FF5-B6A9-E08BFD21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E468A-A1A2-44D4-A2CE-C675C1E5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8ACFE-FD46-4A5B-9D41-8586C16D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CC302-1D57-4124-BA1D-647A80A4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159A6-7924-4B70-97DC-515F1916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BAAF7-3F63-41AA-8384-8BAA96AE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190BA-7753-4ABB-A1AA-414BE69F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021F9-ACF4-478D-A9F8-7F5778F4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A608-A748-485D-84B1-15DD0676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67CD1-F79C-4A59-9984-0235377B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4323D-AF26-4713-B2CB-3D38DCBD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DAED0-2101-431C-B5AA-C8E65F95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60631-8F92-45C3-BB76-5FBAD13C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0D630-0590-4A66-BED0-D3A9DE05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9601C-171B-43F4-9950-2B7FA684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1E010-7C84-4113-8917-F30F2E7B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CFD70-3EB8-46DE-AAB1-E2AE8314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66182-D45A-4273-90F0-3BDE18AA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F9E97-89EC-4F8F-BA07-F558DF2B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20E6-22A1-4FB9-8CE8-53ABB40F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48062-BAC3-4753-BA33-8212959E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684B3-4E19-47AC-B664-706CDEC2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31E7E-13F9-47FD-A021-F4AF7FE8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93081-BEA5-47C4-93DF-A2F10904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3DC7E-A79A-40AB-B9E1-5DDF7CEB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2ED2F-B50D-46E7-A725-8AD9DA9D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6CBEEE-201D-40F8-B323-3FE73AC4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6C544-C673-4CB7-AEEF-9ADCD98D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EA19DB-55C4-4F4C-BDD4-A1B7A5AE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D740C-4907-41EC-85B7-D287B043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3BC0-9E39-472F-BA71-67A11F37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86603-804E-4A7F-90EA-AFB075A2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839E3-CA5D-49F7-AFA9-AE347D96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D665B-1121-4690-8E41-738F0B86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3C4A2-171B-42F2-9CC4-5CCB4FDC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64C6F-2D3C-450C-9DF5-230F8636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82185A-943C-4158-9641-48B0A930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B5559-D285-437D-9CB3-6ABC063F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009A5-9B4A-45FD-A3AF-B9C77EE0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3AB977-DA9A-4C95-8D87-AAF39BB8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E55DFA-1A13-4BCB-BED7-A8D2A4C8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9774-1795-4BEE-B633-5A3F8B34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34B56-448E-49EE-AF82-4CBBA856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24A64-B1D2-4996-9E9F-5129AE1D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5C8A7-22F9-4A2E-A024-DC034501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AA1FF5-2409-4D24-BBC3-A123AD43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4F0DD-7A18-4EC0-9F75-2DBEF9F0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42ACB-67CD-46B5-BA93-1302DE89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8A44A-9A42-496D-82F2-300A37BA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F7DFF-5A15-41F2-A8E2-621CED37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419E2-978E-4DD5-B6D0-DF1441B9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E6E344-F36C-4374-BB35-7A652249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B43B-F8C3-4D96-BAB2-38946E41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8D4A90-64FC-482C-B1E1-0B28C292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773F0E-10A4-443E-BE65-117C8480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0B784-533C-4D0F-8525-81D3000D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32E9C3-A703-451E-BA11-D32ECAB3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E5ED6E-E802-4B3E-8515-87C4ADB5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655910-A38C-41A1-B22E-5CCCAD4C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92F51-8667-4AE2-B6DF-15AF05B3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90D488-E8C8-4772-9835-BC8B3CD9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019A87-F808-4230-816B-472033FA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3BEA64-400D-4E1F-8B61-76C2DFE8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8DF1-8650-4B72-8FCE-CBD3122D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2B42F4-DC83-46D9-9EE2-3387CD2E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3DB0C6-CB5B-485B-827F-EEFD8474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F30593-D166-42A5-B34D-4CA3EF09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2CE38E-62EF-42DE-97C7-D195D909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40FD48-14EF-4CFE-928B-7B8EE13A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BC8FEB-218B-4FC7-9CFA-0FC036C6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BD8FDB-285C-4B55-BE5C-E9ECD8DB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600D8E-F3C5-4D47-95E9-A3C438BE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F63F94-F823-4010-A27B-55E2FC3E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095A8-0723-4C50-A876-25070601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CDCB-74C5-4098-8775-C7B92CF1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337D3B-BFBD-4873-89F7-A81FE584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F840C9-8CEC-44B6-B4C3-70796658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999459-997C-4C74-ADCD-37780EF1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559F75-2930-48DB-AFDD-3B4D185C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1085B5-C5A8-4501-ADFE-D04B5A3A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ABE7A4-DADE-48AB-89AB-035383DB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EC03F4-508E-4E9E-949C-BEB73B10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2E0C90-B0FB-4880-9315-518D69D4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03C355-06ED-4B3D-B3C1-D4170A42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1CA7D7-7CBD-4653-AF8A-8EDDD9B3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576-B978-48BE-AED3-89D26A2D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87DB-0F54-4587-BB29-9C30E331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2F86D8-96CB-402C-B164-E3283567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E6980A-57FC-4CAA-AD4C-9A12F4E2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4C6AE7-89E8-4E02-88B6-D2C349DB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F58EFF-10D9-4EAC-8FFA-721DAF22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038116-57F2-4534-8AB6-71941695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3D55C3-197B-4F1C-A3A0-E8D2DA5F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5D260-829A-43A9-A92A-F4DD4EE6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7CA8E5-9B2A-4A3D-BF51-16FD83DA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75C4E3-77CB-4F80-99E1-7AA1BCF0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9AA730-47AF-42D7-9917-EE9011E4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E5ED-220F-4E84-8702-0E0A63A5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D2669E-FA6E-4DB8-9C4A-F69AA7F8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0F8178-A9A0-4DFA-976E-F5D397CC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8BC6FB-897E-4833-B111-E636FFBA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7D55F0-4213-46B9-B654-203FD142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64D6AB-CC4D-4459-BB20-C93F5C09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80B25A-961B-4F28-84EF-A667A0DB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D697A5-D14E-4E0A-9E3D-BE252CE8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847267-1C7C-481A-8EB5-215074E3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321E98-A6BC-427F-B1DB-478E8DD2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1218AA-0A41-4DF8-A78B-ACD998F7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9AB9-7843-442A-A2B8-9092D6BA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EE8AAC-8946-4DA5-8DA6-37CDF666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C8DC20-A655-47DB-91A2-0CE3B23A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D91740-5C93-4454-966E-B406E916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148761-D9FD-4FA7-951F-A62656BC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CD4CCF-6080-487E-885D-F8413331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D11480-4B7B-4584-A828-9AB0E562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A2A502-8D7D-4297-BB86-B5D94EEB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BFE2C9-868F-4821-8105-4172CCF0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B5E99E-13C5-4C81-A2EA-4B984107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96582D-E023-4931-B8F4-A2BC780D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9B32-3FCF-4428-8EE0-2816F48D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DDB753-C936-4A97-974B-EA4BB7BC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C3032B-67F8-474F-99FB-61581EC3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BFB130-C0D2-4BC5-9330-E08865BD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6D9184-9AEA-4762-AE0E-E2ECDF33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6A9FCC-F52D-46F8-BF0E-41B6B1F6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569628-8212-4A19-8240-B3EF7348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6E721D-70C3-4E9B-AB21-F9CEE64F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A9A276-17F7-4575-BBB7-BE6EF7E9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0580F1-D5B4-4173-8819-EB6EF12E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014EE6-A4F0-4E00-871F-BE8EAE93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F0C5-85C7-4DB6-A61A-CB0B1BE1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FD35FC-8D42-4341-944B-DB23FDC2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5EACCF-9075-436A-894B-4E1C9270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20D194-0898-4B45-BAD0-343AF333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A0C78F-1D82-4845-9EA5-A1A8FCCF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1306C5-582E-41AA-9A7F-D857056E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2CA15B-02D3-4712-BD9E-CA08DB10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2F583C-8C33-4316-878D-04B44C4E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BA3BA2-A420-4FE5-BBC2-F7FA89CB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6F529E-C513-45F3-9EE3-A665D915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DE7D7A-2C8E-43D4-90A3-F4923080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2161A-9FE3-4EF1-93E1-2CEB3B96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732C43-46CE-42A3-833B-535E8784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7B45AE-3C20-4413-979D-E822C23E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969D83-C14A-4FB6-8B2A-96B20F15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919AFE-3C47-48A1-8783-45781EDA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68D88D-9546-4547-B346-1B7EA15A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1B5339-6A5D-4F34-8913-65E27223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22759E-BC21-451E-A59E-B2DD497E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565657-4949-4C60-BA57-3D27EB19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7EC65C-E244-4C3A-8349-109592E8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E97BBF-786A-47A9-81F6-ED631A74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82E97-AA11-4FC0-B329-3FC1140F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6E6188-639D-4FE6-B30A-C647799B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66F2B4-6FFA-4C7F-A9E6-EAAE4471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ED6959-B1DF-42D3-97B1-72D2613D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A69849-8F9A-4E80-8512-A411EA61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3A3004-E9E1-4833-9D3E-F5B2CBED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83BB5E-137A-4DA3-9B35-2389468D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5A822D-C367-4518-89DB-F105552E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0AA2F1-C19A-463A-99E3-E9D7C25E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6A50B1-37F0-4F8A-AC3B-3176FFFC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B8F8F6-99C2-4349-B3E0-18542366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03784-C52A-41F7-9F4C-00B67169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0EB927-151B-4544-9FDB-03EE52C6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66ED11-FC6A-4679-B0B8-F2168BE3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45D992-ADAD-4AE3-B6D8-BB573A45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FE3370-C990-44FE-A6B7-56D0D633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33E380-1DC5-45C8-BDD7-A5E20863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84316A-E39E-4C53-BB62-E59D01F4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668F01-7176-4133-B0C6-644D8386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1104EC-5B12-4853-9D2D-60ADBE6E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539464-A5AB-41D2-A238-B7C15553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CB00A0-895C-43BE-9598-665B5080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526B3-1F21-447D-95ED-F6F17976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40E122-BCCF-4AEA-8650-CE7F380A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590A13-FC28-4A04-BD82-C464C0EB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DEE11C-E372-4B96-965A-7C6B585E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2CF297-5B4C-4498-BBB1-81AED5F0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502538-E67C-4E25-8CE2-74E3FF07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5B3A64-1E66-4472-A043-FD03C7F4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315045-CF95-409E-A5E2-AFD9CDCA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0D8C7C-5576-405C-8032-047F136F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B71E8E-BAAF-46EA-B0FC-B1F31271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2004F0-74A2-4B01-AC1E-62C64607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8077F-E5C9-49A1-BB56-80FE3579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04E1AC-65EF-4EE0-B4F9-43643371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936DCE-51FE-47B1-99B1-CAA942A7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F67C9A-4C35-49A5-9155-A8B39ABE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88F154-1F67-4BE5-ABE5-14F37B9B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D95BB1-2940-4D40-82C5-4232F3C0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4F5BFB-5108-4CDC-A0E1-F14F87AE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E56E0F-F36A-4028-9351-673FBECB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12A75E-8A0A-4FB0-9ED4-D11D2298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3F1C82-2B09-4240-8EA4-7435F83A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CBF183-5A53-4D67-A772-4BAF8730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77B-6610-411D-9040-A92369F3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3FFB1-E8CD-4177-8CA4-C694D868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30E9B2-20EF-4D54-8FD4-4389277A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2940EC-138A-4D24-B177-8A5AF548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BE660A-D483-4F35-9F28-08CFE377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611A48-D1DA-42A9-B997-2566B7D6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87D530-EB95-4461-90BB-BDF8027F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8F43D0-872A-4DEE-B6ED-F48A0DD2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AC6659-61D4-45BA-B413-8B2B21C1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2EA91C-6386-46D7-AE46-CBD16B35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ADDE3B-D11D-42E1-BAB7-2B130767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D5E9F1-B7A7-4B95-99AD-6D897AF3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1F368-0951-4CC4-89B6-03E8E7E4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C0AE33-9327-4CA5-8EE7-97C0C15A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6FB2F6-0EC0-4C07-AC25-7A02FC98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E00362-9030-474D-8FE5-7B7B0B42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80E3E4-5E39-47EF-834D-BB5B57D7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3F8303-A84B-4827-AF81-4BBB4182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FC5E85-A49F-447E-9E7D-F85F8C84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AA1DBD-3576-42CA-8F9D-FE1BC097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00833D-B1DB-4659-BE94-356620C6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22057E-457E-44B6-B130-456B016A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25162D-647E-42C4-9257-0EB403E7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10623-2731-4A7D-A3EC-4D393798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839081-B897-4D7B-8946-14FE97DB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5CD16E-EE07-4261-9809-B5D997A2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80422D-AC4D-432C-A792-CB7BC364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B42EF7-390A-4E17-A3D2-1D69566A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963CA5-2837-40A0-9887-BAF1A4C4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9EAA1E-CB46-4A3F-B1B9-C5970F48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281181-F741-4830-8702-405E2168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2110B9-1EC1-4DEB-9EA6-E39BF0F0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4E9E9D-308D-4DFB-894E-AEA91D5B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EE414F-4C80-4F18-8146-4566FA0D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0BAC7-D8A9-451A-B3BD-9B0BBBCB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F31A50-1347-40F1-815D-39CA1D34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646981-1956-4437-9D5E-F47F1BA5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DC2CBF-F609-4325-BAAE-304297D6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F52A3A-EB65-4808-90EA-572A1143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8C8560-B135-460C-9B42-D297327E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06784C-6207-4183-AAC3-1CC76AE7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7BA8D5-68C5-4D03-9E0D-E6A4FE59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EF8895-5079-4E93-9ED5-6E994E52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45289D-8DB7-48C1-BA12-0C6E6396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B3FECB-A065-4A41-A471-5D2D65AA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13D30-B4B8-49B2-ACBD-5A9E7499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627DA4-1251-41FE-B4F0-C954DCCB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2D39F3-3DD9-473A-8E66-CAA1F5B4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0C8DF0-CB0D-4298-960F-7BA8012E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E205D6-CB47-4B80-85B2-54768310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DCC84F-3C8C-49A6-B874-45A2018C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238972-1E3A-46A1-B96C-CD85CFEB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BFAB9F-6E47-45C6-81A7-83621A47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1F6364-808C-4FC2-BEFF-607DB721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820C70-53AB-483B-80FE-7AC7A894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EEA3D6-FCEA-4047-BD91-8E0DFDC1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7D3E2-087A-46B4-96AB-76D66D89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82A700-EFBB-4955-951C-B1165FA8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20A9D4-0A09-46A0-A91F-309D5485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9DA8A8-7FC1-4F9B-BF77-4CAB1708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14E768-2091-426C-B2CF-D5AF10AE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7C3E16-7A86-4767-AFCD-88F4521C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940DC7-29BF-40A3-91DE-5A7611E2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CA8FA8-E7C2-4687-A8BE-F474CB15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47D9BC-D23E-466F-A524-AD6FC852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160EAF-568E-4828-A569-AA696A5B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F0EAE7-25D8-4D13-BA18-7A17A1B6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76C34-5F9A-4900-BCF1-FB4050FC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591288-3064-497A-8359-93E9EB34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2B7DEB-9A6C-442A-8241-ABFF9D19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955D22-9AD8-4099-87E3-ED38F82C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E58A64-FFD7-4003-B3F6-BFF0A7A1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D43188-E3F9-44DD-BFCF-5037BA5C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9F6485-31EB-461D-8675-57E80AE9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726E85-9B56-46DE-A9D2-21F2200E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4CEF0F-5993-4474-87E4-BCBFF856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3CEAFB-1D68-44FF-BA34-CEBDCA93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F91BBF-E76D-4B21-95C2-80F2271C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20953-77F9-4A87-978B-DD3E11CD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993628-5AAC-4655-BA13-2356907A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63A21A-7683-443A-B5F2-3DFDC744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1281C3-6F00-42CC-8BD0-22D1E61F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E5BD81-25EB-4FCB-9F67-8D418A71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D130F9-3425-4AAB-8F7C-F38B1C00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CF8DD7-A2FC-46EB-961A-16F36992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85B3D1-2E05-48B1-AD6D-0755B795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F6DCC3-D5FF-48D7-81F7-51DC7E97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00D72F-A01E-45A3-BA31-73FE7726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00B5DE-4EFE-482B-90F7-5EA49F10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B254F-AE89-45F3-8BF4-DC7B0722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1B9151-E4DA-44D4-A690-4FEA367E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2F0674-872B-4F04-8D2C-48CD86AF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AAF2498-550C-40EE-86CE-BCA91E2B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2E885B-A55E-4284-953B-F3027DC4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0F3D23-CCD5-4170-BD3B-BDFBDFF7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557138-6A50-452C-AB09-06627B5C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4110631-AD94-4D62-A639-F40CC41A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FA0C4F9-24EE-4F6A-BE86-6A18C0A0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388919-4174-4788-BB67-B4595B52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0C8D8E-EF20-4946-AFE9-821C0A8B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2B848-CEC3-4E53-8B13-2A961651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68F16A-47F7-4C1C-84C3-24C35C2E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282F21-FEF7-4CC8-BBAD-DA8E51E9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B1597B-1BBB-4965-A1AC-699F938E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DD8258-6A66-4CCE-872B-AEC011CA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F2D82D-C189-473F-B2CF-2D2B1927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45AC2C-4FB8-4D9C-BACF-96D8FD8B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DD9188-56AE-4940-9937-08187C06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80A463-80DA-4798-8695-24FE900C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02EFC8-6AA9-45DB-8276-C9A82BB1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1E7A78-5F3C-4734-A8E0-3F9D0FED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7EB-02E6-4F6F-AA82-A79C4237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A84D3-0A53-4BA4-9A0E-98A1701B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642430B-FD79-47FF-8EA5-5628AB9D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DD8383-99F3-4787-A8D8-E57E0F63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2636739-D907-40C0-BDC5-0635494A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D9AE06-EAD6-4859-BA1A-A3F76614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5787FE-55B9-44CA-90FA-CA60AABD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806A38-0224-4AF8-9A9A-CFB076BA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DDAA54-2CDA-4294-AEC5-F5F04172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74ABFDF-DADC-48AC-90D8-DC15272E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6E9CBC-EC38-40AB-99B5-E2E02553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B37D45-489A-4C4C-8289-05C8935B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A3672-9231-4724-AE1C-A7F4DEB0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4AB7AEC-BD43-43FE-A60F-909BFE70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AB0F04-404E-403B-BF63-4FFA3ECF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0491AD-F6B2-44C8-BF18-2D183E33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B5EF90E-F6D6-4410-B222-204787F3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AFDFFF-D5EA-4BB5-8A6E-C981F693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B95CE6-9E40-45D0-A75F-A1EFEFB8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A6CF1F6-6E07-41E5-8AA6-AF86EBF8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4060C3-B8D9-4090-A969-3E0B175C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4FCEC8-F8C1-459A-A17F-D4456B08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45C15C-F98E-421B-8B78-078B34D1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F1E1E-00BE-4A92-A331-C2F7EF5B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9E2F89-92B3-41B4-BC52-720E1585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FDABE1-2E36-44A5-A7A7-D2E7A69F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53D5BA6-FC35-4D5E-A621-26983AD8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2663E12-0A9B-4657-BB5A-DAA3F042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2864AFA-FF90-4CAA-B46E-4CA1FD87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58A70EF-4870-4DD1-A68C-9024D126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1D4BB1-A15E-4183-BD68-AFB33020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923C56-685D-405A-94EF-E713B9FD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37336F-E09E-4445-949B-411FD356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23EB7D-EE13-4953-AABF-57BDC853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9AABC-D967-4F1E-B8AC-4340412F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891401-2B8D-449E-8686-8EA46D43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DE523F-54DE-455D-BE92-039795DE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83E14FA-A3BB-4C8B-AA12-FB5B6CF3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3769CE-4AC7-4383-A42D-FB051BF1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31E8F1-905A-49A8-8A8B-276AAE90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B680492-6E21-4B53-A0F3-57A4B355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B7EBBC-6FD4-42D6-A129-1C3165B2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F7AD695-AB7A-4E08-9C40-1EEA6DE8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143DE4-B8C7-47BC-BB54-15BF5047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14B8AE8-3551-4928-A326-ABCC8B9E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2AA77-F0AB-49FA-BF5D-C23C1561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C48D4B-D569-42F0-BB9F-5D502786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8EB4D4-6BA1-44D6-9B5C-3E66B0BE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DA8EE8-A5F3-416A-8F40-7B3E3827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3F88E9B-FDF8-4395-B1EF-F82FE1BC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731F489-8E38-463B-93BA-57C8FC1F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AB760C2-37D5-46A4-8718-7F92A972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2E1DF52-0F74-4C63-83C0-2B4F77F5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002798F-47A0-405D-89E3-4B7EAFF6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B8324E2-20CD-4D73-B2D5-CF9406C3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0E40F6D-2A08-4FA8-A9E8-85FD2849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E39A6-5E8A-45F0-8B9B-170A4892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B4334DF-9934-4BDF-8043-AD454A6C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5FD0D99-AE16-4EB5-B6DD-48D840BB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1338178-8646-4961-B01D-3ADDB488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0B969BA-D6AF-44C1-8731-10E9DA11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EC4BE1-9964-4FCF-88EB-86A734D7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E5BCD79-91E5-4ADA-B6DD-82CB200D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1F8F889-ADB3-49F9-BD9A-9F776D9F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99785C9-12D9-4311-BDC7-651AA748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A4B6829-EF2E-4139-A4A5-DFBC150D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2310943-A201-42BA-AD5F-A94B6561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C3FBC-62A6-4EAB-846F-1B778D53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494A93C-DA16-4955-A144-DDB5BB06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187102-DD84-4249-BECA-332E1269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A3E4A89-8437-45AB-928D-8FEA1754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8D1312F-0304-4A1F-93EB-6B9FC0FC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27D0D39-92B6-4960-B710-B2CACACC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07CCF77-3591-4E40-9C60-039A8E15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871A9C2-19DA-40C4-9D14-BC8DDE33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2364739-961D-433A-B98E-2AEFCD99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83607EF-CE6A-44A9-8EBF-B60E7F72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FF685A4-AF94-4A37-A2DF-AB609DC7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B6F41-8EAA-42C5-94A7-010FC31F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9A92FFA-FD4E-4775-BC04-F2D0A0D6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D97A080-F8EE-43C5-A0A3-8D0A943C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7073D2C-F9D5-47F1-9A98-0F6280D0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B9396BC-73F6-451C-A9E4-8D167503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4F7E6BB-8561-4E78-BC2E-45267E34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AEA0C63-8254-4007-8F93-6DE3F4DF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01D22B-0F9D-4AF5-B661-3F28550A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D52C51B-AC0C-48F2-986F-1AE0DB88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E720AE6-2DF8-4984-BEC7-05FAC0BC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0DBC66F-0D5A-4043-B2AE-5534D7A5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656FD-8089-4B06-95D1-96CC23B9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C9725C4-6169-4901-8F51-634A3721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4D45DEC-D9E0-4994-A2D4-13468090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3E3409F-ADE6-4046-B011-C2F20701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C4C384-9726-434D-BA55-7EC799C3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54CE9C8-491C-4BEC-978E-B42C168C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44AA080-BE52-417A-B4C0-2367F79A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6D06E09-BFD7-40C5-AF21-20F09E07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DA66E24-4C76-4AC3-9688-FD705DA7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AFEE527-9FA4-40E7-AC9C-01326382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9A85DBD-2E9F-438F-8DDA-F532506B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B8FBC-4DC9-4319-ABB8-C2D1BFF6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FC65907-0BA0-4DA7-8C2B-F9234704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3AEC541-BBB1-4F60-AE65-5BCD6524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14FD675-FF1F-4E9C-8331-81A98224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ECA44CF-6BE9-48A9-B278-B08D705F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D6952CF-163B-42C9-9625-EBD944F0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9F52B13-4E4F-4EFD-A474-1994FAC2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C1EA02C-A30E-4796-B182-A80E4286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38CAF0E-8D34-4656-BC41-B7BF572C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CAB63AC-756C-4AA8-9D83-8D547037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68CBEC3-4097-4A2D-9E5B-D6CF6E58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6E12-F4B4-489D-9E36-8427F5F4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CCC76-BA5D-4248-A70F-7A5BAA78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FB81347-6940-4E0D-95F5-F30DDF3B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807768B-52D9-4992-A7A8-DA3ADDA6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8C36AF-8AD5-485E-95EC-1068E5DA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96B0FF6-1FC9-497D-932E-323399A8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34543C3-726C-4C02-932E-63C4B7FF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EBBFD6F-53CA-425A-95E2-3EB160EA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FD067BB-1350-499B-B8D6-A0F4C038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99DD5F6-53BD-46A4-89C3-3F8DA863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6241191-914D-49DE-B139-19209C74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F6ED2C6-1B6E-43E4-AFEE-39057BA9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F1FA7-77FA-43D9-88A3-C8F3677B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57614C7-9D07-433B-BDEE-369D6B8B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C69DF5E-D093-4286-B122-E05A422A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52B66C7-8187-4779-805A-0F5803C5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019F6D8-F99D-41A2-85DB-1A96351C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21F9CF1-74CC-4201-8241-BCC360DB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62F6F4B-6A05-4467-814F-702420CA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F8B7188-5237-4CAA-81EE-8C9827E9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910F07D-E370-48BF-B26E-059A444A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58CA422-2632-4174-9DF1-FB1673E9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7BE9472-4E16-439A-8FD9-0A9E041E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5486E-C512-4644-875D-F70E72E7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4C5922C-7DB2-463E-BEBA-CD647588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F6C25DB-8B39-4CF7-A0DC-02E21149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676C5DC-59FC-495F-911A-2C8779EC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676D50D-90EF-436D-BE2D-2B92D100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D7D3D7F-2D29-4CE4-9382-9906162E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C4AEA22-0AD4-4785-B8DD-3D3B2850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08C1240-3BFE-45B1-BD2F-BCD299D3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221EBE3-1B4B-4F9D-87D0-9279D361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D1A94AC-8F4E-47F2-A3AF-4872B9FF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A32A94B-B98C-4C53-AFB0-3B32BC28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03170-6081-409A-BEC1-CC905218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05866DC-5B07-4364-BB0E-C8A4CF82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779DF3C-2264-4A9E-A3E7-38ADE0AD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7EBA4D4-F43E-4AB9-9B19-385AC8F8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4A8C719-3660-485E-BAB6-D59AD270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3830590-CF7A-4C82-BB0F-1ACF2F4E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3EB1EC8-2EF4-4F59-B9EF-A8E5A769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6C2222F-B394-4284-9825-AE39C36F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69F4B6F-F309-4078-9B20-EC620ADF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B9A10B0-AE74-4F91-8A1C-85460867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ECE36C4-D836-4B16-A947-880454DE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38125-631A-4B8B-B50A-EED6D880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6396680-20D3-4478-8F21-90C310FC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E8F64A9-FC46-4377-B406-82708208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D25BB96-60FD-4187-A0F9-D2170EC4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A26837A-775C-4CB4-B043-E5C93944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A651B57-6FBA-4732-B6FB-74521196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86C2685-63C3-4BFF-87FD-942C0C4B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8C10323-0498-4441-BA1E-650CBB4C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B823464-9D9D-48D0-8917-657308B4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1CF8590-CFDF-42EB-9D62-0914D553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769BD45-2FF0-4CD2-A99C-4F3001F0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F3A40-D0AE-40AE-86E1-C47FA4A0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643503A-1F6F-4EB8-9187-865FAC0E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7ED78ED-9DBA-4468-9E3F-CE71F1B9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2D5F335-A210-47F6-9477-BC02CDE0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1E5B981-47C2-45E4-B5D9-BE30C298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627B09C-A9EA-42E5-BF25-72518C39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DF691B5-58BF-4C38-A3CE-FF53188F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A614EFC-7821-4F97-A5EE-CC7D0C48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FE9CB7E-4D1E-4E6D-AABF-6A553903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DC72C06-58C0-475F-A2F6-A9F1BD02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DE5899B-DF54-47E7-A2D5-9DC99CF1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E735C-404C-431C-A616-294E0C58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13B9D38-4DBA-4EE3-9DA1-671DA1CF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6AFAFC6-21D4-4890-B49C-5F3732AF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8A84B77-9158-45C9-91B4-3F291AA2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E763964-55AA-4FBE-B44F-7FE6D80A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5DC2458-7C0B-4A11-9C69-A2C62A44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88261E3-4C05-4504-B60E-093E4A1D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59B0EA1-C54D-41AA-A1DE-4470B9CA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1BA06C2-83A1-4157-B9B6-11B960C4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BDC6411-3929-4856-9142-22ACB744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EDAC4E-0C29-4B8A-BAF6-54DD2142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58AD0-55DB-47F3-A054-85167F0C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233BC79-366A-4BE8-B011-0F7D34AC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6B0B265-86D4-4169-BCBD-35A3A96A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D656704-0209-4307-A04F-8CA8099A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21BC588-18EF-43E3-B34A-91C571B9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F220A1C-B8BF-4E04-8621-92087082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04DEB01-3218-4620-9F80-FB17E8ED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EA58B2C-0281-42B7-A58E-D173C4E3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337E816-1C43-44AA-B454-E6F68C27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DA53E12-1E68-4CA7-A7FA-FA65AAE9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143EA3B-A429-412E-A1B0-A59D5B8F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8F4EA-E2CF-4A2C-8CD8-7F4D8F69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C91329C-9CD1-4149-BBCE-32371B3B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7C85FE8-09BE-49CE-86BC-430CBE60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942668B-1120-481A-A2E2-27E1BAD9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C2A1982-D14F-432F-B6E7-2BB511FC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AF8A3A5-0C3C-4266-BB5C-BA87AF63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69079C2-68F2-4DF4-9C27-6A7F0766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0EA9475-DFB0-4F2C-AE65-A801A5CA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AC86035-E875-438D-B19C-51737659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42908FF-625C-4FBD-8372-81120C78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AE263D3-36AC-4761-BE39-33E091DB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12C07-134B-49DB-BE59-D1BBE349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2F55AF7-182F-4163-A706-146458E9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A3D8C82-A09A-47C9-A568-56827AD0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8F595B3-9218-4027-9446-8D6B82D7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57FA5D7-842C-4826-9B6D-7FF7F77B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C12416E-1518-4C5D-8FB4-5E4761A6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069F2B5-1423-4B20-9EA8-592A7B90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3C7A33E-A95B-41E9-BB3A-7450E6BB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8608F29-31E3-45CA-B107-2C4A016C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D71FB45-FA83-4BFD-B9B4-A46FD544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DFF8488-80D8-42DC-B15A-9DF3467B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AA1-95D0-4FDF-9F38-99A90A4C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84D97-BC05-4EAF-9685-911127DB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2CF1A95-AD38-48FA-8AF4-6AF2DEA6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25C066A-D970-4475-8DBE-3C50FC3F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995230E-737D-461B-90A8-2713BC36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03C3899-F9FB-417E-B24E-B162D2FE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DF2FFDE-A6B3-4EEC-B882-3EE8411A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0C79A36-78D9-4D8F-8C61-6E85324C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9BE08BB-E061-4A80-805E-ED2BBF3C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128F33A-ACF2-4ED9-BA3E-70FDAE8F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3B8CEBB-AF81-4778-AE2F-5647AA7D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EDE1DEB-6FEC-496D-B510-D2A457E0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0F38E-7CCC-4BBE-AC3F-D88DEAF0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45556E0-C0DB-49E1-A714-0C44946A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CF61D60-3B89-4A0A-8725-796DED17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211B55A-E2A7-446A-A87D-11CB00CA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431AD-28CB-4CD2-A592-355CC000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BD600-1241-4E2C-8ACA-5C8E7DFF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B0F3A-74C4-4A18-9468-70BDEEA1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3D879-B2BA-44D4-BE71-6033E5F6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DBA77-9084-417A-9BB6-42981818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B96B1-BE67-455F-96AF-EE23856F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2A9D6-5375-468F-A679-124D49FD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BA06F-20E4-4B63-9C1A-02259847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32A-4618-4F0A-8B69-89AB4748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CF2E8-4EE7-4818-A44E-EF33085E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BBA4A-AF9E-4782-A1F8-0CAC574F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83698-6332-4CDE-8A83-6FF9817D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6E71B-F7A3-43FA-B886-2A35B17D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0A7CA-CF8E-46CE-ABB7-59C12097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47759-CAD8-49F9-8920-562BBC8D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04ACA-B739-4177-AFF9-B7F4AB38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C1B37-6455-488E-B633-89D3FC04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1E606-FC56-4AF6-888D-79610E13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733AD-FC28-4EDF-816B-DE6A7178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295-52DC-42F0-9997-86DF9C8D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09841-C427-4917-B449-CCE1A3B1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F57C5-D918-43AE-81CA-89D0C006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3BD2C-4F90-4359-A808-3C8C741D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7FC28-EDC2-4AEF-BAC3-63C1B87B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9AE9F-1FB2-4C69-987D-32738E59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3C8CB-2FA5-4C8D-8BE5-38880F9D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AF5CD-74BC-4D47-B7AA-8AC6D809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57C4B-C845-4966-BBAD-826D8156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5D400-B7AB-44AA-8913-A11F09ED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EEE3A-A1CB-4DB2-A15F-865FCD1C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FCE-041C-4A13-BDF5-CD355AAE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E1F4C-4B01-4901-B9A8-6AD6D985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2743B-D27E-4AC6-99D7-22BBE41E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3E244-46B6-4780-8156-633EE69D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AB9C2-85A3-4DAD-AC19-E037D54E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8FDC1-B346-43EE-8AC7-978328E8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F8209-1CE8-46A2-BFB0-7356B10B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AF77B-3557-4046-966F-F52AC60C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42AEE-2942-4729-8DBF-2553B6F6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04591-CE0F-4DB9-8344-27F2BCDC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EC83C-7544-4589-AF12-785ABA70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5934-343F-4066-B327-BE7958F9FB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64F1-88B2-41AE-9DAD-C4AF7EFF0B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17E1-5BDA-4BD9-AD90-D34DF66DF94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A57F-CE3C-4222-8E49-8CA6D213FB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21C8-1AF1-4232-93A7-AE42C085A50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B790-5381-4144-9A56-3B262DBB9C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2E00-A398-49F9-940D-342C69AB15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D399-4E16-4003-9220-592E176239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11C3-68D6-450C-B3FE-DD1B854C36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AD69-DC5B-4359-A793-E0EFCEF9E2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4C5E-1B97-4769-9827-4472F2086E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2DCF-7455-47EE-8AD4-41FAA1D9C9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45EC-D46E-4FE9-AFA8-98B1F7664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BB47-67F0-4679-9DB2-5BB98F77B3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C758-5699-4C3C-81BE-58B6C4CE25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52F4-8D2F-4158-9B92-DC927C2C03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2873-B36F-45C3-8295-442FE4A16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0D28-D47A-4F02-8B1C-51D67AE085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4B37-58D7-424C-A534-CA7767B467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FC42-783B-4E9F-B931-A0FF25B736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1258-3E04-4D99-B4AB-59CBB9A68B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481B-7DB6-49A5-A1B0-4823FC907C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26A0-C19D-4A84-994B-F2D62B520C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9F6B-2A86-4966-AD84-B6CD3D5F35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936D-F200-4C52-993B-C9E79C2272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60B2-3F92-4C7A-A99A-FA325DC9EB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F89E-80F8-4269-B23B-03C56E492E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19D4-3E50-43BB-BA1C-0B47ABF7CD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3C20-AEBC-4208-A37C-52961DC571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5998-8C58-45EB-8D41-0F0737C312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B312-E42E-43E4-99F7-FCCA4E65EE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C251-3BDD-4F85-802E-EDF0984543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0995-1F45-4DE7-9F1B-808EA6FE8E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96E2-8EAF-45FD-8161-FDAB4F7DF99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66A4-4BD1-4D52-9008-88E801AC8B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BE9E-4E91-4884-9FC7-35AF9BBFB4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5EB0-97C7-4C1F-BF15-00E0FBFC3D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6B51-95E2-4315-8F1B-7C81771061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A92B-80E1-49A8-910E-57F59A6E31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FCC1-DB83-4635-A233-B58622B02B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5278-BEAA-4F6C-8494-567FFE1903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12F6-0659-46DB-8BCF-54584C8FCE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7B29-1A2B-43E6-BAFA-56C86FBDB5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61E9-512B-4F03-8B19-1E95984A5F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E491-81FB-421F-9905-82CED9B80CF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DD1D-594F-410C-AB70-65885337E7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7602-FEC3-4FA1-8D36-D13AAFCDE3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D9E9-D47E-4AB0-BF62-7106F253939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7C67-B6BF-4187-B4F1-572B30D9F9E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E53C-B317-4804-BB7A-5A76ED29C7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79AA-D3BE-4ADA-83BF-D1F8621497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1D1A-36C7-430D-B297-C5F8B713445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39.pn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9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9.jpe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3.jpeg"/><Relationship Id="rId30" Type="http://schemas.openxmlformats.org/officeDocument/2006/relationships/image" Target="../media/image14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7.jpe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15.png"/><Relationship Id="rId37" Type="http://schemas.openxmlformats.org/officeDocument/2006/relationships/image" Target="../media/image18.jpeg"/><Relationship Id="rId38" Type="http://schemas.openxmlformats.org/officeDocument/2006/relationships/image" Target="../media/image16.png"/><Relationship Id="rId39" Type="http://schemas.openxmlformats.org/officeDocument/2006/relationships/image" Target="../media/image19.jpeg"/><Relationship Id="rId40" Type="http://schemas.openxmlformats.org/officeDocument/2006/relationships/image" Target="../media/image20.png"/><Relationship Id="rId41" Type="http://schemas.openxmlformats.org/officeDocument/2006/relationships/image" Target="../media/image16.png"/><Relationship Id="rId42" Type="http://schemas.openxmlformats.org/officeDocument/2006/relationships/image" Target="../media/image15.png"/><Relationship Id="rId43" Type="http://schemas.openxmlformats.org/officeDocument/2006/relationships/image" Target="../media/image18.jpeg"/><Relationship Id="rId44" Type="http://schemas.openxmlformats.org/officeDocument/2006/relationships/image" Target="../media/image19.jpeg"/><Relationship Id="rId45" Type="http://schemas.openxmlformats.org/officeDocument/2006/relationships/image" Target="../media/image16.png"/><Relationship Id="rId4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17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3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8" name="Picture 5" descr="D:\Ольга Виноградова\!Т\ТФОМС\Презентация\Картинки для презентации\Лого2.jpg"/>
          <p:cNvPicPr/>
          <p:nvPr/>
        </p:nvPicPr>
        <p:blipFill>
          <a:blip r:embed="rId1"/>
          <a:stretch/>
        </p:blipFill>
        <p:spPr>
          <a:xfrm>
            <a:off x="1908000" y="250920"/>
            <a:ext cx="4494240" cy="1446120"/>
          </a:xfrm>
          <a:prstGeom prst="rect">
            <a:avLst/>
          </a:prstGeom>
          <a:ln w="0">
            <a:noFill/>
          </a:ln>
        </p:spPr>
      </p:pic>
      <p:sp>
        <p:nvSpPr>
          <p:cNvPr id="2099" name="Rectangle 2"/>
          <p:cNvSpPr/>
          <p:nvPr/>
        </p:nvSpPr>
        <p:spPr>
          <a:xfrm>
            <a:off x="63360" y="2660760"/>
            <a:ext cx="87854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Новые способы оплат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медицинской помощи из системы обязательного медицинского страхова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1834920" y="5373720"/>
            <a:ext cx="56242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95959"/>
                </a:solidFill>
                <a:latin typeface="Arial"/>
              </a:rPr>
              <a:t>Заместитель директора по экономик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95959"/>
                </a:solidFill>
                <a:latin typeface="Arial"/>
              </a:rPr>
              <a:t>Кузьминых Лариса Юрь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310600" y="6377040"/>
            <a:ext cx="347760" cy="3636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363600"/>
              <a:gd name="textAreaBottom" fmla="*/ 341280 h 363600"/>
            </a:gdLst>
            <a:ahLst/>
            <a:rect l="textAreaLeft" t="textAreaTop" r="textAreaRight" b="textAreaBottom"/>
            <a:pathLst>
              <a:path w="21600" h="22583">
                <a:moveTo>
                  <a:pt x="0" y="0"/>
                </a:moveTo>
                <a:lnTo>
                  <a:pt x="21600" y="0"/>
                </a:lnTo>
                <a:lnTo>
                  <a:pt x="21600" y="22583"/>
                </a:lnTo>
                <a:lnTo>
                  <a:pt x="0" y="22583"/>
                </a:lnTo>
                <a:close/>
              </a:path>
              <a:path fill="lightenLess" w="21600" h="225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83">
                <a:moveTo>
                  <a:pt x="21600" y="0"/>
                </a:moveTo>
                <a:lnTo>
                  <a:pt x="21600" y="22583"/>
                </a:lnTo>
                <a:lnTo>
                  <a:pt x="20200" y="21183"/>
                </a:lnTo>
                <a:lnTo>
                  <a:pt x="20200" y="1400"/>
                </a:lnTo>
                <a:close/>
              </a:path>
              <a:path fill="darkenLess" w="21600" h="22583">
                <a:moveTo>
                  <a:pt x="21600" y="22583"/>
                </a:moveTo>
                <a:lnTo>
                  <a:pt x="0" y="22583"/>
                </a:lnTo>
                <a:lnTo>
                  <a:pt x="1400" y="21183"/>
                </a:lnTo>
                <a:lnTo>
                  <a:pt x="20200" y="21183"/>
                </a:lnTo>
                <a:close/>
              </a:path>
              <a:path fill="lighten" w="21600" h="22583">
                <a:moveTo>
                  <a:pt x="0" y="225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83"/>
                </a:lnTo>
                <a:close/>
              </a:path>
              <a:path fill="darken" w="21600" h="22583">
                <a:moveTo>
                  <a:pt x="3794" y="4285"/>
                </a:moveTo>
                <a:lnTo>
                  <a:pt x="17806" y="11291"/>
                </a:lnTo>
                <a:lnTo>
                  <a:pt x="3794" y="18298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TextBox 1"/>
          <p:cNvSpPr/>
          <p:nvPr/>
        </p:nvSpPr>
        <p:spPr>
          <a:xfrm>
            <a:off x="2154240" y="16970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TextBox 1"/>
          <p:cNvSpPr/>
          <p:nvPr/>
        </p:nvSpPr>
        <p:spPr>
          <a:xfrm>
            <a:off x="3683880" y="6216480"/>
            <a:ext cx="20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a5a5a"/>
                </a:solidFill>
                <a:latin typeface="Arial"/>
              </a:rPr>
              <a:t>1</a:t>
            </a:r>
            <a:r>
              <a:rPr b="1" lang="ru-RU" sz="1400" spc="-1" strike="noStrike">
                <a:solidFill>
                  <a:srgbClr val="5a5a5a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5a5a5a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5a5a5a"/>
                </a:solidFill>
                <a:latin typeface="Arial"/>
              </a:rPr>
              <a:t>декабря 2013 г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1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611280" y="333360"/>
            <a:ext cx="2448000" cy="706320"/>
          </a:xfrm>
          <a:prstGeom prst="rect">
            <a:avLst/>
          </a:prstGeom>
          <a:ln w="0">
            <a:noFill/>
          </a:ln>
        </p:spPr>
      </p:pic>
      <p:sp>
        <p:nvSpPr>
          <p:cNvPr id="2262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675640" y="150840"/>
            <a:ext cx="347760" cy="3636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363600"/>
              <a:gd name="textAreaBottom" fmla="*/ 341280 h 363600"/>
            </a:gdLst>
            <a:ahLst/>
            <a:rect l="textAreaLeft" t="textAreaTop" r="textAreaRight" b="textAreaBottom"/>
            <a:pathLst>
              <a:path w="21600" h="22583">
                <a:moveTo>
                  <a:pt x="0" y="0"/>
                </a:moveTo>
                <a:lnTo>
                  <a:pt x="21600" y="0"/>
                </a:lnTo>
                <a:lnTo>
                  <a:pt x="21600" y="22583"/>
                </a:lnTo>
                <a:lnTo>
                  <a:pt x="0" y="22583"/>
                </a:lnTo>
                <a:close/>
              </a:path>
              <a:path fill="lightenLess" w="21600" h="225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83">
                <a:moveTo>
                  <a:pt x="21600" y="0"/>
                </a:moveTo>
                <a:lnTo>
                  <a:pt x="21600" y="22583"/>
                </a:lnTo>
                <a:lnTo>
                  <a:pt x="20200" y="21183"/>
                </a:lnTo>
                <a:lnTo>
                  <a:pt x="20200" y="1400"/>
                </a:lnTo>
                <a:close/>
              </a:path>
              <a:path fill="darkenLess" w="21600" h="22583">
                <a:moveTo>
                  <a:pt x="21600" y="22583"/>
                </a:moveTo>
                <a:lnTo>
                  <a:pt x="0" y="22583"/>
                </a:lnTo>
                <a:lnTo>
                  <a:pt x="1400" y="21183"/>
                </a:lnTo>
                <a:lnTo>
                  <a:pt x="20200" y="21183"/>
                </a:lnTo>
                <a:close/>
              </a:path>
              <a:path fill="lighten" w="21600" h="22583">
                <a:moveTo>
                  <a:pt x="0" y="225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83"/>
                </a:lnTo>
                <a:close/>
              </a:path>
              <a:path fill="darken" w="21600" h="22583">
                <a:moveTo>
                  <a:pt x="3794" y="4285"/>
                </a:moveTo>
                <a:lnTo>
                  <a:pt x="17806" y="11291"/>
                </a:lnTo>
                <a:lnTo>
                  <a:pt x="3794" y="18298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Способ оплаты стационарной и стационарзамещающей помощи – </a:t>
            </a:r>
            <a:br>
              <a:rPr sz="2000"/>
            </a:b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оплата по КС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4" name="Picture 9" descr=""/>
          <p:cNvPicPr/>
          <p:nvPr/>
        </p:nvPicPr>
        <p:blipFill>
          <a:blip r:embed="rId2"/>
          <a:stretch/>
        </p:blipFill>
        <p:spPr>
          <a:xfrm>
            <a:off x="485640" y="1044720"/>
            <a:ext cx="1224000" cy="372960"/>
          </a:xfrm>
          <a:prstGeom prst="rect">
            <a:avLst/>
          </a:prstGeom>
          <a:ln w="0">
            <a:noFill/>
          </a:ln>
        </p:spPr>
      </p:pic>
      <p:sp>
        <p:nvSpPr>
          <p:cNvPr id="2265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748720" y="44280"/>
            <a:ext cx="347760" cy="3636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363600"/>
              <a:gd name="textAreaBottom" fmla="*/ 341280 h 363600"/>
            </a:gdLst>
            <a:ahLst/>
            <a:rect l="textAreaLeft" t="textAreaTop" r="textAreaRight" b="textAreaBottom"/>
            <a:pathLst>
              <a:path w="21600" h="22583">
                <a:moveTo>
                  <a:pt x="0" y="0"/>
                </a:moveTo>
                <a:lnTo>
                  <a:pt x="21600" y="0"/>
                </a:lnTo>
                <a:lnTo>
                  <a:pt x="21600" y="22583"/>
                </a:lnTo>
                <a:lnTo>
                  <a:pt x="0" y="22583"/>
                </a:lnTo>
                <a:close/>
              </a:path>
              <a:path fill="lightenLess" w="21600" h="225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83">
                <a:moveTo>
                  <a:pt x="21600" y="0"/>
                </a:moveTo>
                <a:lnTo>
                  <a:pt x="21600" y="22583"/>
                </a:lnTo>
                <a:lnTo>
                  <a:pt x="20200" y="21183"/>
                </a:lnTo>
                <a:lnTo>
                  <a:pt x="20200" y="1400"/>
                </a:lnTo>
                <a:close/>
              </a:path>
              <a:path fill="darkenLess" w="21600" h="22583">
                <a:moveTo>
                  <a:pt x="21600" y="22583"/>
                </a:moveTo>
                <a:lnTo>
                  <a:pt x="0" y="22583"/>
                </a:lnTo>
                <a:lnTo>
                  <a:pt x="1400" y="21183"/>
                </a:lnTo>
                <a:lnTo>
                  <a:pt x="20200" y="21183"/>
                </a:lnTo>
                <a:close/>
              </a:path>
              <a:path fill="lighten" w="21600" h="22583">
                <a:moveTo>
                  <a:pt x="0" y="225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83"/>
                </a:lnTo>
                <a:close/>
              </a:path>
              <a:path fill="darken" w="21600" h="22583">
                <a:moveTo>
                  <a:pt x="3794" y="4285"/>
                </a:moveTo>
                <a:lnTo>
                  <a:pt x="17806" y="11291"/>
                </a:lnTo>
                <a:lnTo>
                  <a:pt x="3794" y="18298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Скругленный прямоугольник 3"/>
          <p:cNvSpPr/>
          <p:nvPr/>
        </p:nvSpPr>
        <p:spPr>
          <a:xfrm>
            <a:off x="609480" y="1628640"/>
            <a:ext cx="763272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281e"/>
                </a:solidFill>
                <a:latin typeface="Arial"/>
                <a:ea typeface="Gulim"/>
              </a:rPr>
              <a:t>Клинико-статистическая группа заболеваний (КС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Gulim"/>
              </a:rPr>
              <a:t> – группа заболеваний, относящихся к одному профилю медицинской помощи и сходных по используемым методам диагностики и лечения пациентов, а также средней ресурсоемк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Скругленный прямоугольник 6"/>
          <p:cNvSpPr/>
          <p:nvPr/>
        </p:nvSpPr>
        <p:spPr>
          <a:xfrm>
            <a:off x="1619280" y="3716280"/>
            <a:ext cx="208908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c281e"/>
                </a:solidFill>
                <a:latin typeface="Arial"/>
              </a:rPr>
              <a:t>4 76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дико-экономических стандарта (МЭС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Скругленный прямоугольник 11"/>
          <p:cNvSpPr/>
          <p:nvPr/>
        </p:nvSpPr>
        <p:spPr>
          <a:xfrm>
            <a:off x="5076720" y="3716280"/>
            <a:ext cx="208764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c281e"/>
                </a:solidFill>
                <a:latin typeface="Arial"/>
              </a:rPr>
              <a:t>2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инико-статистические группы (КСГ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Стрелка вверх 9"/>
          <p:cNvSpPr/>
          <p:nvPr/>
        </p:nvSpPr>
        <p:spPr>
          <a:xfrm flipV="1">
            <a:off x="5811840" y="5527080"/>
            <a:ext cx="272880" cy="44748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645f5f"/>
          </a:solidFill>
          <a:ln w="25560">
            <a:solidFill>
              <a:srgbClr val="47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Скругленный прямоугольник 10"/>
          <p:cNvSpPr/>
          <p:nvPr/>
        </p:nvSpPr>
        <p:spPr>
          <a:xfrm>
            <a:off x="2916360" y="6035760"/>
            <a:ext cx="190800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рургические КС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Скругленный прямоугольник 12"/>
          <p:cNvSpPr/>
          <p:nvPr/>
        </p:nvSpPr>
        <p:spPr>
          <a:xfrm>
            <a:off x="7056360" y="6021360"/>
            <a:ext cx="19065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рапевтические КСГ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Скругленный прямоугольник 15"/>
          <p:cNvSpPr/>
          <p:nvPr/>
        </p:nvSpPr>
        <p:spPr>
          <a:xfrm>
            <a:off x="4921200" y="6019920"/>
            <a:ext cx="203220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бинированные КСГ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Стрелка вверх 16"/>
          <p:cNvSpPr/>
          <p:nvPr/>
        </p:nvSpPr>
        <p:spPr>
          <a:xfrm flipH="1" flipV="1" rot="3199200">
            <a:off x="4385160" y="5199840"/>
            <a:ext cx="311040" cy="765360"/>
          </a:xfrm>
          <a:prstGeom prst="upArrow">
            <a:avLst>
              <a:gd name="adj1" fmla="val 50000"/>
              <a:gd name="adj2" fmla="val 50033"/>
            </a:avLst>
          </a:prstGeom>
          <a:solidFill>
            <a:srgbClr val="645f5f"/>
          </a:solidFill>
          <a:ln w="25560">
            <a:solidFill>
              <a:srgbClr val="47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Стрелка вверх 17"/>
          <p:cNvSpPr/>
          <p:nvPr/>
        </p:nvSpPr>
        <p:spPr>
          <a:xfrm flipH="1" flipV="1" rot="18486000">
            <a:off x="7408080" y="5207760"/>
            <a:ext cx="311040" cy="765000"/>
          </a:xfrm>
          <a:prstGeom prst="upArrow">
            <a:avLst>
              <a:gd name="adj1" fmla="val 50000"/>
              <a:gd name="adj2" fmla="val 50010"/>
            </a:avLst>
          </a:prstGeom>
          <a:solidFill>
            <a:srgbClr val="645f5f"/>
          </a:solidFill>
          <a:ln w="25560">
            <a:solidFill>
              <a:srgbClr val="47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5" name="Скругленный прямоугольник 25"/>
          <p:cNvGrpSpPr/>
          <p:nvPr/>
        </p:nvGrpSpPr>
        <p:grpSpPr>
          <a:xfrm>
            <a:off x="6699240" y="2249640"/>
            <a:ext cx="2146320" cy="1347480"/>
            <a:chOff x="6699240" y="2249640"/>
            <a:chExt cx="2146320" cy="1347480"/>
          </a:xfrm>
        </p:grpSpPr>
        <p:pic>
          <p:nvPicPr>
            <p:cNvPr id="2276" name="Скругленный прямоугольник 25" descr=""/>
            <p:cNvPicPr/>
            <p:nvPr/>
          </p:nvPicPr>
          <p:blipFill>
            <a:blip r:embed="rId1"/>
            <a:stretch/>
          </p:blipFill>
          <p:spPr>
            <a:xfrm>
              <a:off x="6699240" y="2249640"/>
              <a:ext cx="214632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7" name=""/>
            <p:cNvSpPr/>
            <p:nvPr/>
          </p:nvSpPr>
          <p:spPr>
            <a:xfrm>
              <a:off x="6796080" y="2341440"/>
              <a:ext cx="19620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8" name="Скругленный прямоугольник 24"/>
          <p:cNvGrpSpPr/>
          <p:nvPr/>
        </p:nvGrpSpPr>
        <p:grpSpPr>
          <a:xfrm>
            <a:off x="3389400" y="2243160"/>
            <a:ext cx="2146320" cy="1353960"/>
            <a:chOff x="3389400" y="2243160"/>
            <a:chExt cx="2146320" cy="1353960"/>
          </a:xfrm>
        </p:grpSpPr>
        <p:pic>
          <p:nvPicPr>
            <p:cNvPr id="2279" name="Скругленный прямоугольник 24" descr=""/>
            <p:cNvPicPr/>
            <p:nvPr/>
          </p:nvPicPr>
          <p:blipFill>
            <a:blip r:embed="rId2"/>
            <a:stretch/>
          </p:blipFill>
          <p:spPr>
            <a:xfrm>
              <a:off x="3389400" y="2243160"/>
              <a:ext cx="214632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0" name=""/>
            <p:cNvSpPr/>
            <p:nvPr/>
          </p:nvSpPr>
          <p:spPr>
            <a:xfrm>
              <a:off x="3483000" y="2340000"/>
              <a:ext cx="196200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1" name="Скругленный прямоугольник 23"/>
          <p:cNvGrpSpPr/>
          <p:nvPr/>
        </p:nvGrpSpPr>
        <p:grpSpPr>
          <a:xfrm>
            <a:off x="281160" y="2243160"/>
            <a:ext cx="2144520" cy="1353960"/>
            <a:chOff x="281160" y="2243160"/>
            <a:chExt cx="2144520" cy="1353960"/>
          </a:xfrm>
        </p:grpSpPr>
        <p:pic>
          <p:nvPicPr>
            <p:cNvPr id="2282" name="Скругленный прямоугольник 23" descr=""/>
            <p:cNvPicPr/>
            <p:nvPr/>
          </p:nvPicPr>
          <p:blipFill>
            <a:blip r:embed="rId3"/>
            <a:stretch/>
          </p:blipFill>
          <p:spPr>
            <a:xfrm>
              <a:off x="281160" y="2243160"/>
              <a:ext cx="214452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3" name=""/>
            <p:cNvSpPr/>
            <p:nvPr/>
          </p:nvSpPr>
          <p:spPr>
            <a:xfrm>
              <a:off x="374760" y="2340000"/>
              <a:ext cx="196380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4" name="Прямоугольник 1"/>
          <p:cNvSpPr/>
          <p:nvPr/>
        </p:nvSpPr>
        <p:spPr>
          <a:xfrm>
            <a:off x="2916360" y="189000"/>
            <a:ext cx="59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eaf"/>
                </a:solidFill>
                <a:latin typeface="Arial"/>
              </a:rPr>
              <a:t>Расчет стоим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ea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eaf"/>
                </a:solidFill>
                <a:latin typeface="Arial"/>
              </a:rPr>
              <a:t>одного случая госпитал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5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4"/>
          <a:stretch/>
        </p:blipFill>
        <p:spPr>
          <a:xfrm>
            <a:off x="611280" y="260280"/>
            <a:ext cx="2448000" cy="706680"/>
          </a:xfrm>
          <a:prstGeom prst="rect">
            <a:avLst/>
          </a:prstGeom>
          <a:ln w="0">
            <a:noFill/>
          </a:ln>
        </p:spPr>
      </p:pic>
      <p:pic>
        <p:nvPicPr>
          <p:cNvPr id="2286" name="Picture 9" descr=""/>
          <p:cNvPicPr/>
          <p:nvPr/>
        </p:nvPicPr>
        <p:blipFill>
          <a:blip r:embed="rId5"/>
          <a:stretch/>
        </p:blipFill>
        <p:spPr>
          <a:xfrm>
            <a:off x="539640" y="966960"/>
            <a:ext cx="1224000" cy="374400"/>
          </a:xfrm>
          <a:prstGeom prst="rect">
            <a:avLst/>
          </a:prstGeom>
          <a:ln w="0">
            <a:noFill/>
          </a:ln>
        </p:spPr>
      </p:pic>
      <p:sp>
        <p:nvSpPr>
          <p:cNvPr id="2287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604360" y="44280"/>
            <a:ext cx="492120" cy="363600"/>
          </a:xfrm>
          <a:custGeom>
            <a:avLst/>
            <a:gdLst>
              <a:gd name="textAreaLeft" fmla="*/ 23400 w 492120"/>
              <a:gd name="textAreaRight" fmla="*/ 468720 w 49212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9227" h="21600">
                <a:moveTo>
                  <a:pt x="0" y="0"/>
                </a:moveTo>
                <a:lnTo>
                  <a:pt x="29227" y="0"/>
                </a:lnTo>
                <a:lnTo>
                  <a:pt x="29227" y="21600"/>
                </a:lnTo>
                <a:lnTo>
                  <a:pt x="0" y="21600"/>
                </a:lnTo>
                <a:close/>
              </a:path>
              <a:path fill="lightenLess" w="29227" h="21600">
                <a:moveTo>
                  <a:pt x="0" y="0"/>
                </a:moveTo>
                <a:lnTo>
                  <a:pt x="29227" y="0"/>
                </a:lnTo>
                <a:lnTo>
                  <a:pt x="27827" y="1400"/>
                </a:lnTo>
                <a:lnTo>
                  <a:pt x="1400" y="1400"/>
                </a:lnTo>
                <a:close/>
              </a:path>
              <a:path fill="darken" w="29227" h="21600">
                <a:moveTo>
                  <a:pt x="29227" y="0"/>
                </a:moveTo>
                <a:lnTo>
                  <a:pt x="29227" y="21600"/>
                </a:lnTo>
                <a:lnTo>
                  <a:pt x="27827" y="20200"/>
                </a:lnTo>
                <a:lnTo>
                  <a:pt x="27827" y="1400"/>
                </a:lnTo>
                <a:close/>
              </a:path>
              <a:path fill="darkenLess" w="29227" h="21600">
                <a:moveTo>
                  <a:pt x="29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7" y="20200"/>
                </a:lnTo>
                <a:close/>
              </a:path>
              <a:path fill="lighten" w="29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7" h="21600">
                <a:moveTo>
                  <a:pt x="7607" y="3794"/>
                </a:moveTo>
                <a:lnTo>
                  <a:pt x="21620" y="10800"/>
                </a:lnTo>
                <a:lnTo>
                  <a:pt x="7607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Text Box 13"/>
          <p:cNvSpPr/>
          <p:nvPr/>
        </p:nvSpPr>
        <p:spPr>
          <a:xfrm>
            <a:off x="6764400" y="2562120"/>
            <a:ext cx="207972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оимость одного случая госпитализ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9" name="Равно 19"/>
          <p:cNvGrpSpPr/>
          <p:nvPr/>
        </p:nvGrpSpPr>
        <p:grpSpPr>
          <a:xfrm>
            <a:off x="5815080" y="2682720"/>
            <a:ext cx="530280" cy="438480"/>
            <a:chOff x="5815080" y="2682720"/>
            <a:chExt cx="530280" cy="438480"/>
          </a:xfrm>
        </p:grpSpPr>
        <p:pic>
          <p:nvPicPr>
            <p:cNvPr id="2290" name="Равно 19" descr=""/>
            <p:cNvPicPr/>
            <p:nvPr/>
          </p:nvPicPr>
          <p:blipFill>
            <a:blip r:embed="rId6"/>
            <a:stretch/>
          </p:blipFill>
          <p:spPr>
            <a:xfrm>
              <a:off x="5815080" y="2682720"/>
              <a:ext cx="530280" cy="4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1" name=""/>
            <p:cNvSpPr/>
            <p:nvPr/>
          </p:nvSpPr>
          <p:spPr>
            <a:xfrm>
              <a:off x="5872320" y="2714760"/>
              <a:ext cx="4237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2" name="Умножение 20"/>
          <p:cNvGrpSpPr/>
          <p:nvPr/>
        </p:nvGrpSpPr>
        <p:grpSpPr>
          <a:xfrm>
            <a:off x="2633760" y="2657520"/>
            <a:ext cx="469800" cy="500040"/>
            <a:chOff x="2633760" y="2657520"/>
            <a:chExt cx="469800" cy="500040"/>
          </a:xfrm>
        </p:grpSpPr>
        <p:pic>
          <p:nvPicPr>
            <p:cNvPr id="2293" name="Умножение 20" descr=""/>
            <p:cNvPicPr/>
            <p:nvPr/>
          </p:nvPicPr>
          <p:blipFill>
            <a:blip r:embed="rId7"/>
            <a:stretch/>
          </p:blipFill>
          <p:spPr>
            <a:xfrm>
              <a:off x="2633760" y="2657520"/>
              <a:ext cx="469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4" name=""/>
            <p:cNvSpPr/>
            <p:nvPr/>
          </p:nvSpPr>
          <p:spPr>
            <a:xfrm>
              <a:off x="2692440" y="2695680"/>
              <a:ext cx="353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95" name="Text Box 16"/>
          <p:cNvSpPr/>
          <p:nvPr/>
        </p:nvSpPr>
        <p:spPr>
          <a:xfrm>
            <a:off x="528480" y="2600280"/>
            <a:ext cx="1656000" cy="604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стоимость госпитализ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Text Box 25"/>
          <p:cNvSpPr/>
          <p:nvPr/>
        </p:nvSpPr>
        <p:spPr>
          <a:xfrm>
            <a:off x="3637080" y="2637000"/>
            <a:ext cx="172692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правочные коэффициен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Скругленный прямоугольник 29"/>
          <p:cNvSpPr/>
          <p:nvPr/>
        </p:nvSpPr>
        <p:spPr>
          <a:xfrm>
            <a:off x="6804000" y="4514760"/>
            <a:ext cx="1800360" cy="96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вленческий коэффициен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TextBox 1"/>
          <p:cNvSpPr/>
          <p:nvPr/>
        </p:nvSpPr>
        <p:spPr>
          <a:xfrm>
            <a:off x="2109240" y="475776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TextBox 30"/>
          <p:cNvSpPr/>
          <p:nvPr/>
        </p:nvSpPr>
        <p:spPr>
          <a:xfrm>
            <a:off x="4314240" y="475776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TextBox 31"/>
          <p:cNvSpPr/>
          <p:nvPr/>
        </p:nvSpPr>
        <p:spPr>
          <a:xfrm>
            <a:off x="6501600" y="47242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Скругленный прямоугольник 32"/>
          <p:cNvSpPr/>
          <p:nvPr/>
        </p:nvSpPr>
        <p:spPr>
          <a:xfrm>
            <a:off x="395280" y="4506840"/>
            <a:ext cx="1711440" cy="95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эффициент относительной затратоемк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Скругленный прямоугольник 33"/>
          <p:cNvSpPr/>
          <p:nvPr/>
        </p:nvSpPr>
        <p:spPr>
          <a:xfrm>
            <a:off x="2490840" y="4498920"/>
            <a:ext cx="1800000" cy="95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эффициент уровня оказания медицинской помощ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Скругленный прямоугольник 34"/>
          <p:cNvSpPr/>
          <p:nvPr/>
        </p:nvSpPr>
        <p:spPr>
          <a:xfrm>
            <a:off x="4643280" y="4506840"/>
            <a:ext cx="1770120" cy="95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эффициент сложности кур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Правая фигурная скобка 2"/>
          <p:cNvSpPr/>
          <p:nvPr/>
        </p:nvSpPr>
        <p:spPr>
          <a:xfrm rot="16200000">
            <a:off x="4187520" y="-276480"/>
            <a:ext cx="568440" cy="8585280"/>
          </a:xfrm>
          <a:custGeom>
            <a:avLst/>
            <a:gdLst>
              <a:gd name="textAreaLeft" fmla="*/ 0 w 568440"/>
              <a:gd name="textAreaRight" fmla="*/ 205200 w 568440"/>
              <a:gd name="textAreaTop" fmla="*/ 14760 h 8585280"/>
              <a:gd name="textAreaBottom" fmla="*/ 8570520 h 858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"/>
                  <a:pt x="10800" y="119"/>
                </a:cubicBezTo>
                <a:lnTo>
                  <a:pt x="10800" y="10681"/>
                </a:lnTo>
                <a:cubicBezTo>
                  <a:pt x="10800" y="10741"/>
                  <a:pt x="16200" y="10800"/>
                  <a:pt x="21600" y="10800"/>
                </a:cubicBezTo>
                <a:cubicBezTo>
                  <a:pt x="16200" y="10800"/>
                  <a:pt x="10800" y="10860"/>
                  <a:pt x="10800" y="10919"/>
                </a:cubicBezTo>
                <a:lnTo>
                  <a:pt x="10800" y="21481"/>
                </a:lnTo>
                <a:cubicBezTo>
                  <a:pt x="10800" y="2154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Скругленный прямоугольник 21"/>
          <p:cNvSpPr/>
          <p:nvPr/>
        </p:nvSpPr>
        <p:spPr>
          <a:xfrm>
            <a:off x="1015920" y="1700280"/>
            <a:ext cx="686916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Прямоугольная выноска 17"/>
          <p:cNvSpPr/>
          <p:nvPr/>
        </p:nvSpPr>
        <p:spPr>
          <a:xfrm>
            <a:off x="3995640" y="3917880"/>
            <a:ext cx="1513080" cy="612720"/>
          </a:xfrm>
          <a:prstGeom prst="wedgeRectCallout">
            <a:avLst>
              <a:gd name="adj1" fmla="val -6337"/>
              <a:gd name="adj2" fmla="val -110074"/>
            </a:avLst>
          </a:prstGeom>
          <a:solidFill>
            <a:srgbClr val="ffffff"/>
          </a:solidFill>
          <a:ln w="3240">
            <a:solidFill>
              <a:srgbClr val="dc281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Прямоугольная выноска 1"/>
          <p:cNvSpPr/>
          <p:nvPr/>
        </p:nvSpPr>
        <p:spPr>
          <a:xfrm>
            <a:off x="468360" y="3941640"/>
            <a:ext cx="1511280" cy="612720"/>
          </a:xfrm>
          <a:prstGeom prst="wedgeRectCallout">
            <a:avLst>
              <a:gd name="adj1" fmla="val -6337"/>
              <a:gd name="adj2" fmla="val -110074"/>
            </a:avLst>
          </a:prstGeom>
          <a:solidFill>
            <a:srgbClr val="ffffff"/>
          </a:solidFill>
          <a:ln w="3240">
            <a:solidFill>
              <a:srgbClr val="006ea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Прямоугольник 1"/>
          <p:cNvSpPr/>
          <p:nvPr/>
        </p:nvSpPr>
        <p:spPr>
          <a:xfrm>
            <a:off x="3112920" y="388800"/>
            <a:ext cx="59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</a:rPr>
              <a:t>«Условный» расчет стоимости одного случая лечения аневризмы аор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9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706680"/>
          </a:xfrm>
          <a:prstGeom prst="rect">
            <a:avLst/>
          </a:prstGeom>
          <a:ln w="0">
            <a:noFill/>
          </a:ln>
        </p:spPr>
      </p:pic>
      <p:pic>
        <p:nvPicPr>
          <p:cNvPr id="2310" name="Picture 9" descr=""/>
          <p:cNvPicPr/>
          <p:nvPr/>
        </p:nvPicPr>
        <p:blipFill>
          <a:blip r:embed="rId2"/>
          <a:stretch/>
        </p:blipFill>
        <p:spPr>
          <a:xfrm>
            <a:off x="539640" y="966960"/>
            <a:ext cx="1224000" cy="374400"/>
          </a:xfrm>
          <a:prstGeom prst="rect">
            <a:avLst/>
          </a:prstGeom>
          <a:ln w="0">
            <a:noFill/>
          </a:ln>
        </p:spPr>
      </p:pic>
      <p:sp>
        <p:nvSpPr>
          <p:cNvPr id="2311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604360" y="44280"/>
            <a:ext cx="492120" cy="363600"/>
          </a:xfrm>
          <a:custGeom>
            <a:avLst/>
            <a:gdLst>
              <a:gd name="textAreaLeft" fmla="*/ 23400 w 492120"/>
              <a:gd name="textAreaRight" fmla="*/ 468720 w 49212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9227" h="21600">
                <a:moveTo>
                  <a:pt x="0" y="0"/>
                </a:moveTo>
                <a:lnTo>
                  <a:pt x="29227" y="0"/>
                </a:lnTo>
                <a:lnTo>
                  <a:pt x="29227" y="21600"/>
                </a:lnTo>
                <a:lnTo>
                  <a:pt x="0" y="21600"/>
                </a:lnTo>
                <a:close/>
              </a:path>
              <a:path fill="lightenLess" w="29227" h="21600">
                <a:moveTo>
                  <a:pt x="0" y="0"/>
                </a:moveTo>
                <a:lnTo>
                  <a:pt x="29227" y="0"/>
                </a:lnTo>
                <a:lnTo>
                  <a:pt x="27827" y="1400"/>
                </a:lnTo>
                <a:lnTo>
                  <a:pt x="1400" y="1400"/>
                </a:lnTo>
                <a:close/>
              </a:path>
              <a:path fill="darken" w="29227" h="21600">
                <a:moveTo>
                  <a:pt x="29227" y="0"/>
                </a:moveTo>
                <a:lnTo>
                  <a:pt x="29227" y="21600"/>
                </a:lnTo>
                <a:lnTo>
                  <a:pt x="27827" y="20200"/>
                </a:lnTo>
                <a:lnTo>
                  <a:pt x="27827" y="1400"/>
                </a:lnTo>
                <a:close/>
              </a:path>
              <a:path fill="darkenLess" w="29227" h="21600">
                <a:moveTo>
                  <a:pt x="29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7" y="20200"/>
                </a:lnTo>
                <a:close/>
              </a:path>
              <a:path fill="lighten" w="29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7" h="21600">
                <a:moveTo>
                  <a:pt x="7607" y="3794"/>
                </a:moveTo>
                <a:lnTo>
                  <a:pt x="21620" y="10800"/>
                </a:lnTo>
                <a:lnTo>
                  <a:pt x="7607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TextBox 4"/>
          <p:cNvSpPr/>
          <p:nvPr/>
        </p:nvSpPr>
        <p:spPr>
          <a:xfrm>
            <a:off x="5216400" y="54468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Прямоугольник 5"/>
          <p:cNvSpPr/>
          <p:nvPr/>
        </p:nvSpPr>
        <p:spPr>
          <a:xfrm>
            <a:off x="468360" y="40482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Calibri"/>
              </a:rPr>
              <a:t>22 095 руб. *2,67*1,41*1*1*=  </a:t>
            </a:r>
            <a:r>
              <a:rPr b="1" lang="ru-RU" sz="2000" spc="-1" strike="noStrike" u="sng">
                <a:solidFill>
                  <a:srgbClr val="dc281e"/>
                </a:solidFill>
                <a:uFillTx/>
                <a:latin typeface="Arial"/>
                <a:ea typeface="Calibri"/>
              </a:rPr>
              <a:t>83 181 руб.</a:t>
            </a:r>
            <a:r>
              <a:rPr b="1" lang="ru-RU" sz="2000" spc="-1" strike="noStrike">
                <a:solidFill>
                  <a:srgbClr val="dc281e"/>
                </a:solidFill>
                <a:latin typeface="Arial"/>
                <a:ea typeface="Calibri"/>
              </a:rPr>
              <a:t>  + </a:t>
            </a: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Calibri"/>
              </a:rPr>
              <a:t>4 695 руб. = </a:t>
            </a:r>
            <a:r>
              <a:rPr b="1" lang="ru-RU" sz="2000" spc="-1" strike="noStrike" u="sng">
                <a:solidFill>
                  <a:srgbClr val="dc281e"/>
                </a:solidFill>
                <a:uFillTx/>
                <a:latin typeface="Arial"/>
                <a:ea typeface="Calibri"/>
              </a:rPr>
              <a:t>87 876 ру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Text Box 16"/>
          <p:cNvSpPr/>
          <p:nvPr/>
        </p:nvSpPr>
        <p:spPr>
          <a:xfrm>
            <a:off x="539640" y="3006720"/>
            <a:ext cx="1548000" cy="604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яя стоимость госпитализ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Text Box 25"/>
          <p:cNvSpPr/>
          <p:nvPr/>
        </p:nvSpPr>
        <p:spPr>
          <a:xfrm>
            <a:off x="1341360" y="4995720"/>
            <a:ext cx="3365640" cy="1159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равочные коэффициенты: затратоемкости, уровня оказания медицинской помощи, сложности курации, управленческий коэффициен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Правая фигурная скобка 2"/>
          <p:cNvSpPr/>
          <p:nvPr/>
        </p:nvSpPr>
        <p:spPr>
          <a:xfrm rot="5400000">
            <a:off x="2793960" y="3849480"/>
            <a:ext cx="244440" cy="1727280"/>
          </a:xfrm>
          <a:custGeom>
            <a:avLst/>
            <a:gdLst>
              <a:gd name="textAreaLeft" fmla="*/ 0 w 244440"/>
              <a:gd name="textAreaRight" fmla="*/ 88200 w 244440"/>
              <a:gd name="textAreaTop" fmla="*/ 6120 h 1727280"/>
              <a:gd name="textAreaBottom" fmla="*/ 172116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8"/>
                  <a:pt x="10800" y="255"/>
                </a:cubicBezTo>
                <a:lnTo>
                  <a:pt x="10800" y="10418"/>
                </a:lnTo>
                <a:cubicBezTo>
                  <a:pt x="10800" y="10546"/>
                  <a:pt x="16200" y="10673"/>
                  <a:pt x="21600" y="10673"/>
                </a:cubicBezTo>
                <a:cubicBezTo>
                  <a:pt x="16200" y="10673"/>
                  <a:pt x="10800" y="10801"/>
                  <a:pt x="10800" y="10928"/>
                </a:cubicBezTo>
                <a:lnTo>
                  <a:pt x="10800" y="21345"/>
                </a:lnTo>
                <a:cubicBezTo>
                  <a:pt x="10800" y="2147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Text Box 22"/>
          <p:cNvSpPr/>
          <p:nvPr/>
        </p:nvSpPr>
        <p:spPr>
          <a:xfrm>
            <a:off x="3492360" y="3016080"/>
            <a:ext cx="237672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имость случая госпитализ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TextBox 8"/>
          <p:cNvSpPr/>
          <p:nvPr/>
        </p:nvSpPr>
        <p:spPr>
          <a:xfrm>
            <a:off x="1013760" y="1785960"/>
            <a:ext cx="704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c281e"/>
                </a:solidFill>
                <a:uFillTx/>
                <a:latin typeface="Arial"/>
              </a:rPr>
              <a:t>Аневризма аорт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рофиль «Сердечно-сосудистая хирургия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нико-статистическая группа №114 – «Операции на сосудах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Text Box 22"/>
          <p:cNvSpPr/>
          <p:nvPr/>
        </p:nvSpPr>
        <p:spPr>
          <a:xfrm>
            <a:off x="5219640" y="5003640"/>
            <a:ext cx="2376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риф на 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Правая фигурная скобка 19"/>
          <p:cNvSpPr/>
          <p:nvPr/>
        </p:nvSpPr>
        <p:spPr>
          <a:xfrm rot="5400000">
            <a:off x="6233040" y="4082040"/>
            <a:ext cx="244440" cy="1262160"/>
          </a:xfrm>
          <a:custGeom>
            <a:avLst/>
            <a:gdLst>
              <a:gd name="textAreaLeft" fmla="*/ 0 w 244440"/>
              <a:gd name="textAreaRight" fmla="*/ 88200 w 244440"/>
              <a:gd name="textAreaTop" fmla="*/ 6120 h 1262160"/>
              <a:gd name="textAreaBottom" fmla="*/ 1256040 h 12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5"/>
                  <a:pt x="10800" y="349"/>
                </a:cubicBezTo>
                <a:lnTo>
                  <a:pt x="10800" y="10324"/>
                </a:lnTo>
                <a:cubicBezTo>
                  <a:pt x="10800" y="10499"/>
                  <a:pt x="16200" y="10673"/>
                  <a:pt x="21600" y="10673"/>
                </a:cubicBezTo>
                <a:cubicBezTo>
                  <a:pt x="16200" y="10673"/>
                  <a:pt x="10800" y="10848"/>
                  <a:pt x="10800" y="11022"/>
                </a:cubicBezTo>
                <a:lnTo>
                  <a:pt x="10800" y="21251"/>
                </a:lnTo>
                <a:cubicBezTo>
                  <a:pt x="10800" y="2142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Text Box 22"/>
          <p:cNvSpPr/>
          <p:nvPr/>
        </p:nvSpPr>
        <p:spPr>
          <a:xfrm>
            <a:off x="6603840" y="3006720"/>
            <a:ext cx="237672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м средств, которые получит МО за лечение пациен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2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611280" y="333360"/>
            <a:ext cx="2448000" cy="706320"/>
          </a:xfrm>
          <a:prstGeom prst="rect">
            <a:avLst/>
          </a:prstGeom>
          <a:ln w="0">
            <a:noFill/>
          </a:ln>
        </p:spPr>
      </p:pic>
      <p:sp>
        <p:nvSpPr>
          <p:cNvPr id="2323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607600" y="150840"/>
            <a:ext cx="492120" cy="363600"/>
          </a:xfrm>
          <a:custGeom>
            <a:avLst/>
            <a:gdLst>
              <a:gd name="textAreaLeft" fmla="*/ 23400 w 492120"/>
              <a:gd name="textAreaRight" fmla="*/ 468720 w 49212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9227" h="21600">
                <a:moveTo>
                  <a:pt x="0" y="0"/>
                </a:moveTo>
                <a:lnTo>
                  <a:pt x="29227" y="0"/>
                </a:lnTo>
                <a:lnTo>
                  <a:pt x="29227" y="21600"/>
                </a:lnTo>
                <a:lnTo>
                  <a:pt x="0" y="21600"/>
                </a:lnTo>
                <a:close/>
              </a:path>
              <a:path fill="lightenLess" w="29227" h="21600">
                <a:moveTo>
                  <a:pt x="0" y="0"/>
                </a:moveTo>
                <a:lnTo>
                  <a:pt x="29227" y="0"/>
                </a:lnTo>
                <a:lnTo>
                  <a:pt x="27827" y="1400"/>
                </a:lnTo>
                <a:lnTo>
                  <a:pt x="1400" y="1400"/>
                </a:lnTo>
                <a:close/>
              </a:path>
              <a:path fill="darken" w="29227" h="21600">
                <a:moveTo>
                  <a:pt x="29227" y="0"/>
                </a:moveTo>
                <a:lnTo>
                  <a:pt x="29227" y="21600"/>
                </a:lnTo>
                <a:lnTo>
                  <a:pt x="27827" y="20200"/>
                </a:lnTo>
                <a:lnTo>
                  <a:pt x="27827" y="1400"/>
                </a:lnTo>
                <a:close/>
              </a:path>
              <a:path fill="darkenLess" w="29227" h="21600">
                <a:moveTo>
                  <a:pt x="29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7" y="20200"/>
                </a:lnTo>
                <a:close/>
              </a:path>
              <a:path fill="lighten" w="29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7" h="21600">
                <a:moveTo>
                  <a:pt x="7607" y="3794"/>
                </a:moveTo>
                <a:lnTo>
                  <a:pt x="21620" y="10800"/>
                </a:lnTo>
                <a:lnTo>
                  <a:pt x="7607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4" name="Picture 9" descr=""/>
          <p:cNvPicPr/>
          <p:nvPr/>
        </p:nvPicPr>
        <p:blipFill>
          <a:blip r:embed="rId2"/>
          <a:stretch/>
        </p:blipFill>
        <p:spPr>
          <a:xfrm>
            <a:off x="539640" y="1109520"/>
            <a:ext cx="1224000" cy="374760"/>
          </a:xfrm>
          <a:prstGeom prst="rect">
            <a:avLst/>
          </a:prstGeom>
          <a:ln w="0">
            <a:noFill/>
          </a:ln>
        </p:spPr>
      </p:pic>
      <p:sp>
        <p:nvSpPr>
          <p:cNvPr id="2325" name="TextBox 15"/>
          <p:cNvSpPr/>
          <p:nvPr/>
        </p:nvSpPr>
        <p:spPr>
          <a:xfrm>
            <a:off x="531720" y="2752560"/>
            <a:ext cx="396900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тимальное число тариф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до 40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ксированное финансирование и сдерживание роста необоснованных расход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сутствие заинтересованности МО в «искусственном» искажении статистики и назначении необоснованных медицинских услу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Оптимизация коечного фон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TextBox 16"/>
          <p:cNvSpPr/>
          <p:nvPr/>
        </p:nvSpPr>
        <p:spPr>
          <a:xfrm>
            <a:off x="5219640" y="2771640"/>
            <a:ext cx="38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ятие «сливок» (отбор «легких» пациентов и перенаправление «тяжелых» пациентов в другие М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7" name="Минус 22"/>
          <p:cNvGrpSpPr/>
          <p:nvPr/>
        </p:nvGrpSpPr>
        <p:grpSpPr>
          <a:xfrm>
            <a:off x="4950000" y="2548080"/>
            <a:ext cx="536400" cy="244440"/>
            <a:chOff x="4950000" y="2548080"/>
            <a:chExt cx="536400" cy="244440"/>
          </a:xfrm>
        </p:grpSpPr>
        <p:pic>
          <p:nvPicPr>
            <p:cNvPr id="2328" name="Минус 22" descr=""/>
            <p:cNvPicPr/>
            <p:nvPr/>
          </p:nvPicPr>
          <p:blipFill>
            <a:blip r:embed="rId3"/>
            <a:stretch/>
          </p:blipFill>
          <p:spPr>
            <a:xfrm>
              <a:off x="4950000" y="2548080"/>
              <a:ext cx="53640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>
              <a:off x="5008680" y="2584440"/>
              <a:ext cx="42372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30" name="Прямоугольник 1"/>
          <p:cNvSpPr/>
          <p:nvPr/>
        </p:nvSpPr>
        <p:spPr>
          <a:xfrm>
            <a:off x="3203640" y="18900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</a:rPr>
              <a:t>Преимущества и риски при перехо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</a:rPr>
              <a:t>на оплату стационарной и стационарзамещающей помощи по КС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Скругленный прямоугольник 14"/>
          <p:cNvSpPr/>
          <p:nvPr/>
        </p:nvSpPr>
        <p:spPr>
          <a:xfrm>
            <a:off x="5148360" y="1996920"/>
            <a:ext cx="345600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с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Скругленный прямоугольник 15"/>
          <p:cNvSpPr/>
          <p:nvPr/>
        </p:nvSpPr>
        <p:spPr>
          <a:xfrm>
            <a:off x="539640" y="1924200"/>
            <a:ext cx="345600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3" name="Picture 93" descr="D:\Картинки для презентаций\green-plus-sign-hi.png"/>
          <p:cNvPicPr/>
          <p:nvPr/>
        </p:nvPicPr>
        <p:blipFill>
          <a:blip r:embed="rId4"/>
          <a:stretch/>
        </p:blipFill>
        <p:spPr>
          <a:xfrm>
            <a:off x="195120" y="1849320"/>
            <a:ext cx="831960" cy="828720"/>
          </a:xfrm>
          <a:prstGeom prst="rect">
            <a:avLst/>
          </a:prstGeom>
          <a:ln w="0">
            <a:noFill/>
          </a:ln>
        </p:spPr>
      </p:pic>
      <p:pic>
        <p:nvPicPr>
          <p:cNvPr id="2334" name="Picture 94" descr="D:\Картинки для презентаций\i.jpeg"/>
          <p:cNvPicPr/>
          <p:nvPr/>
        </p:nvPicPr>
        <p:blipFill>
          <a:blip r:embed="rId5"/>
          <a:stretch/>
        </p:blipFill>
        <p:spPr>
          <a:xfrm>
            <a:off x="4788000" y="191772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Прямоугольник 11"/>
          <p:cNvSpPr/>
          <p:nvPr/>
        </p:nvSpPr>
        <p:spPr>
          <a:xfrm>
            <a:off x="5364000" y="1989000"/>
            <a:ext cx="3624480" cy="360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6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611280" y="333360"/>
            <a:ext cx="2448000" cy="706320"/>
          </a:xfrm>
          <a:prstGeom prst="rect">
            <a:avLst/>
          </a:prstGeom>
          <a:ln w="0">
            <a:noFill/>
          </a:ln>
        </p:spPr>
      </p:pic>
      <p:sp>
        <p:nvSpPr>
          <p:cNvPr id="2337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607600" y="150840"/>
            <a:ext cx="492120" cy="363600"/>
          </a:xfrm>
          <a:custGeom>
            <a:avLst/>
            <a:gdLst>
              <a:gd name="textAreaLeft" fmla="*/ 23400 w 492120"/>
              <a:gd name="textAreaRight" fmla="*/ 468720 w 49212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9227" h="21600">
                <a:moveTo>
                  <a:pt x="0" y="0"/>
                </a:moveTo>
                <a:lnTo>
                  <a:pt x="29227" y="0"/>
                </a:lnTo>
                <a:lnTo>
                  <a:pt x="29227" y="21600"/>
                </a:lnTo>
                <a:lnTo>
                  <a:pt x="0" y="21600"/>
                </a:lnTo>
                <a:close/>
              </a:path>
              <a:path fill="lightenLess" w="29227" h="21600">
                <a:moveTo>
                  <a:pt x="0" y="0"/>
                </a:moveTo>
                <a:lnTo>
                  <a:pt x="29227" y="0"/>
                </a:lnTo>
                <a:lnTo>
                  <a:pt x="27827" y="1400"/>
                </a:lnTo>
                <a:lnTo>
                  <a:pt x="1400" y="1400"/>
                </a:lnTo>
                <a:close/>
              </a:path>
              <a:path fill="darken" w="29227" h="21600">
                <a:moveTo>
                  <a:pt x="29227" y="0"/>
                </a:moveTo>
                <a:lnTo>
                  <a:pt x="29227" y="21600"/>
                </a:lnTo>
                <a:lnTo>
                  <a:pt x="27827" y="20200"/>
                </a:lnTo>
                <a:lnTo>
                  <a:pt x="27827" y="1400"/>
                </a:lnTo>
                <a:close/>
              </a:path>
              <a:path fill="darkenLess" w="29227" h="21600">
                <a:moveTo>
                  <a:pt x="29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7" y="20200"/>
                </a:lnTo>
                <a:close/>
              </a:path>
              <a:path fill="lighten" w="29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7" h="21600">
                <a:moveTo>
                  <a:pt x="7607" y="3794"/>
                </a:moveTo>
                <a:lnTo>
                  <a:pt x="21620" y="10800"/>
                </a:lnTo>
                <a:lnTo>
                  <a:pt x="7607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9" descr=""/>
          <p:cNvPicPr/>
          <p:nvPr/>
        </p:nvPicPr>
        <p:blipFill>
          <a:blip r:embed="rId2"/>
          <a:stretch/>
        </p:blipFill>
        <p:spPr>
          <a:xfrm>
            <a:off x="539640" y="1109520"/>
            <a:ext cx="1224000" cy="374760"/>
          </a:xfrm>
          <a:prstGeom prst="rect">
            <a:avLst/>
          </a:prstGeom>
          <a:ln w="0">
            <a:noFill/>
          </a:ln>
        </p:spPr>
      </p:pic>
      <p:sp>
        <p:nvSpPr>
          <p:cNvPr id="2339" name="Прямоугольник 1"/>
          <p:cNvSpPr/>
          <p:nvPr/>
        </p:nvSpPr>
        <p:spPr>
          <a:xfrm>
            <a:off x="3203640" y="34452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</a:rPr>
              <a:t>Групповые тарифы на 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0" name="Объект 9" descr=""/>
          <p:cNvPicPr/>
          <p:nvPr/>
        </p:nvPicPr>
        <p:blipFill>
          <a:blip r:embed="rId3"/>
          <a:stretch/>
        </p:blipFill>
        <p:spPr>
          <a:xfrm>
            <a:off x="-1047600" y="1957320"/>
            <a:ext cx="8240400" cy="3651480"/>
          </a:xfrm>
          <a:prstGeom prst="rect">
            <a:avLst/>
          </a:prstGeom>
          <a:ln w="0">
            <a:noFill/>
          </a:ln>
        </p:spPr>
      </p:pic>
      <p:sp>
        <p:nvSpPr>
          <p:cNvPr id="2341" name="Прямоугольник 10"/>
          <p:cNvSpPr/>
          <p:nvPr/>
        </p:nvSpPr>
        <p:spPr>
          <a:xfrm>
            <a:off x="5383800" y="2421000"/>
            <a:ext cx="3704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eaf"/>
                </a:solidFill>
                <a:latin typeface="Arial"/>
              </a:rPr>
              <a:t>Принципы объединения в групп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ерархический уровень М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тегория М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овозрастной соста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крепленного насел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ециализация М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раты МО на единицу объем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дицинской помощ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2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611280" y="333360"/>
            <a:ext cx="2448000" cy="706320"/>
          </a:xfrm>
          <a:prstGeom prst="rect">
            <a:avLst/>
          </a:prstGeom>
          <a:ln w="0">
            <a:noFill/>
          </a:ln>
        </p:spPr>
      </p:pic>
      <p:sp>
        <p:nvSpPr>
          <p:cNvPr id="2343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607600" y="150840"/>
            <a:ext cx="492120" cy="363600"/>
          </a:xfrm>
          <a:custGeom>
            <a:avLst/>
            <a:gdLst>
              <a:gd name="textAreaLeft" fmla="*/ 23400 w 492120"/>
              <a:gd name="textAreaRight" fmla="*/ 468720 w 49212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9227" h="21600">
                <a:moveTo>
                  <a:pt x="0" y="0"/>
                </a:moveTo>
                <a:lnTo>
                  <a:pt x="29227" y="0"/>
                </a:lnTo>
                <a:lnTo>
                  <a:pt x="29227" y="21600"/>
                </a:lnTo>
                <a:lnTo>
                  <a:pt x="0" y="21600"/>
                </a:lnTo>
                <a:close/>
              </a:path>
              <a:path fill="lightenLess" w="29227" h="21600">
                <a:moveTo>
                  <a:pt x="0" y="0"/>
                </a:moveTo>
                <a:lnTo>
                  <a:pt x="29227" y="0"/>
                </a:lnTo>
                <a:lnTo>
                  <a:pt x="27827" y="1400"/>
                </a:lnTo>
                <a:lnTo>
                  <a:pt x="1400" y="1400"/>
                </a:lnTo>
                <a:close/>
              </a:path>
              <a:path fill="darken" w="29227" h="21600">
                <a:moveTo>
                  <a:pt x="29227" y="0"/>
                </a:moveTo>
                <a:lnTo>
                  <a:pt x="29227" y="21600"/>
                </a:lnTo>
                <a:lnTo>
                  <a:pt x="27827" y="20200"/>
                </a:lnTo>
                <a:lnTo>
                  <a:pt x="27827" y="1400"/>
                </a:lnTo>
                <a:close/>
              </a:path>
              <a:path fill="darkenLess" w="29227" h="21600">
                <a:moveTo>
                  <a:pt x="29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7" y="20200"/>
                </a:lnTo>
                <a:close/>
              </a:path>
              <a:path fill="lighten" w="29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7" h="21600">
                <a:moveTo>
                  <a:pt x="7607" y="3794"/>
                </a:moveTo>
                <a:lnTo>
                  <a:pt x="21620" y="10800"/>
                </a:lnTo>
                <a:lnTo>
                  <a:pt x="7607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4" name="Picture 9" descr=""/>
          <p:cNvPicPr/>
          <p:nvPr/>
        </p:nvPicPr>
        <p:blipFill>
          <a:blip r:embed="rId2"/>
          <a:stretch/>
        </p:blipFill>
        <p:spPr>
          <a:xfrm>
            <a:off x="539640" y="1109520"/>
            <a:ext cx="1224000" cy="374760"/>
          </a:xfrm>
          <a:prstGeom prst="rect">
            <a:avLst/>
          </a:prstGeom>
          <a:ln w="0">
            <a:noFill/>
          </a:ln>
        </p:spPr>
      </p:pic>
      <p:sp>
        <p:nvSpPr>
          <p:cNvPr id="2345" name="Прямоугольник 1"/>
          <p:cNvSpPr/>
          <p:nvPr/>
        </p:nvSpPr>
        <p:spPr>
          <a:xfrm>
            <a:off x="3203640" y="34452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</a:rPr>
              <a:t>Тариф на содержание отдельных медицинских организа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"/>
          <p:cNvSpPr txBox="1"/>
          <p:nvPr/>
        </p:nvSpPr>
        <p:spPr>
          <a:xfrm>
            <a:off x="539640" y="1557000"/>
            <a:ext cx="8229600" cy="36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eaf"/>
                </a:solidFill>
                <a:latin typeface="Arial"/>
                <a:ea typeface="Calibri"/>
              </a:rPr>
              <a:t>Стацион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Скругленный прямоугольник 3"/>
          <p:cNvSpPr/>
          <p:nvPr/>
        </p:nvSpPr>
        <p:spPr>
          <a:xfrm>
            <a:off x="1906560" y="1925640"/>
            <a:ext cx="230364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281e"/>
                </a:solidFill>
                <a:latin typeface="Arial"/>
              </a:rPr>
              <a:t>151 руб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ГБ №2, ЦГКБ №1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 Екатеринбург, Дегтярская Г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Скругленный прямоугольник 15"/>
          <p:cNvSpPr/>
          <p:nvPr/>
        </p:nvSpPr>
        <p:spPr>
          <a:xfrm>
            <a:off x="5992920" y="1773360"/>
            <a:ext cx="2303280" cy="10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281e"/>
                </a:solidFill>
                <a:latin typeface="Arial"/>
              </a:rPr>
              <a:t>1615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 №22 «Озеро Глухое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Скругленный прямоугольник 16"/>
          <p:cNvSpPr/>
          <p:nvPr/>
        </p:nvSpPr>
        <p:spPr>
          <a:xfrm>
            <a:off x="1835280" y="3670200"/>
            <a:ext cx="230328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281e"/>
                </a:solidFill>
                <a:latin typeface="Arial"/>
              </a:rPr>
              <a:t>18 руб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ринская ЦРБ, Камышловская ЦРБ, Таборинская ЦР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Скругленный прямоугольник 17"/>
          <p:cNvSpPr/>
          <p:nvPr/>
        </p:nvSpPr>
        <p:spPr>
          <a:xfrm>
            <a:off x="6132600" y="3500280"/>
            <a:ext cx="2305080" cy="10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281e"/>
                </a:solidFill>
                <a:latin typeface="Arial"/>
              </a:rPr>
              <a:t>475 руб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КБ №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Скругленный прямоугольник 18"/>
          <p:cNvSpPr/>
          <p:nvPr/>
        </p:nvSpPr>
        <p:spPr>
          <a:xfrm>
            <a:off x="1492200" y="5516640"/>
            <a:ext cx="2503440" cy="10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7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c281e"/>
                </a:solidFill>
                <a:latin typeface="Arial"/>
              </a:rPr>
              <a:t>0,1113</a:t>
            </a:r>
            <a:r>
              <a:rPr b="0" lang="ru-RU" sz="1400" spc="-1" strike="noStrike">
                <a:solidFill>
                  <a:srgbClr val="dc281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П г. Каменск-Уральский, ГП №3 г. Н-Таги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Скругленный прямоугольник 19"/>
          <p:cNvSpPr/>
          <p:nvPr/>
        </p:nvSpPr>
        <p:spPr>
          <a:xfrm>
            <a:off x="4981680" y="5516640"/>
            <a:ext cx="2303280" cy="10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7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c281e"/>
                </a:solidFill>
                <a:latin typeface="Arial"/>
              </a:rPr>
              <a:t>0,4732</a:t>
            </a:r>
            <a:r>
              <a:rPr b="1" lang="ru-RU" sz="1400" spc="-1" strike="noStrike" u="sng">
                <a:solidFill>
                  <a:srgbClr val="dc281e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ГБ г. Кушв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 №1 г. Асбес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3" name="Picture 3" descr="C:\Users\kokareva\Desktop\Coin-icon.png"/>
          <p:cNvPicPr/>
          <p:nvPr/>
        </p:nvPicPr>
        <p:blipFill>
          <a:blip r:embed="rId3"/>
          <a:stretch/>
        </p:blipFill>
        <p:spPr>
          <a:xfrm>
            <a:off x="971640" y="2190600"/>
            <a:ext cx="865080" cy="866880"/>
          </a:xfrm>
          <a:prstGeom prst="rect">
            <a:avLst/>
          </a:prstGeom>
          <a:ln w="0">
            <a:noFill/>
          </a:ln>
        </p:spPr>
      </p:pic>
      <p:pic>
        <p:nvPicPr>
          <p:cNvPr id="2354" name="Picture 3" descr="C:\Users\kokareva\Desktop\Coin-icon.png"/>
          <p:cNvPicPr/>
          <p:nvPr/>
        </p:nvPicPr>
        <p:blipFill>
          <a:blip r:embed="rId4"/>
          <a:stretch/>
        </p:blipFill>
        <p:spPr>
          <a:xfrm>
            <a:off x="4834080" y="1916280"/>
            <a:ext cx="1311120" cy="1311120"/>
          </a:xfrm>
          <a:prstGeom prst="rect">
            <a:avLst/>
          </a:prstGeom>
          <a:ln w="0">
            <a:noFill/>
          </a:ln>
        </p:spPr>
      </p:pic>
      <p:pic>
        <p:nvPicPr>
          <p:cNvPr id="2355" name="Picture 3" descr="C:\Users\kokareva\Desktop\Coin-icon.png"/>
          <p:cNvPicPr/>
          <p:nvPr/>
        </p:nvPicPr>
        <p:blipFill>
          <a:blip r:embed="rId5"/>
          <a:stretch/>
        </p:blipFill>
        <p:spPr>
          <a:xfrm>
            <a:off x="887400" y="3670200"/>
            <a:ext cx="909720" cy="908280"/>
          </a:xfrm>
          <a:prstGeom prst="rect">
            <a:avLst/>
          </a:prstGeom>
          <a:ln w="0">
            <a:noFill/>
          </a:ln>
        </p:spPr>
      </p:pic>
      <p:pic>
        <p:nvPicPr>
          <p:cNvPr id="2356" name="Picture 3" descr="C:\Users\kokareva\Desktop\Coin-icon.png"/>
          <p:cNvPicPr/>
          <p:nvPr/>
        </p:nvPicPr>
        <p:blipFill>
          <a:blip r:embed="rId6"/>
          <a:stretch/>
        </p:blipFill>
        <p:spPr>
          <a:xfrm>
            <a:off x="4792680" y="3438360"/>
            <a:ext cx="1311120" cy="1311480"/>
          </a:xfrm>
          <a:prstGeom prst="rect">
            <a:avLst/>
          </a:prstGeom>
          <a:ln w="0">
            <a:noFill/>
          </a:ln>
        </p:spPr>
      </p:pic>
      <p:sp>
        <p:nvSpPr>
          <p:cNvPr id="2357" name="Прямоугольник 2"/>
          <p:cNvSpPr/>
          <p:nvPr/>
        </p:nvSpPr>
        <p:spPr>
          <a:xfrm>
            <a:off x="257040" y="5011560"/>
            <a:ext cx="86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eaf"/>
                </a:solidFill>
                <a:latin typeface="Arial"/>
                <a:ea typeface="Calibri"/>
              </a:rPr>
              <a:t>Коэффициент к подушевому нормативу при оказании амбулаторно-поликлинической помощ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Прямоугольник 4"/>
          <p:cNvSpPr/>
          <p:nvPr/>
        </p:nvSpPr>
        <p:spPr>
          <a:xfrm>
            <a:off x="3638520" y="3213000"/>
            <a:ext cx="205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eaf"/>
                </a:solidFill>
                <a:latin typeface="Arial"/>
                <a:ea typeface="Calibri"/>
              </a:rPr>
              <a:t>Дневной </a:t>
            </a:r>
            <a:r>
              <a:rPr b="1" lang="ru-RU" sz="1600" spc="-1" strike="noStrike">
                <a:solidFill>
                  <a:srgbClr val="006eaf"/>
                </a:solidFill>
                <a:latin typeface="Arial"/>
                <a:ea typeface="Calibri"/>
              </a:rPr>
              <a:t>стацион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Text Box 2"/>
          <p:cNvSpPr/>
          <p:nvPr/>
        </p:nvSpPr>
        <p:spPr>
          <a:xfrm>
            <a:off x="611280" y="1916280"/>
            <a:ext cx="79214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00375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757"/>
                </a:solidFill>
                <a:latin typeface="Arial"/>
                <a:ea typeface="Arial"/>
              </a:rPr>
              <a:t>обеспечить сбалансированность объемов медицинской помощи и ее финансир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00375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757"/>
                </a:solidFill>
                <a:latin typeface="Arial"/>
                <a:ea typeface="Arial"/>
              </a:rPr>
              <a:t>повысить эффективность управления ресурсами учреждений здравоохранения, в том числе через сокращение неэффективных расход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00375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757"/>
                </a:solidFill>
                <a:latin typeface="Arial"/>
                <a:ea typeface="Arial"/>
              </a:rPr>
              <a:t>продолжить формирование единого информа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0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611280" y="333360"/>
            <a:ext cx="2448000" cy="706320"/>
          </a:xfrm>
          <a:prstGeom prst="rect">
            <a:avLst/>
          </a:prstGeom>
          <a:ln w="0">
            <a:noFill/>
          </a:ln>
        </p:spPr>
      </p:pic>
      <p:sp>
        <p:nvSpPr>
          <p:cNvPr id="2361" name="Прямоугольник 1"/>
          <p:cNvSpPr/>
          <p:nvPr/>
        </p:nvSpPr>
        <p:spPr>
          <a:xfrm>
            <a:off x="3132000" y="476280"/>
            <a:ext cx="561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Основные зад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на 2014 г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607600" y="150840"/>
            <a:ext cx="492120" cy="363600"/>
          </a:xfrm>
          <a:custGeom>
            <a:avLst/>
            <a:gdLst>
              <a:gd name="textAreaLeft" fmla="*/ 23400 w 492120"/>
              <a:gd name="textAreaRight" fmla="*/ 468720 w 49212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9227" h="21600">
                <a:moveTo>
                  <a:pt x="0" y="0"/>
                </a:moveTo>
                <a:lnTo>
                  <a:pt x="29227" y="0"/>
                </a:lnTo>
                <a:lnTo>
                  <a:pt x="29227" y="21600"/>
                </a:lnTo>
                <a:lnTo>
                  <a:pt x="0" y="21600"/>
                </a:lnTo>
                <a:close/>
              </a:path>
              <a:path fill="lightenLess" w="29227" h="21600">
                <a:moveTo>
                  <a:pt x="0" y="0"/>
                </a:moveTo>
                <a:lnTo>
                  <a:pt x="29227" y="0"/>
                </a:lnTo>
                <a:lnTo>
                  <a:pt x="27827" y="1400"/>
                </a:lnTo>
                <a:lnTo>
                  <a:pt x="1400" y="1400"/>
                </a:lnTo>
                <a:close/>
              </a:path>
              <a:path fill="darken" w="29227" h="21600">
                <a:moveTo>
                  <a:pt x="29227" y="0"/>
                </a:moveTo>
                <a:lnTo>
                  <a:pt x="29227" y="21600"/>
                </a:lnTo>
                <a:lnTo>
                  <a:pt x="27827" y="20200"/>
                </a:lnTo>
                <a:lnTo>
                  <a:pt x="27827" y="1400"/>
                </a:lnTo>
                <a:close/>
              </a:path>
              <a:path fill="darkenLess" w="29227" h="21600">
                <a:moveTo>
                  <a:pt x="29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7" y="20200"/>
                </a:lnTo>
                <a:close/>
              </a:path>
              <a:path fill="lighten" w="29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7" h="21600">
                <a:moveTo>
                  <a:pt x="7607" y="3794"/>
                </a:moveTo>
                <a:lnTo>
                  <a:pt x="21620" y="10800"/>
                </a:lnTo>
                <a:lnTo>
                  <a:pt x="7607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3" name="Picture 9" descr=""/>
          <p:cNvPicPr/>
          <p:nvPr/>
        </p:nvPicPr>
        <p:blipFill>
          <a:blip r:embed="rId2"/>
          <a:stretch/>
        </p:blipFill>
        <p:spPr>
          <a:xfrm>
            <a:off x="539640" y="1109520"/>
            <a:ext cx="122400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5" name="Rectangle 2"/>
          <p:cNvSpPr/>
          <p:nvPr/>
        </p:nvSpPr>
        <p:spPr>
          <a:xfrm>
            <a:off x="685800" y="981000"/>
            <a:ext cx="7772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rial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6" name="Picture 4" descr=""/>
          <p:cNvPicPr/>
          <p:nvPr/>
        </p:nvPicPr>
        <p:blipFill>
          <a:blip r:embed="rId2"/>
          <a:stretch/>
        </p:blipFill>
        <p:spPr>
          <a:xfrm>
            <a:off x="2771640" y="2781360"/>
            <a:ext cx="1079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4" name="Рисунок 7" descr=""/>
          <p:cNvPicPr/>
          <p:nvPr/>
        </p:nvPicPr>
        <p:blipFill>
          <a:blip r:embed="rId1"/>
          <a:stretch/>
        </p:blipFill>
        <p:spPr>
          <a:xfrm>
            <a:off x="187200" y="1700280"/>
            <a:ext cx="4149720" cy="4608360"/>
          </a:xfrm>
          <a:prstGeom prst="rect">
            <a:avLst/>
          </a:prstGeom>
          <a:ln w="9360">
            <a:solidFill>
              <a:srgbClr val="948a5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3059280" y="-2736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Новые способы оплаты</a:t>
            </a:r>
            <a:br>
              <a:rPr sz="2000"/>
            </a:b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 медицинской помощи в 2014-2016 г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6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2"/>
          <a:stretch/>
        </p:blipFill>
        <p:spPr>
          <a:xfrm>
            <a:off x="611280" y="115920"/>
            <a:ext cx="2448000" cy="706320"/>
          </a:xfrm>
          <a:prstGeom prst="rect">
            <a:avLst/>
          </a:prstGeom>
          <a:ln w="0">
            <a:noFill/>
          </a:ln>
        </p:spPr>
      </p:pic>
      <p:pic>
        <p:nvPicPr>
          <p:cNvPr id="2107" name="Picture 9" descr=""/>
          <p:cNvPicPr/>
          <p:nvPr/>
        </p:nvPicPr>
        <p:blipFill>
          <a:blip r:embed="rId3"/>
          <a:stretch/>
        </p:blipFill>
        <p:spPr>
          <a:xfrm>
            <a:off x="485640" y="907920"/>
            <a:ext cx="1224000" cy="373320"/>
          </a:xfrm>
          <a:prstGeom prst="rect">
            <a:avLst/>
          </a:prstGeom>
          <a:ln w="0">
            <a:noFill/>
          </a:ln>
        </p:spPr>
      </p:pic>
      <p:sp>
        <p:nvSpPr>
          <p:cNvPr id="2108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658360" y="150840"/>
            <a:ext cx="347400" cy="363600"/>
          </a:xfrm>
          <a:custGeom>
            <a:avLst/>
            <a:gdLst>
              <a:gd name="textAreaLeft" fmla="*/ 22320 w 347400"/>
              <a:gd name="textAreaRight" fmla="*/ 325080 w 347400"/>
              <a:gd name="textAreaTop" fmla="*/ 22320 h 363600"/>
              <a:gd name="textAreaBottom" fmla="*/ 341280 h 363600"/>
            </a:gdLst>
            <a:ahLst/>
            <a:rect l="textAreaLeft" t="textAreaTop" r="textAreaRight" b="textAreaBottom"/>
            <a:pathLst>
              <a:path w="21600" h="22606">
                <a:moveTo>
                  <a:pt x="0" y="0"/>
                </a:moveTo>
                <a:lnTo>
                  <a:pt x="21600" y="0"/>
                </a:lnTo>
                <a:lnTo>
                  <a:pt x="21600" y="22606"/>
                </a:lnTo>
                <a:lnTo>
                  <a:pt x="0" y="22606"/>
                </a:lnTo>
                <a:close/>
              </a:path>
              <a:path fill="lightenLess" w="21600" h="22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6">
                <a:moveTo>
                  <a:pt x="21600" y="0"/>
                </a:moveTo>
                <a:lnTo>
                  <a:pt x="21600" y="22606"/>
                </a:lnTo>
                <a:lnTo>
                  <a:pt x="20200" y="21206"/>
                </a:lnTo>
                <a:lnTo>
                  <a:pt x="20200" y="1400"/>
                </a:lnTo>
                <a:close/>
              </a:path>
              <a:path fill="darkenLess" w="21600" h="22606">
                <a:moveTo>
                  <a:pt x="21600" y="22606"/>
                </a:moveTo>
                <a:lnTo>
                  <a:pt x="0" y="22606"/>
                </a:lnTo>
                <a:lnTo>
                  <a:pt x="1400" y="21206"/>
                </a:lnTo>
                <a:lnTo>
                  <a:pt x="20200" y="21206"/>
                </a:lnTo>
                <a:close/>
              </a:path>
              <a:path fill="lighten" w="21600" h="22606">
                <a:moveTo>
                  <a:pt x="0" y="22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6"/>
                </a:lnTo>
                <a:close/>
              </a:path>
              <a:path fill="darken" w="21600" h="22606">
                <a:moveTo>
                  <a:pt x="3794" y="4297"/>
                </a:moveTo>
                <a:lnTo>
                  <a:pt x="17806" y="11303"/>
                </a:lnTo>
                <a:lnTo>
                  <a:pt x="3794" y="1831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Скругленный прямоугольник 3"/>
          <p:cNvSpPr/>
          <p:nvPr/>
        </p:nvSpPr>
        <p:spPr>
          <a:xfrm>
            <a:off x="4521240" y="1657440"/>
            <a:ext cx="4371840" cy="914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Прямоугольник 5"/>
          <p:cNvSpPr/>
          <p:nvPr/>
        </p:nvSpPr>
        <p:spPr>
          <a:xfrm>
            <a:off x="4519440" y="1628640"/>
            <a:ext cx="422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4a2"/>
                </a:solidFill>
                <a:latin typeface="Arial"/>
              </a:rPr>
              <a:t>При реализации территориальной программы обязательного медицинского страхования применяются следующие способы оплаты медицинской помощ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Скругленный прямоугольник 13"/>
          <p:cNvSpPr/>
          <p:nvPr/>
        </p:nvSpPr>
        <p:spPr>
          <a:xfrm>
            <a:off x="4521240" y="2692440"/>
            <a:ext cx="4371840" cy="1160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Скругленный прямоугольник 14"/>
          <p:cNvSpPr/>
          <p:nvPr/>
        </p:nvSpPr>
        <p:spPr>
          <a:xfrm>
            <a:off x="4521240" y="3948120"/>
            <a:ext cx="4371840" cy="1209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Скругленный прямоугольник 15"/>
          <p:cNvSpPr/>
          <p:nvPr/>
        </p:nvSpPr>
        <p:spPr>
          <a:xfrm>
            <a:off x="4521240" y="5257800"/>
            <a:ext cx="4371840" cy="11685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Прямоугольник 6"/>
          <p:cNvSpPr/>
          <p:nvPr/>
        </p:nvSpPr>
        <p:spPr>
          <a:xfrm>
            <a:off x="4537080" y="2781360"/>
            <a:ext cx="421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c0504d"/>
                </a:solidFill>
                <a:latin typeface="Arial"/>
              </a:rPr>
              <a:t> по подушевому нормативу </a:t>
            </a:r>
            <a:r>
              <a:rPr b="0" lang="ru-RU" sz="1400" spc="-1" strike="noStrike">
                <a:solidFill>
                  <a:srgbClr val="4a452a"/>
                </a:solidFill>
                <a:latin typeface="Arial"/>
              </a:rPr>
              <a:t>финансирования на прикрепившихся лиц в сочетании с оплатой за единицу объема за медицинскую помощь, оказанную </a:t>
            </a:r>
            <a:r>
              <a:rPr b="0" lang="ru-RU" sz="1400" spc="-1" strike="noStrike" u="sng">
                <a:solidFill>
                  <a:srgbClr val="c0504d"/>
                </a:solidFill>
                <a:uFillTx/>
                <a:latin typeface="Arial"/>
              </a:rPr>
              <a:t>в амбулаторных условиях</a:t>
            </a:r>
            <a:r>
              <a:rPr b="0" lang="ru-RU" sz="1400" spc="-1" strike="noStrike">
                <a:solidFill>
                  <a:srgbClr val="4a452a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Прямоугольник 9"/>
          <p:cNvSpPr/>
          <p:nvPr/>
        </p:nvSpPr>
        <p:spPr>
          <a:xfrm>
            <a:off x="4537080" y="39164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a452a"/>
                </a:solidFill>
                <a:latin typeface="Arial"/>
              </a:rPr>
              <a:t>-  за законченный случай лечения заболевания, включенного в соответствующую группу заболеваний (в том числе </a:t>
            </a:r>
            <a:r>
              <a:rPr b="0" lang="ru-RU" sz="1400" spc="-1" strike="noStrike">
                <a:solidFill>
                  <a:srgbClr val="c0504d"/>
                </a:solidFill>
                <a:latin typeface="Arial"/>
              </a:rPr>
              <a:t>клинико-статистические группы заболеваний</a:t>
            </a:r>
            <a:r>
              <a:rPr b="0" lang="ru-RU" sz="1400" spc="-1" strike="noStrike">
                <a:solidFill>
                  <a:srgbClr val="4a452a"/>
                </a:solidFill>
                <a:latin typeface="Arial"/>
              </a:rPr>
              <a:t>) за медицинскую помощь, оказанную </a:t>
            </a:r>
            <a:r>
              <a:rPr b="0" lang="ru-RU" sz="1400" spc="-1" strike="noStrike" u="sng">
                <a:solidFill>
                  <a:srgbClr val="c0504d"/>
                </a:solidFill>
                <a:uFillTx/>
                <a:latin typeface="Arial"/>
              </a:rPr>
              <a:t>в стационарных условиях</a:t>
            </a:r>
            <a:r>
              <a:rPr b="0" lang="ru-RU" sz="1400" spc="-1" strike="noStrike">
                <a:solidFill>
                  <a:srgbClr val="4a452a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Прямоугольник 16"/>
          <p:cNvSpPr/>
          <p:nvPr/>
        </p:nvSpPr>
        <p:spPr>
          <a:xfrm>
            <a:off x="4551480" y="525780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a452a"/>
                </a:solidFill>
                <a:latin typeface="Arial"/>
              </a:rPr>
              <a:t>- за законченный случай лечения заболевания, включенного в соответствующую группу заболеваний (в том числе </a:t>
            </a:r>
            <a:r>
              <a:rPr b="0" lang="ru-RU" sz="1400" spc="-1" strike="noStrike">
                <a:solidFill>
                  <a:srgbClr val="c0504d"/>
                </a:solidFill>
                <a:latin typeface="Arial"/>
              </a:rPr>
              <a:t>клинико-статистические группы заболеваний</a:t>
            </a:r>
            <a:r>
              <a:rPr b="0" lang="ru-RU" sz="1400" spc="-1" strike="noStrike">
                <a:solidFill>
                  <a:srgbClr val="4a452a"/>
                </a:solidFill>
                <a:latin typeface="Arial"/>
              </a:rPr>
              <a:t>) за медицинскую помощь, оказанную </a:t>
            </a:r>
            <a:r>
              <a:rPr b="0" lang="ru-RU" sz="1400" spc="-1" strike="noStrike" u="sng">
                <a:solidFill>
                  <a:srgbClr val="c0504d"/>
                </a:solidFill>
                <a:uFillTx/>
                <a:latin typeface="Arial"/>
              </a:rPr>
              <a:t>в условиях дневного стационара</a:t>
            </a:r>
            <a:r>
              <a:rPr b="0" lang="ru-RU" sz="1400" spc="-1" strike="noStrike">
                <a:solidFill>
                  <a:srgbClr val="4a452a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7" name="Picture 35" descr=""/>
          <p:cNvPicPr/>
          <p:nvPr/>
        </p:nvPicPr>
        <p:blipFill>
          <a:blip r:embed="rId1"/>
          <a:stretch/>
        </p:blipFill>
        <p:spPr>
          <a:xfrm>
            <a:off x="3708360" y="907920"/>
            <a:ext cx="1771560" cy="704880"/>
          </a:xfrm>
          <a:prstGeom prst="rect">
            <a:avLst/>
          </a:prstGeom>
          <a:ln w="0">
            <a:noFill/>
          </a:ln>
        </p:spPr>
      </p:pic>
      <p:pic>
        <p:nvPicPr>
          <p:cNvPr id="2118" name="Объект 2" descr=""/>
          <p:cNvPicPr/>
          <p:nvPr/>
        </p:nvPicPr>
        <p:blipFill>
          <a:blip r:embed="rId2"/>
          <a:stretch/>
        </p:blipFill>
        <p:spPr>
          <a:xfrm>
            <a:off x="4011480" y="1519200"/>
            <a:ext cx="1036800" cy="530280"/>
          </a:xfrm>
          <a:prstGeom prst="rect">
            <a:avLst/>
          </a:prstGeom>
          <a:ln w="0">
            <a:noFill/>
          </a:ln>
        </p:spPr>
      </p:pic>
      <p:sp>
        <p:nvSpPr>
          <p:cNvPr id="2119" name="Прямая соединительная линия 46"/>
          <p:cNvSpPr/>
          <p:nvPr/>
        </p:nvSpPr>
        <p:spPr>
          <a:xfrm flipH="1">
            <a:off x="647280" y="5516640"/>
            <a:ext cx="7921800" cy="0"/>
          </a:xfrm>
          <a:prstGeom prst="line">
            <a:avLst/>
          </a:prstGeom>
          <a:ln w="9360">
            <a:solidFill>
              <a:srgbClr val="dc281e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20" name="Прямая со стрелкой 14"/>
          <p:cNvCxnSpPr/>
          <p:nvPr/>
        </p:nvCxnSpPr>
        <p:spPr>
          <a:xfrm flipH="1">
            <a:off x="5219280" y="5373360"/>
            <a:ext cx="1073520" cy="633960"/>
          </a:xfrm>
          <a:prstGeom prst="straightConnector1">
            <a:avLst/>
          </a:prstGeom>
          <a:ln w="9360">
            <a:solidFill>
              <a:srgbClr val="625d5d"/>
            </a:solidFill>
            <a:miter/>
            <a:tailEnd len="med" type="arrow" w="med"/>
          </a:ln>
        </p:spPr>
      </p:cxnSp>
      <p:cxnSp>
        <p:nvCxnSpPr>
          <p:cNvPr id="2121" name="Прямая со стрелкой 11"/>
          <p:cNvCxnSpPr/>
          <p:nvPr/>
        </p:nvCxnSpPr>
        <p:spPr>
          <a:xfrm>
            <a:off x="2878200" y="5300640"/>
            <a:ext cx="1117800" cy="650160"/>
          </a:xfrm>
          <a:prstGeom prst="straightConnector1">
            <a:avLst/>
          </a:prstGeom>
          <a:ln w="9360">
            <a:solidFill>
              <a:srgbClr val="625d5d"/>
            </a:solidFill>
            <a:miter/>
            <a:tailEnd len="med" type="arrow" w="med"/>
          </a:ln>
        </p:spPr>
      </p:cxnSp>
      <p:pic>
        <p:nvPicPr>
          <p:cNvPr id="2122" name="Прямоугольник с одним вырезанным углом 29" descr=""/>
          <p:cNvPicPr/>
          <p:nvPr/>
        </p:nvPicPr>
        <p:blipFill>
          <a:blip r:embed="rId3"/>
          <a:stretch/>
        </p:blipFill>
        <p:spPr>
          <a:xfrm>
            <a:off x="4194000" y="2419200"/>
            <a:ext cx="1163880" cy="1098720"/>
          </a:xfrm>
          <a:prstGeom prst="rect">
            <a:avLst/>
          </a:prstGeom>
          <a:ln w="0">
            <a:noFill/>
          </a:ln>
        </p:spPr>
      </p:pic>
      <p:pic>
        <p:nvPicPr>
          <p:cNvPr id="2123" name="Прямоугольник с одним вырезанным углом 26" descr=""/>
          <p:cNvPicPr/>
          <p:nvPr/>
        </p:nvPicPr>
        <p:blipFill>
          <a:blip r:embed="rId4"/>
          <a:stretch/>
        </p:blipFill>
        <p:spPr>
          <a:xfrm>
            <a:off x="4048200" y="2567160"/>
            <a:ext cx="1163520" cy="1096920"/>
          </a:xfrm>
          <a:prstGeom prst="rect">
            <a:avLst/>
          </a:prstGeom>
          <a:ln w="0">
            <a:noFill/>
          </a:ln>
        </p:spPr>
      </p:pic>
      <p:pic>
        <p:nvPicPr>
          <p:cNvPr id="2124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5"/>
          <a:stretch/>
        </p:blipFill>
        <p:spPr>
          <a:xfrm>
            <a:off x="611280" y="115920"/>
            <a:ext cx="2448000" cy="706320"/>
          </a:xfrm>
          <a:prstGeom prst="rect">
            <a:avLst/>
          </a:prstGeom>
          <a:ln w="0">
            <a:noFill/>
          </a:ln>
        </p:spPr>
      </p:pic>
      <p:sp>
        <p:nvSpPr>
          <p:cNvPr id="2125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658360" y="150840"/>
            <a:ext cx="347400" cy="363600"/>
          </a:xfrm>
          <a:custGeom>
            <a:avLst/>
            <a:gdLst>
              <a:gd name="textAreaLeft" fmla="*/ 22320 w 347400"/>
              <a:gd name="textAreaRight" fmla="*/ 325080 w 347400"/>
              <a:gd name="textAreaTop" fmla="*/ 22320 h 363600"/>
              <a:gd name="textAreaBottom" fmla="*/ 341280 h 363600"/>
            </a:gdLst>
            <a:ahLst/>
            <a:rect l="textAreaLeft" t="textAreaTop" r="textAreaRight" b="textAreaBottom"/>
            <a:pathLst>
              <a:path w="21600" h="22606">
                <a:moveTo>
                  <a:pt x="0" y="0"/>
                </a:moveTo>
                <a:lnTo>
                  <a:pt x="21600" y="0"/>
                </a:lnTo>
                <a:lnTo>
                  <a:pt x="21600" y="22606"/>
                </a:lnTo>
                <a:lnTo>
                  <a:pt x="0" y="22606"/>
                </a:lnTo>
                <a:close/>
              </a:path>
              <a:path fill="lightenLess" w="21600" h="22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6">
                <a:moveTo>
                  <a:pt x="21600" y="0"/>
                </a:moveTo>
                <a:lnTo>
                  <a:pt x="21600" y="22606"/>
                </a:lnTo>
                <a:lnTo>
                  <a:pt x="20200" y="21206"/>
                </a:lnTo>
                <a:lnTo>
                  <a:pt x="20200" y="1400"/>
                </a:lnTo>
                <a:close/>
              </a:path>
              <a:path fill="darkenLess" w="21600" h="22606">
                <a:moveTo>
                  <a:pt x="21600" y="22606"/>
                </a:moveTo>
                <a:lnTo>
                  <a:pt x="0" y="22606"/>
                </a:lnTo>
                <a:lnTo>
                  <a:pt x="1400" y="21206"/>
                </a:lnTo>
                <a:lnTo>
                  <a:pt x="20200" y="21206"/>
                </a:lnTo>
                <a:close/>
              </a:path>
              <a:path fill="lighten" w="21600" h="22606">
                <a:moveTo>
                  <a:pt x="0" y="22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6"/>
                </a:lnTo>
                <a:close/>
              </a:path>
              <a:path fill="darken" w="21600" h="22606">
                <a:moveTo>
                  <a:pt x="3794" y="4297"/>
                </a:moveTo>
                <a:lnTo>
                  <a:pt x="17806" y="11303"/>
                </a:lnTo>
                <a:lnTo>
                  <a:pt x="3794" y="1831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3059280" y="-10044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</a:rPr>
              <a:t>Подушевой способ оплаты </a:t>
            </a:r>
            <a:br>
              <a:rPr sz="2000"/>
            </a:br>
            <a:r>
              <a:rPr b="1" lang="ru-RU" sz="2000" spc="-1" strike="noStrike">
                <a:solidFill>
                  <a:srgbClr val="006eaf"/>
                </a:solidFill>
                <a:latin typeface="Arial"/>
              </a:rPr>
              <a:t>амбулаторно-поликлинической помощ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7" name="Picture 9" descr=""/>
          <p:cNvPicPr/>
          <p:nvPr/>
        </p:nvPicPr>
        <p:blipFill>
          <a:blip r:embed="rId6"/>
          <a:stretch/>
        </p:blipFill>
        <p:spPr>
          <a:xfrm>
            <a:off x="485640" y="907920"/>
            <a:ext cx="1224000" cy="373320"/>
          </a:xfrm>
          <a:prstGeom prst="rect">
            <a:avLst/>
          </a:prstGeom>
          <a:ln w="0">
            <a:noFill/>
          </a:ln>
        </p:spPr>
      </p:pic>
      <p:pic>
        <p:nvPicPr>
          <p:cNvPr id="2128" name="Прямоугольник с одним вырезанным углом 15" descr=""/>
          <p:cNvPicPr/>
          <p:nvPr/>
        </p:nvPicPr>
        <p:blipFill>
          <a:blip r:embed="rId7"/>
          <a:stretch/>
        </p:blipFill>
        <p:spPr>
          <a:xfrm>
            <a:off x="3760920" y="2706840"/>
            <a:ext cx="1304640" cy="1377720"/>
          </a:xfrm>
          <a:prstGeom prst="rect">
            <a:avLst/>
          </a:prstGeom>
          <a:ln w="0">
            <a:noFill/>
          </a:ln>
        </p:spPr>
      </p:pic>
      <p:sp>
        <p:nvSpPr>
          <p:cNvPr id="2129" name="TextBox 4"/>
          <p:cNvSpPr/>
          <p:nvPr/>
        </p:nvSpPr>
        <p:spPr>
          <a:xfrm>
            <a:off x="7859880" y="4141800"/>
            <a:ext cx="132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едицинские организации, оказывающие помощь прикрепленному населени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0" name="Рисунок 3" descr=""/>
          <p:cNvPicPr/>
          <p:nvPr/>
        </p:nvPicPr>
        <p:blipFill>
          <a:blip r:embed="rId8"/>
          <a:stretch/>
        </p:blipFill>
        <p:spPr>
          <a:xfrm>
            <a:off x="6732720" y="4168800"/>
            <a:ext cx="1025280" cy="1006560"/>
          </a:xfrm>
          <a:prstGeom prst="rect">
            <a:avLst/>
          </a:prstGeom>
          <a:ln w="0">
            <a:noFill/>
          </a:ln>
        </p:spPr>
      </p:pic>
      <p:pic>
        <p:nvPicPr>
          <p:cNvPr id="2131" name="Рисунок 24" descr=""/>
          <p:cNvPicPr/>
          <p:nvPr/>
        </p:nvPicPr>
        <p:blipFill>
          <a:blip r:embed="rId9"/>
          <a:stretch/>
        </p:blipFill>
        <p:spPr>
          <a:xfrm>
            <a:off x="1424160" y="3933720"/>
            <a:ext cx="485640" cy="432000"/>
          </a:xfrm>
          <a:prstGeom prst="rect">
            <a:avLst/>
          </a:prstGeom>
          <a:ln w="0">
            <a:noFill/>
          </a:ln>
        </p:spPr>
      </p:pic>
      <p:pic>
        <p:nvPicPr>
          <p:cNvPr id="2132" name="Рисунок 30" descr=""/>
          <p:cNvPicPr/>
          <p:nvPr/>
        </p:nvPicPr>
        <p:blipFill>
          <a:blip r:embed="rId10"/>
          <a:stretch/>
        </p:blipFill>
        <p:spPr>
          <a:xfrm>
            <a:off x="2373480" y="3929040"/>
            <a:ext cx="490320" cy="436680"/>
          </a:xfrm>
          <a:prstGeom prst="rect">
            <a:avLst/>
          </a:prstGeom>
          <a:ln w="0">
            <a:noFill/>
          </a:ln>
        </p:spPr>
      </p:pic>
      <p:sp>
        <p:nvSpPr>
          <p:cNvPr id="2133" name="TextBox 4"/>
          <p:cNvSpPr/>
          <p:nvPr/>
        </p:nvSpPr>
        <p:spPr>
          <a:xfrm>
            <a:off x="2700360" y="6280200"/>
            <a:ext cx="34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едицинские организации, оказывающие консультативную помощ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4" name="Рисунок 3" descr=""/>
          <p:cNvPicPr/>
          <p:nvPr/>
        </p:nvPicPr>
        <p:blipFill>
          <a:blip r:embed="rId11"/>
          <a:stretch/>
        </p:blipFill>
        <p:spPr>
          <a:xfrm>
            <a:off x="4027320" y="5300640"/>
            <a:ext cx="1025640" cy="1006560"/>
          </a:xfrm>
          <a:prstGeom prst="rect">
            <a:avLst/>
          </a:prstGeom>
          <a:ln w="0">
            <a:noFill/>
          </a:ln>
        </p:spPr>
      </p:pic>
      <p:sp>
        <p:nvSpPr>
          <p:cNvPr id="2135" name="Прямая соединительная линия 3"/>
          <p:cNvSpPr/>
          <p:nvPr/>
        </p:nvSpPr>
        <p:spPr>
          <a:xfrm>
            <a:off x="547560" y="2039760"/>
            <a:ext cx="7985160" cy="20880"/>
          </a:xfrm>
          <a:prstGeom prst="line">
            <a:avLst/>
          </a:prstGeom>
          <a:ln w="9360">
            <a:solidFill>
              <a:srgbClr val="dc281e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Прямая соединительная линия 6"/>
          <p:cNvSpPr/>
          <p:nvPr/>
        </p:nvSpPr>
        <p:spPr>
          <a:xfrm flipH="1">
            <a:off x="611280" y="3645000"/>
            <a:ext cx="7921440" cy="0"/>
          </a:xfrm>
          <a:prstGeom prst="line">
            <a:avLst/>
          </a:prstGeom>
          <a:ln w="9360">
            <a:solidFill>
              <a:srgbClr val="dc281e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7" name="Объект 2" descr=""/>
          <p:cNvPicPr/>
          <p:nvPr/>
        </p:nvPicPr>
        <p:blipFill>
          <a:blip r:embed="rId12"/>
          <a:stretch/>
        </p:blipFill>
        <p:spPr>
          <a:xfrm>
            <a:off x="5219640" y="3481560"/>
            <a:ext cx="444600" cy="333360"/>
          </a:xfrm>
          <a:prstGeom prst="rect">
            <a:avLst/>
          </a:prstGeom>
          <a:ln w="0">
            <a:noFill/>
          </a:ln>
        </p:spPr>
      </p:pic>
      <p:pic>
        <p:nvPicPr>
          <p:cNvPr id="2138" name="Объект 2" descr=""/>
          <p:cNvPicPr/>
          <p:nvPr/>
        </p:nvPicPr>
        <p:blipFill>
          <a:blip r:embed="rId13"/>
          <a:stretch/>
        </p:blipFill>
        <p:spPr>
          <a:xfrm>
            <a:off x="3449520" y="3462480"/>
            <a:ext cx="474840" cy="357120"/>
          </a:xfrm>
          <a:prstGeom prst="rect">
            <a:avLst/>
          </a:prstGeom>
          <a:ln w="0">
            <a:noFill/>
          </a:ln>
        </p:spPr>
      </p:pic>
      <p:pic>
        <p:nvPicPr>
          <p:cNvPr id="2139" name="Рисунок 3" descr=""/>
          <p:cNvPicPr/>
          <p:nvPr/>
        </p:nvPicPr>
        <p:blipFill>
          <a:blip r:embed="rId14"/>
          <a:stretch/>
        </p:blipFill>
        <p:spPr>
          <a:xfrm>
            <a:off x="1569960" y="4273560"/>
            <a:ext cx="1025640" cy="1006560"/>
          </a:xfrm>
          <a:prstGeom prst="rect">
            <a:avLst/>
          </a:prstGeom>
          <a:ln w="0">
            <a:noFill/>
          </a:ln>
        </p:spPr>
      </p:pic>
      <p:sp>
        <p:nvSpPr>
          <p:cNvPr id="2140" name="TextBox 4"/>
          <p:cNvSpPr/>
          <p:nvPr/>
        </p:nvSpPr>
        <p:spPr>
          <a:xfrm>
            <a:off x="74520" y="4095720"/>
            <a:ext cx="125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едицинские организации, оказывающие помощь прикрепленному населени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1" name="Рисунок 24" descr=""/>
          <p:cNvPicPr/>
          <p:nvPr/>
        </p:nvPicPr>
        <p:blipFill>
          <a:blip r:embed="rId15"/>
          <a:stretch/>
        </p:blipFill>
        <p:spPr>
          <a:xfrm>
            <a:off x="1889280" y="3789360"/>
            <a:ext cx="484200" cy="431640"/>
          </a:xfrm>
          <a:prstGeom prst="rect">
            <a:avLst/>
          </a:prstGeom>
          <a:ln w="0">
            <a:noFill/>
          </a:ln>
        </p:spPr>
      </p:pic>
      <p:pic>
        <p:nvPicPr>
          <p:cNvPr id="2142" name="Рисунок 24" descr=""/>
          <p:cNvPicPr/>
          <p:nvPr/>
        </p:nvPicPr>
        <p:blipFill>
          <a:blip r:embed="rId16"/>
          <a:stretch/>
        </p:blipFill>
        <p:spPr>
          <a:xfrm>
            <a:off x="1187280" y="4479840"/>
            <a:ext cx="486000" cy="432000"/>
          </a:xfrm>
          <a:prstGeom prst="rect">
            <a:avLst/>
          </a:prstGeom>
          <a:ln w="0">
            <a:noFill/>
          </a:ln>
        </p:spPr>
      </p:pic>
      <p:pic>
        <p:nvPicPr>
          <p:cNvPr id="2143" name="Рисунок 30" descr=""/>
          <p:cNvPicPr/>
          <p:nvPr/>
        </p:nvPicPr>
        <p:blipFill>
          <a:blip r:embed="rId17"/>
          <a:stretch/>
        </p:blipFill>
        <p:spPr>
          <a:xfrm>
            <a:off x="2496960" y="4506840"/>
            <a:ext cx="490680" cy="434880"/>
          </a:xfrm>
          <a:prstGeom prst="rect">
            <a:avLst/>
          </a:prstGeom>
          <a:ln w="0">
            <a:noFill/>
          </a:ln>
        </p:spPr>
      </p:pic>
      <p:pic>
        <p:nvPicPr>
          <p:cNvPr id="2144" name="Рисунок 24" descr=""/>
          <p:cNvPicPr/>
          <p:nvPr/>
        </p:nvPicPr>
        <p:blipFill>
          <a:blip r:embed="rId18"/>
          <a:stretch/>
        </p:blipFill>
        <p:spPr>
          <a:xfrm>
            <a:off x="2379600" y="5084640"/>
            <a:ext cx="484200" cy="432000"/>
          </a:xfrm>
          <a:prstGeom prst="rect">
            <a:avLst/>
          </a:prstGeom>
          <a:ln w="0">
            <a:noFill/>
          </a:ln>
        </p:spPr>
      </p:pic>
      <p:pic>
        <p:nvPicPr>
          <p:cNvPr id="2145" name="Рисунок 24" descr=""/>
          <p:cNvPicPr/>
          <p:nvPr/>
        </p:nvPicPr>
        <p:blipFill>
          <a:blip r:embed="rId19"/>
          <a:stretch/>
        </p:blipFill>
        <p:spPr>
          <a:xfrm>
            <a:off x="1332000" y="5084640"/>
            <a:ext cx="484200" cy="432000"/>
          </a:xfrm>
          <a:prstGeom prst="rect">
            <a:avLst/>
          </a:prstGeom>
          <a:ln w="0">
            <a:noFill/>
          </a:ln>
        </p:spPr>
      </p:pic>
      <p:pic>
        <p:nvPicPr>
          <p:cNvPr id="2146" name="Рисунок 24" descr=""/>
          <p:cNvPicPr/>
          <p:nvPr/>
        </p:nvPicPr>
        <p:blipFill>
          <a:blip r:embed="rId20"/>
          <a:stretch/>
        </p:blipFill>
        <p:spPr>
          <a:xfrm>
            <a:off x="6518160" y="3854520"/>
            <a:ext cx="486000" cy="431640"/>
          </a:xfrm>
          <a:prstGeom prst="rect">
            <a:avLst/>
          </a:prstGeom>
          <a:ln w="0">
            <a:noFill/>
          </a:ln>
        </p:spPr>
      </p:pic>
      <p:pic>
        <p:nvPicPr>
          <p:cNvPr id="2147" name="Рисунок 30" descr=""/>
          <p:cNvPicPr/>
          <p:nvPr/>
        </p:nvPicPr>
        <p:blipFill>
          <a:blip r:embed="rId21"/>
          <a:stretch/>
        </p:blipFill>
        <p:spPr>
          <a:xfrm>
            <a:off x="7505640" y="3857760"/>
            <a:ext cx="490680" cy="434880"/>
          </a:xfrm>
          <a:prstGeom prst="rect">
            <a:avLst/>
          </a:prstGeom>
          <a:ln w="0">
            <a:noFill/>
          </a:ln>
        </p:spPr>
      </p:pic>
      <p:pic>
        <p:nvPicPr>
          <p:cNvPr id="2148" name="Рисунок 24" descr=""/>
          <p:cNvPicPr/>
          <p:nvPr/>
        </p:nvPicPr>
        <p:blipFill>
          <a:blip r:embed="rId22"/>
          <a:stretch/>
        </p:blipFill>
        <p:spPr>
          <a:xfrm>
            <a:off x="6983280" y="3747960"/>
            <a:ext cx="484200" cy="432000"/>
          </a:xfrm>
          <a:prstGeom prst="rect">
            <a:avLst/>
          </a:prstGeom>
          <a:ln w="0">
            <a:noFill/>
          </a:ln>
        </p:spPr>
      </p:pic>
      <p:pic>
        <p:nvPicPr>
          <p:cNvPr id="2149" name="Рисунок 24" descr=""/>
          <p:cNvPicPr/>
          <p:nvPr/>
        </p:nvPicPr>
        <p:blipFill>
          <a:blip r:embed="rId23"/>
          <a:stretch/>
        </p:blipFill>
        <p:spPr>
          <a:xfrm>
            <a:off x="6300720" y="4422600"/>
            <a:ext cx="486000" cy="432000"/>
          </a:xfrm>
          <a:prstGeom prst="rect">
            <a:avLst/>
          </a:prstGeom>
          <a:ln w="0">
            <a:noFill/>
          </a:ln>
        </p:spPr>
      </p:pic>
      <p:pic>
        <p:nvPicPr>
          <p:cNvPr id="2150" name="Рисунок 30" descr=""/>
          <p:cNvPicPr/>
          <p:nvPr/>
        </p:nvPicPr>
        <p:blipFill>
          <a:blip r:embed="rId24"/>
          <a:stretch/>
        </p:blipFill>
        <p:spPr>
          <a:xfrm>
            <a:off x="7650000" y="4417920"/>
            <a:ext cx="490680" cy="436680"/>
          </a:xfrm>
          <a:prstGeom prst="rect">
            <a:avLst/>
          </a:prstGeom>
          <a:ln w="0">
            <a:noFill/>
          </a:ln>
        </p:spPr>
      </p:pic>
      <p:pic>
        <p:nvPicPr>
          <p:cNvPr id="2151" name="Рисунок 24" descr=""/>
          <p:cNvPicPr/>
          <p:nvPr/>
        </p:nvPicPr>
        <p:blipFill>
          <a:blip r:embed="rId25"/>
          <a:stretch/>
        </p:blipFill>
        <p:spPr>
          <a:xfrm>
            <a:off x="7473960" y="5027760"/>
            <a:ext cx="484200" cy="431640"/>
          </a:xfrm>
          <a:prstGeom prst="rect">
            <a:avLst/>
          </a:prstGeom>
          <a:ln w="0">
            <a:noFill/>
          </a:ln>
        </p:spPr>
      </p:pic>
      <p:pic>
        <p:nvPicPr>
          <p:cNvPr id="2152" name="Рисунок 24" descr=""/>
          <p:cNvPicPr/>
          <p:nvPr/>
        </p:nvPicPr>
        <p:blipFill>
          <a:blip r:embed="rId26"/>
          <a:stretch/>
        </p:blipFill>
        <p:spPr>
          <a:xfrm>
            <a:off x="6481800" y="5027760"/>
            <a:ext cx="484200" cy="431640"/>
          </a:xfrm>
          <a:prstGeom prst="rect">
            <a:avLst/>
          </a:prstGeom>
          <a:ln w="0">
            <a:noFill/>
          </a:ln>
        </p:spPr>
      </p:pic>
      <p:sp>
        <p:nvSpPr>
          <p:cNvPr id="2153" name="Стрелка вниз 8"/>
          <p:cNvSpPr/>
          <p:nvPr/>
        </p:nvSpPr>
        <p:spPr>
          <a:xfrm>
            <a:off x="4356000" y="2055960"/>
            <a:ext cx="347760" cy="3650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ffff"/>
          </a:solidFill>
          <a:ln w="25560">
            <a:solidFill>
              <a:srgbClr val="00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Стрелка вниз 56"/>
          <p:cNvSpPr/>
          <p:nvPr/>
        </p:nvSpPr>
        <p:spPr>
          <a:xfrm rot="2260200">
            <a:off x="3063600" y="3878280"/>
            <a:ext cx="347400" cy="8539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ffff"/>
          </a:solidFill>
          <a:ln w="25560">
            <a:solidFill>
              <a:srgbClr val="00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Стрелка вниз 57"/>
          <p:cNvSpPr/>
          <p:nvPr/>
        </p:nvSpPr>
        <p:spPr>
          <a:xfrm rot="19131600">
            <a:off x="5830560" y="3865680"/>
            <a:ext cx="347760" cy="89208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ff"/>
          </a:solidFill>
          <a:ln w="25560">
            <a:solidFill>
              <a:srgbClr val="00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6" name="Рисунок 30" descr=""/>
          <p:cNvPicPr/>
          <p:nvPr/>
        </p:nvPicPr>
        <p:blipFill>
          <a:blip r:embed="rId27"/>
          <a:stretch/>
        </p:blipFill>
        <p:spPr>
          <a:xfrm>
            <a:off x="3144960" y="5300640"/>
            <a:ext cx="490320" cy="436680"/>
          </a:xfrm>
          <a:prstGeom prst="rect">
            <a:avLst/>
          </a:prstGeom>
          <a:ln w="0">
            <a:noFill/>
          </a:ln>
        </p:spPr>
      </p:pic>
      <p:pic>
        <p:nvPicPr>
          <p:cNvPr id="2157" name="Рисунок 30" descr=""/>
          <p:cNvPicPr/>
          <p:nvPr/>
        </p:nvPicPr>
        <p:blipFill>
          <a:blip r:embed="rId28"/>
          <a:stretch/>
        </p:blipFill>
        <p:spPr>
          <a:xfrm>
            <a:off x="5651640" y="5300640"/>
            <a:ext cx="490320" cy="436680"/>
          </a:xfrm>
          <a:prstGeom prst="rect">
            <a:avLst/>
          </a:prstGeom>
          <a:ln w="0">
            <a:noFill/>
          </a:ln>
        </p:spPr>
      </p:pic>
      <p:pic>
        <p:nvPicPr>
          <p:cNvPr id="2158" name="Объект 2" descr=""/>
          <p:cNvPicPr/>
          <p:nvPr/>
        </p:nvPicPr>
        <p:blipFill>
          <a:blip r:embed="rId29"/>
          <a:stretch/>
        </p:blipFill>
        <p:spPr>
          <a:xfrm>
            <a:off x="4362480" y="3479760"/>
            <a:ext cx="425520" cy="318960"/>
          </a:xfrm>
          <a:prstGeom prst="rect">
            <a:avLst/>
          </a:prstGeom>
          <a:ln w="0">
            <a:noFill/>
          </a:ln>
        </p:spPr>
      </p:pic>
      <p:sp>
        <p:nvSpPr>
          <p:cNvPr id="2159" name="Стрелка вниз 1"/>
          <p:cNvSpPr/>
          <p:nvPr/>
        </p:nvSpPr>
        <p:spPr>
          <a:xfrm>
            <a:off x="4414680" y="4695840"/>
            <a:ext cx="289080" cy="388800"/>
          </a:xfrm>
          <a:prstGeom prst="downArrow">
            <a:avLst>
              <a:gd name="adj1" fmla="val 50000"/>
              <a:gd name="adj2" fmla="val 49956"/>
            </a:avLst>
          </a:prstGeom>
          <a:solidFill>
            <a:srgbClr val="ffffff"/>
          </a:solidFill>
          <a:ln w="25560">
            <a:solidFill>
              <a:srgbClr val="00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Прямоугольник 2"/>
          <p:cNvSpPr/>
          <p:nvPr/>
        </p:nvSpPr>
        <p:spPr>
          <a:xfrm>
            <a:off x="4495680" y="4357800"/>
            <a:ext cx="135000" cy="23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Прямоугольник 45"/>
          <p:cNvSpPr/>
          <p:nvPr/>
        </p:nvSpPr>
        <p:spPr>
          <a:xfrm>
            <a:off x="4503600" y="4035600"/>
            <a:ext cx="136800" cy="23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2" name="Picture 48" descr=""/>
          <p:cNvPicPr/>
          <p:nvPr/>
        </p:nvPicPr>
        <p:blipFill>
          <a:blip r:embed="rId30"/>
          <a:stretch/>
        </p:blipFill>
        <p:spPr>
          <a:xfrm>
            <a:off x="2023920" y="3560760"/>
            <a:ext cx="211320" cy="209520"/>
          </a:xfrm>
          <a:prstGeom prst="rect">
            <a:avLst/>
          </a:prstGeom>
          <a:ln w="0">
            <a:noFill/>
          </a:ln>
        </p:spPr>
      </p:pic>
      <p:pic>
        <p:nvPicPr>
          <p:cNvPr id="2163" name="Picture 48" descr=""/>
          <p:cNvPicPr/>
          <p:nvPr/>
        </p:nvPicPr>
        <p:blipFill>
          <a:blip r:embed="rId31"/>
          <a:stretch/>
        </p:blipFill>
        <p:spPr>
          <a:xfrm>
            <a:off x="2516040" y="3665520"/>
            <a:ext cx="209520" cy="211320"/>
          </a:xfrm>
          <a:prstGeom prst="rect">
            <a:avLst/>
          </a:prstGeom>
          <a:ln w="0">
            <a:noFill/>
          </a:ln>
        </p:spPr>
      </p:pic>
      <p:pic>
        <p:nvPicPr>
          <p:cNvPr id="2164" name="Picture 48" descr=""/>
          <p:cNvPicPr/>
          <p:nvPr/>
        </p:nvPicPr>
        <p:blipFill>
          <a:blip r:embed="rId32"/>
          <a:stretch/>
        </p:blipFill>
        <p:spPr>
          <a:xfrm>
            <a:off x="2657520" y="425304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48" descr=""/>
          <p:cNvPicPr/>
          <p:nvPr/>
        </p:nvPicPr>
        <p:blipFill>
          <a:blip r:embed="rId33"/>
          <a:stretch/>
        </p:blipFill>
        <p:spPr>
          <a:xfrm>
            <a:off x="2562120" y="486900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2166" name="Picture 48" descr=""/>
          <p:cNvPicPr/>
          <p:nvPr/>
        </p:nvPicPr>
        <p:blipFill>
          <a:blip r:embed="rId34"/>
          <a:stretch/>
        </p:blipFill>
        <p:spPr>
          <a:xfrm>
            <a:off x="1562040" y="366084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2167" name="Picture 48" descr=""/>
          <p:cNvPicPr/>
          <p:nvPr/>
        </p:nvPicPr>
        <p:blipFill>
          <a:blip r:embed="rId35"/>
          <a:stretch/>
        </p:blipFill>
        <p:spPr>
          <a:xfrm>
            <a:off x="1325520" y="420048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2168" name="Picture 48" descr=""/>
          <p:cNvPicPr/>
          <p:nvPr/>
        </p:nvPicPr>
        <p:blipFill>
          <a:blip r:embed="rId36"/>
          <a:stretch/>
        </p:blipFill>
        <p:spPr>
          <a:xfrm>
            <a:off x="1397160" y="486900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2169" name="Picture 48" descr=""/>
          <p:cNvPicPr/>
          <p:nvPr/>
        </p:nvPicPr>
        <p:blipFill>
          <a:blip r:embed="rId37"/>
          <a:stretch/>
        </p:blipFill>
        <p:spPr>
          <a:xfrm>
            <a:off x="3281400" y="5032440"/>
            <a:ext cx="210960" cy="209520"/>
          </a:xfrm>
          <a:prstGeom prst="rect">
            <a:avLst/>
          </a:prstGeom>
          <a:ln w="0">
            <a:noFill/>
          </a:ln>
        </p:spPr>
      </p:pic>
      <p:pic>
        <p:nvPicPr>
          <p:cNvPr id="2170" name="Picture 48" descr=""/>
          <p:cNvPicPr/>
          <p:nvPr/>
        </p:nvPicPr>
        <p:blipFill>
          <a:blip r:embed="rId38"/>
          <a:stretch/>
        </p:blipFill>
        <p:spPr>
          <a:xfrm>
            <a:off x="5792760" y="503388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2171" name="Picture 48" descr=""/>
          <p:cNvPicPr/>
          <p:nvPr/>
        </p:nvPicPr>
        <p:blipFill>
          <a:blip r:embed="rId39"/>
          <a:stretch/>
        </p:blipFill>
        <p:spPr>
          <a:xfrm>
            <a:off x="6635880" y="358776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2172" name="Picture 48" descr=""/>
          <p:cNvPicPr/>
          <p:nvPr/>
        </p:nvPicPr>
        <p:blipFill>
          <a:blip r:embed="rId40"/>
          <a:stretch/>
        </p:blipFill>
        <p:spPr>
          <a:xfrm>
            <a:off x="6505560" y="48229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2173" name="Picture 48" descr=""/>
          <p:cNvPicPr/>
          <p:nvPr/>
        </p:nvPicPr>
        <p:blipFill>
          <a:blip r:embed="rId41"/>
          <a:stretch/>
        </p:blipFill>
        <p:spPr>
          <a:xfrm>
            <a:off x="7728120" y="481824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2174" name="Picture 48" descr=""/>
          <p:cNvPicPr/>
          <p:nvPr/>
        </p:nvPicPr>
        <p:blipFill>
          <a:blip r:embed="rId42"/>
          <a:stretch/>
        </p:blipFill>
        <p:spPr>
          <a:xfrm>
            <a:off x="6423120" y="4154400"/>
            <a:ext cx="209520" cy="211320"/>
          </a:xfrm>
          <a:prstGeom prst="rect">
            <a:avLst/>
          </a:prstGeom>
          <a:ln w="0">
            <a:noFill/>
          </a:ln>
        </p:spPr>
      </p:pic>
      <p:pic>
        <p:nvPicPr>
          <p:cNvPr id="2175" name="Picture 48" descr=""/>
          <p:cNvPicPr/>
          <p:nvPr/>
        </p:nvPicPr>
        <p:blipFill>
          <a:blip r:embed="rId43"/>
          <a:stretch/>
        </p:blipFill>
        <p:spPr>
          <a:xfrm>
            <a:off x="7145280" y="3506760"/>
            <a:ext cx="211320" cy="209520"/>
          </a:xfrm>
          <a:prstGeom prst="rect">
            <a:avLst/>
          </a:prstGeom>
          <a:ln w="0">
            <a:noFill/>
          </a:ln>
        </p:spPr>
      </p:pic>
      <p:pic>
        <p:nvPicPr>
          <p:cNvPr id="2176" name="Picture 48" descr=""/>
          <p:cNvPicPr/>
          <p:nvPr/>
        </p:nvPicPr>
        <p:blipFill>
          <a:blip r:embed="rId44"/>
          <a:stretch/>
        </p:blipFill>
        <p:spPr>
          <a:xfrm>
            <a:off x="7653240" y="358776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2177" name="Picture 48" descr=""/>
          <p:cNvPicPr/>
          <p:nvPr/>
        </p:nvPicPr>
        <p:blipFill>
          <a:blip r:embed="rId45"/>
          <a:stretch/>
        </p:blipFill>
        <p:spPr>
          <a:xfrm>
            <a:off x="7794720" y="4168800"/>
            <a:ext cx="209520" cy="2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8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611280" y="333360"/>
            <a:ext cx="2448000" cy="706320"/>
          </a:xfrm>
          <a:prstGeom prst="rect">
            <a:avLst/>
          </a:prstGeom>
          <a:ln w="0">
            <a:noFill/>
          </a:ln>
        </p:spPr>
      </p:pic>
      <p:sp>
        <p:nvSpPr>
          <p:cNvPr id="217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607600" y="150840"/>
            <a:ext cx="492120" cy="363600"/>
          </a:xfrm>
          <a:custGeom>
            <a:avLst/>
            <a:gdLst>
              <a:gd name="textAreaLeft" fmla="*/ 23400 w 492120"/>
              <a:gd name="textAreaRight" fmla="*/ 468720 w 49212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9227" h="21600">
                <a:moveTo>
                  <a:pt x="0" y="0"/>
                </a:moveTo>
                <a:lnTo>
                  <a:pt x="29227" y="0"/>
                </a:lnTo>
                <a:lnTo>
                  <a:pt x="29227" y="21600"/>
                </a:lnTo>
                <a:lnTo>
                  <a:pt x="0" y="21600"/>
                </a:lnTo>
                <a:close/>
              </a:path>
              <a:path fill="lightenLess" w="29227" h="21600">
                <a:moveTo>
                  <a:pt x="0" y="0"/>
                </a:moveTo>
                <a:lnTo>
                  <a:pt x="29227" y="0"/>
                </a:lnTo>
                <a:lnTo>
                  <a:pt x="27827" y="1400"/>
                </a:lnTo>
                <a:lnTo>
                  <a:pt x="1400" y="1400"/>
                </a:lnTo>
                <a:close/>
              </a:path>
              <a:path fill="darken" w="29227" h="21600">
                <a:moveTo>
                  <a:pt x="29227" y="0"/>
                </a:moveTo>
                <a:lnTo>
                  <a:pt x="29227" y="21600"/>
                </a:lnTo>
                <a:lnTo>
                  <a:pt x="27827" y="20200"/>
                </a:lnTo>
                <a:lnTo>
                  <a:pt x="27827" y="1400"/>
                </a:lnTo>
                <a:close/>
              </a:path>
              <a:path fill="darkenLess" w="29227" h="21600">
                <a:moveTo>
                  <a:pt x="29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7" y="20200"/>
                </a:lnTo>
                <a:close/>
              </a:path>
              <a:path fill="lighten" w="29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7" h="21600">
                <a:moveTo>
                  <a:pt x="7607" y="3794"/>
                </a:moveTo>
                <a:lnTo>
                  <a:pt x="21620" y="10800"/>
                </a:lnTo>
                <a:lnTo>
                  <a:pt x="7607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0" name="Picture 9" descr=""/>
          <p:cNvPicPr/>
          <p:nvPr/>
        </p:nvPicPr>
        <p:blipFill>
          <a:blip r:embed="rId2"/>
          <a:stretch/>
        </p:blipFill>
        <p:spPr>
          <a:xfrm>
            <a:off x="539640" y="1109520"/>
            <a:ext cx="1224000" cy="374760"/>
          </a:xfrm>
          <a:prstGeom prst="rect">
            <a:avLst/>
          </a:prstGeom>
          <a:ln w="0">
            <a:noFill/>
          </a:ln>
        </p:spPr>
      </p:pic>
      <p:sp>
        <p:nvSpPr>
          <p:cNvPr id="2181" name="Прямоугольник 1"/>
          <p:cNvSpPr/>
          <p:nvPr/>
        </p:nvSpPr>
        <p:spPr>
          <a:xfrm>
            <a:off x="3203640" y="333360"/>
            <a:ext cx="55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</a:rPr>
              <a:t>Сведения о прикреплении</a:t>
            </a:r>
            <a:r>
              <a:rPr b="1" lang="en-US" sz="2000" spc="-1" strike="noStrike">
                <a:solidFill>
                  <a:srgbClr val="006ea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eaf"/>
                </a:solidFill>
                <a:latin typeface="Arial"/>
              </a:rPr>
              <a:t>к МО застрахованных по ОМС жителей Свердловской обла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eaf"/>
                </a:solidFill>
                <a:latin typeface="Arial"/>
              </a:rPr>
              <a:t>(по состоянию на 16.12.2013 г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82" name=""/>
          <p:cNvGraphicFramePr/>
          <p:nvPr/>
        </p:nvGraphicFramePr>
        <p:xfrm>
          <a:off x="539640" y="2058840"/>
          <a:ext cx="7993080" cy="3530880"/>
        </p:xfrm>
        <a:graphic>
          <a:graphicData uri="http://schemas.openxmlformats.org/drawingml/2006/table">
            <a:tbl>
              <a:tblPr/>
              <a:tblGrid>
                <a:gridCol w="2232000"/>
                <a:gridCol w="2089440"/>
                <a:gridCol w="2087280"/>
                <a:gridCol w="1584360"/>
              </a:tblGrid>
              <a:tr h="100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ческий окр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страхованны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рикрепленных застрахованны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прикре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</a:tr>
              <a:tr h="363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7 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1 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нозаводс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8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1 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8 7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4 9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9 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то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 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 4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 окру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91 5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23 8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53 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06 4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Заголовок 6"/>
          <p:cNvSpPr/>
          <p:nvPr/>
        </p:nvSpPr>
        <p:spPr>
          <a:xfrm>
            <a:off x="2556000" y="92160"/>
            <a:ext cx="658800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</a:rPr>
              <a:t>Модель подушевого финанс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4" name="Диаграмма 4" descr=""/>
          <p:cNvPicPr/>
          <p:nvPr/>
        </p:nvPicPr>
        <p:blipFill>
          <a:blip r:embed="rId1"/>
          <a:stretch/>
        </p:blipFill>
        <p:spPr>
          <a:xfrm>
            <a:off x="1281240" y="1146240"/>
            <a:ext cx="6197400" cy="3125880"/>
          </a:xfrm>
          <a:prstGeom prst="rect">
            <a:avLst/>
          </a:prstGeom>
          <a:ln w="0">
            <a:noFill/>
          </a:ln>
        </p:spPr>
      </p:pic>
      <p:sp>
        <p:nvSpPr>
          <p:cNvPr id="2185" name="Скругленная прямоугольная выноска 5"/>
          <p:cNvSpPr/>
          <p:nvPr/>
        </p:nvSpPr>
        <p:spPr>
          <a:xfrm>
            <a:off x="108000" y="1814400"/>
            <a:ext cx="2448000" cy="1038240"/>
          </a:xfrm>
          <a:prstGeom prst="wedgeRoundRectCallout">
            <a:avLst>
              <a:gd name="adj1" fmla="val 72893"/>
              <a:gd name="adj2" fmla="val -1750"/>
              <a:gd name="adj3" fmla="val 16667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ая часть (гарантированна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Скругленная прямоугольная выноска 6"/>
          <p:cNvSpPr/>
          <p:nvPr/>
        </p:nvSpPr>
        <p:spPr>
          <a:xfrm>
            <a:off x="6732720" y="1700280"/>
            <a:ext cx="2232000" cy="1008000"/>
          </a:xfrm>
          <a:prstGeom prst="wedgeRoundRectCallout">
            <a:avLst>
              <a:gd name="adj1" fmla="val -74689"/>
              <a:gd name="adj2" fmla="val -2694"/>
              <a:gd name="adj3" fmla="val 16667"/>
            </a:avLst>
          </a:prstGeom>
          <a:solidFill>
            <a:srgbClr val="ffffff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имулирующая ча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7" name="Стрелка вниз 7"/>
          <p:cNvGrpSpPr/>
          <p:nvPr/>
        </p:nvGrpSpPr>
        <p:grpSpPr>
          <a:xfrm>
            <a:off x="695160" y="2889360"/>
            <a:ext cx="621000" cy="1189080"/>
            <a:chOff x="695160" y="2889360"/>
            <a:chExt cx="621000" cy="1189080"/>
          </a:xfrm>
        </p:grpSpPr>
        <p:pic>
          <p:nvPicPr>
            <p:cNvPr id="2188" name="Стрелка вниз 7" descr=""/>
            <p:cNvPicPr/>
            <p:nvPr/>
          </p:nvPicPr>
          <p:blipFill>
            <a:blip r:embed="rId2"/>
            <a:stretch/>
          </p:blipFill>
          <p:spPr>
            <a:xfrm>
              <a:off x="695160" y="2889360"/>
              <a:ext cx="6210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9" name=""/>
            <p:cNvSpPr/>
            <p:nvPr/>
          </p:nvSpPr>
          <p:spPr>
            <a:xfrm>
              <a:off x="880920" y="2924280"/>
              <a:ext cx="25272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0" name="Стрелка вниз 9"/>
          <p:cNvGrpSpPr/>
          <p:nvPr/>
        </p:nvGrpSpPr>
        <p:grpSpPr>
          <a:xfrm>
            <a:off x="7534440" y="2816280"/>
            <a:ext cx="622080" cy="1262160"/>
            <a:chOff x="7534440" y="2816280"/>
            <a:chExt cx="622080" cy="1262160"/>
          </a:xfrm>
        </p:grpSpPr>
        <p:pic>
          <p:nvPicPr>
            <p:cNvPr id="2191" name="Стрелка вниз 9" descr=""/>
            <p:cNvPicPr/>
            <p:nvPr/>
          </p:nvPicPr>
          <p:blipFill>
            <a:blip r:embed="rId3"/>
            <a:stretch/>
          </p:blipFill>
          <p:spPr>
            <a:xfrm>
              <a:off x="7534440" y="2816280"/>
              <a:ext cx="6220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2" name=""/>
            <p:cNvSpPr/>
            <p:nvPr/>
          </p:nvSpPr>
          <p:spPr>
            <a:xfrm>
              <a:off x="7721640" y="2852640"/>
              <a:ext cx="25236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3" name="Скругленный прямоугольник 10"/>
          <p:cNvSpPr/>
          <p:nvPr/>
        </p:nvSpPr>
        <p:spPr>
          <a:xfrm>
            <a:off x="179280" y="4076640"/>
            <a:ext cx="2737080" cy="2448000"/>
          </a:xfrm>
          <a:prstGeom prst="roundRect">
            <a:avLst>
              <a:gd name="adj" fmla="val 13106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ая составляющ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т от количества,  состава прикрепленного населения и других объективных факторов (подушевое финансирова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Скругленный прямоугольник 11"/>
          <p:cNvSpPr/>
          <p:nvPr/>
        </p:nvSpPr>
        <p:spPr>
          <a:xfrm>
            <a:off x="6372360" y="4149720"/>
            <a:ext cx="2592360" cy="1727280"/>
          </a:xfrm>
          <a:prstGeom prst="roundRect">
            <a:avLst>
              <a:gd name="adj" fmla="val 13106"/>
            </a:avLst>
          </a:prstGeom>
          <a:solidFill>
            <a:srgbClr val="ffffff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имулирующая составляющ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т от показателей  результативн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5" name="Скругленный прямоугольник 12"/>
          <p:cNvGrpSpPr/>
          <p:nvPr/>
        </p:nvGrpSpPr>
        <p:grpSpPr>
          <a:xfrm>
            <a:off x="3571920" y="4400640"/>
            <a:ext cx="2133720" cy="1476360"/>
            <a:chOff x="3571920" y="4400640"/>
            <a:chExt cx="2133720" cy="1476360"/>
          </a:xfrm>
        </p:grpSpPr>
        <p:pic>
          <p:nvPicPr>
            <p:cNvPr id="2196" name="Скругленный 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571920" y="4400640"/>
              <a:ext cx="21337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7" name=""/>
            <p:cNvSpPr/>
            <p:nvPr/>
          </p:nvSpPr>
          <p:spPr>
            <a:xfrm>
              <a:off x="3701880" y="4503600"/>
              <a:ext cx="188280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Бюджет МО АПП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8" name="Стрелка вправо 13"/>
          <p:cNvGrpSpPr/>
          <p:nvPr/>
        </p:nvGrpSpPr>
        <p:grpSpPr>
          <a:xfrm>
            <a:off x="2925720" y="4834080"/>
            <a:ext cx="695520" cy="542880"/>
            <a:chOff x="2925720" y="4834080"/>
            <a:chExt cx="695520" cy="542880"/>
          </a:xfrm>
        </p:grpSpPr>
        <p:pic>
          <p:nvPicPr>
            <p:cNvPr id="2199" name="Стрелка вправо 13" descr=""/>
            <p:cNvPicPr/>
            <p:nvPr/>
          </p:nvPicPr>
          <p:blipFill>
            <a:blip r:embed="rId5"/>
            <a:stretch/>
          </p:blipFill>
          <p:spPr>
            <a:xfrm>
              <a:off x="2925720" y="4834080"/>
              <a:ext cx="6955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0" name=""/>
            <p:cNvSpPr/>
            <p:nvPr/>
          </p:nvSpPr>
          <p:spPr>
            <a:xfrm>
              <a:off x="2987640" y="4976640"/>
              <a:ext cx="468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1" name="Стрелка вправо 14"/>
          <p:cNvGrpSpPr/>
          <p:nvPr/>
        </p:nvGrpSpPr>
        <p:grpSpPr>
          <a:xfrm>
            <a:off x="5662440" y="4834080"/>
            <a:ext cx="689040" cy="542880"/>
            <a:chOff x="5662440" y="4834080"/>
            <a:chExt cx="689040" cy="542880"/>
          </a:xfrm>
        </p:grpSpPr>
        <p:pic>
          <p:nvPicPr>
            <p:cNvPr id="2202" name="Стрелка вправо 14" descr=""/>
            <p:cNvPicPr/>
            <p:nvPr/>
          </p:nvPicPr>
          <p:blipFill>
            <a:blip r:embed="rId6"/>
            <a:stretch/>
          </p:blipFill>
          <p:spPr>
            <a:xfrm>
              <a:off x="5662440" y="4834080"/>
              <a:ext cx="6890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3" name=""/>
            <p:cNvSpPr/>
            <p:nvPr/>
          </p:nvSpPr>
          <p:spPr>
            <a:xfrm rot="10800000">
              <a:off x="5832000" y="4976640"/>
              <a:ext cx="468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04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7"/>
          <a:stretch/>
        </p:blipFill>
        <p:spPr>
          <a:xfrm>
            <a:off x="298440" y="150840"/>
            <a:ext cx="2328840" cy="673200"/>
          </a:xfrm>
          <a:prstGeom prst="rect">
            <a:avLst/>
          </a:prstGeom>
          <a:ln w="0">
            <a:noFill/>
          </a:ln>
        </p:spPr>
      </p:pic>
      <p:pic>
        <p:nvPicPr>
          <p:cNvPr id="2205" name="Picture 9" descr=""/>
          <p:cNvPicPr/>
          <p:nvPr/>
        </p:nvPicPr>
        <p:blipFill>
          <a:blip r:embed="rId8"/>
          <a:stretch/>
        </p:blipFill>
        <p:spPr>
          <a:xfrm>
            <a:off x="338040" y="824040"/>
            <a:ext cx="1224000" cy="372960"/>
          </a:xfrm>
          <a:prstGeom prst="rect">
            <a:avLst/>
          </a:prstGeom>
          <a:ln w="0">
            <a:noFill/>
          </a:ln>
        </p:spPr>
      </p:pic>
      <p:sp>
        <p:nvSpPr>
          <p:cNvPr id="2206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532720" y="150840"/>
            <a:ext cx="473040" cy="363600"/>
          </a:xfrm>
          <a:custGeom>
            <a:avLst/>
            <a:gdLst>
              <a:gd name="textAreaLeft" fmla="*/ 23400 w 473040"/>
              <a:gd name="textAreaRight" fmla="*/ 449640 w 47304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8095" h="21600">
                <a:moveTo>
                  <a:pt x="0" y="0"/>
                </a:moveTo>
                <a:lnTo>
                  <a:pt x="28095" y="0"/>
                </a:lnTo>
                <a:lnTo>
                  <a:pt x="28095" y="21600"/>
                </a:lnTo>
                <a:lnTo>
                  <a:pt x="0" y="21600"/>
                </a:lnTo>
                <a:close/>
              </a:path>
              <a:path fill="lightenLess" w="28095" h="21600">
                <a:moveTo>
                  <a:pt x="0" y="0"/>
                </a:moveTo>
                <a:lnTo>
                  <a:pt x="28095" y="0"/>
                </a:lnTo>
                <a:lnTo>
                  <a:pt x="26695" y="1400"/>
                </a:lnTo>
                <a:lnTo>
                  <a:pt x="1400" y="1400"/>
                </a:lnTo>
                <a:close/>
              </a:path>
              <a:path fill="darken" w="28095" h="21600">
                <a:moveTo>
                  <a:pt x="28095" y="0"/>
                </a:moveTo>
                <a:lnTo>
                  <a:pt x="28095" y="21600"/>
                </a:lnTo>
                <a:lnTo>
                  <a:pt x="26695" y="20200"/>
                </a:lnTo>
                <a:lnTo>
                  <a:pt x="26695" y="1400"/>
                </a:lnTo>
                <a:close/>
              </a:path>
              <a:path fill="darkenLess" w="28095" h="21600">
                <a:moveTo>
                  <a:pt x="28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95" y="20200"/>
                </a:lnTo>
                <a:close/>
              </a:path>
              <a:path fill="lighten" w="28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95" h="21600">
                <a:moveTo>
                  <a:pt x="7041" y="3794"/>
                </a:moveTo>
                <a:lnTo>
                  <a:pt x="21054" y="10800"/>
                </a:lnTo>
                <a:lnTo>
                  <a:pt x="7041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Содержимое 2"/>
          <p:cNvSpPr/>
          <p:nvPr/>
        </p:nvSpPr>
        <p:spPr>
          <a:xfrm>
            <a:off x="250920" y="3716280"/>
            <a:ext cx="878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душевой норматив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единый для всех медицинских организаций-фондодержателей в месяц на 1 прикрепившего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Oval 12"/>
          <p:cNvSpPr/>
          <p:nvPr/>
        </p:nvSpPr>
        <p:spPr>
          <a:xfrm>
            <a:off x="6804000" y="1279440"/>
            <a:ext cx="2144880" cy="2078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Text Box 13"/>
          <p:cNvSpPr/>
          <p:nvPr/>
        </p:nvSpPr>
        <p:spPr>
          <a:xfrm>
            <a:off x="6813720" y="1971720"/>
            <a:ext cx="207936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ъем финансирования МО (Базовая часть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Oval 15"/>
          <p:cNvSpPr/>
          <p:nvPr/>
        </p:nvSpPr>
        <p:spPr>
          <a:xfrm>
            <a:off x="260280" y="1587600"/>
            <a:ext cx="1627200" cy="15843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Text Box 16"/>
          <p:cNvSpPr/>
          <p:nvPr/>
        </p:nvSpPr>
        <p:spPr>
          <a:xfrm>
            <a:off x="287280" y="2057400"/>
            <a:ext cx="1548000" cy="43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ушевой нормати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Oval 21"/>
          <p:cNvSpPr/>
          <p:nvPr/>
        </p:nvSpPr>
        <p:spPr>
          <a:xfrm>
            <a:off x="4435560" y="1514520"/>
            <a:ext cx="1657440" cy="1657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Text Box 22"/>
          <p:cNvSpPr/>
          <p:nvPr/>
        </p:nvSpPr>
        <p:spPr>
          <a:xfrm>
            <a:off x="4427640" y="2043000"/>
            <a:ext cx="165708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личество прикреплен-ного насе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Oval 24"/>
          <p:cNvSpPr/>
          <p:nvPr/>
        </p:nvSpPr>
        <p:spPr>
          <a:xfrm>
            <a:off x="2297160" y="1514520"/>
            <a:ext cx="1727280" cy="1728720"/>
          </a:xfrm>
          <a:prstGeom prst="ellipse">
            <a:avLst/>
          </a:prstGeom>
          <a:solidFill>
            <a:srgbClr val="ffff00">
              <a:alpha val="75000"/>
            </a:srgbClr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Text Box 25"/>
          <p:cNvSpPr/>
          <p:nvPr/>
        </p:nvSpPr>
        <p:spPr>
          <a:xfrm>
            <a:off x="2268360" y="2022480"/>
            <a:ext cx="172728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правочные коэффициен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Заголовок 6"/>
          <p:cNvSpPr/>
          <p:nvPr/>
        </p:nvSpPr>
        <p:spPr>
          <a:xfrm>
            <a:off x="3008160" y="0"/>
            <a:ext cx="602784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</a:rPr>
              <a:t>Формула определения объема финансирования МО, имеющей прикрепленное насе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7" name="Умножение 22"/>
          <p:cNvGrpSpPr/>
          <p:nvPr/>
        </p:nvGrpSpPr>
        <p:grpSpPr>
          <a:xfrm>
            <a:off x="4011480" y="2120760"/>
            <a:ext cx="468360" cy="500040"/>
            <a:chOff x="4011480" y="2120760"/>
            <a:chExt cx="468360" cy="500040"/>
          </a:xfrm>
        </p:grpSpPr>
        <p:pic>
          <p:nvPicPr>
            <p:cNvPr id="2218" name="Умножение 22" descr=""/>
            <p:cNvPicPr/>
            <p:nvPr/>
          </p:nvPicPr>
          <p:blipFill>
            <a:blip r:embed="rId1"/>
            <a:stretch/>
          </p:blipFill>
          <p:spPr>
            <a:xfrm>
              <a:off x="4011480" y="2120760"/>
              <a:ext cx="4683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9" name=""/>
            <p:cNvSpPr/>
            <p:nvPr/>
          </p:nvSpPr>
          <p:spPr>
            <a:xfrm>
              <a:off x="4068720" y="2158920"/>
              <a:ext cx="353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0" name="Равно 24"/>
          <p:cNvGrpSpPr/>
          <p:nvPr/>
        </p:nvGrpSpPr>
        <p:grpSpPr>
          <a:xfrm>
            <a:off x="6181560" y="2157480"/>
            <a:ext cx="536760" cy="439560"/>
            <a:chOff x="6181560" y="2157480"/>
            <a:chExt cx="536760" cy="439560"/>
          </a:xfrm>
        </p:grpSpPr>
        <p:pic>
          <p:nvPicPr>
            <p:cNvPr id="2221" name="Равно 24" descr=""/>
            <p:cNvPicPr/>
            <p:nvPr/>
          </p:nvPicPr>
          <p:blipFill>
            <a:blip r:embed="rId2"/>
            <a:stretch/>
          </p:blipFill>
          <p:spPr>
            <a:xfrm>
              <a:off x="6181560" y="2157480"/>
              <a:ext cx="53676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2" name=""/>
            <p:cNvSpPr/>
            <p:nvPr/>
          </p:nvSpPr>
          <p:spPr>
            <a:xfrm>
              <a:off x="6240600" y="2195640"/>
              <a:ext cx="4237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3" name="AutoShape 10"/>
          <p:cNvSpPr/>
          <p:nvPr/>
        </p:nvSpPr>
        <p:spPr>
          <a:xfrm>
            <a:off x="328680" y="4869000"/>
            <a:ext cx="849780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При окончательном расчете из объема финансирования МО (базовая часть) вычитается стоимость консультации врача специалиста, диагностической медицинской услуги, оказанной в амбулаторных условиях застрахованным по ОМС гражданам не по месту прикреп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532720" y="150840"/>
            <a:ext cx="473040" cy="363600"/>
          </a:xfrm>
          <a:custGeom>
            <a:avLst/>
            <a:gdLst>
              <a:gd name="textAreaLeft" fmla="*/ 23400 w 473040"/>
              <a:gd name="textAreaRight" fmla="*/ 449640 w 47304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8095" h="21600">
                <a:moveTo>
                  <a:pt x="0" y="0"/>
                </a:moveTo>
                <a:lnTo>
                  <a:pt x="28095" y="0"/>
                </a:lnTo>
                <a:lnTo>
                  <a:pt x="28095" y="21600"/>
                </a:lnTo>
                <a:lnTo>
                  <a:pt x="0" y="21600"/>
                </a:lnTo>
                <a:close/>
              </a:path>
              <a:path fill="lightenLess" w="28095" h="21600">
                <a:moveTo>
                  <a:pt x="0" y="0"/>
                </a:moveTo>
                <a:lnTo>
                  <a:pt x="28095" y="0"/>
                </a:lnTo>
                <a:lnTo>
                  <a:pt x="26695" y="1400"/>
                </a:lnTo>
                <a:lnTo>
                  <a:pt x="1400" y="1400"/>
                </a:lnTo>
                <a:close/>
              </a:path>
              <a:path fill="darken" w="28095" h="21600">
                <a:moveTo>
                  <a:pt x="28095" y="0"/>
                </a:moveTo>
                <a:lnTo>
                  <a:pt x="28095" y="21600"/>
                </a:lnTo>
                <a:lnTo>
                  <a:pt x="26695" y="20200"/>
                </a:lnTo>
                <a:lnTo>
                  <a:pt x="26695" y="1400"/>
                </a:lnTo>
                <a:close/>
              </a:path>
              <a:path fill="darkenLess" w="28095" h="21600">
                <a:moveTo>
                  <a:pt x="28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95" y="20200"/>
                </a:lnTo>
                <a:close/>
              </a:path>
              <a:path fill="lighten" w="28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95" h="21600">
                <a:moveTo>
                  <a:pt x="7041" y="3794"/>
                </a:moveTo>
                <a:lnTo>
                  <a:pt x="21054" y="10800"/>
                </a:lnTo>
                <a:lnTo>
                  <a:pt x="7041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5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3"/>
          <a:stretch/>
        </p:blipFill>
        <p:spPr>
          <a:xfrm>
            <a:off x="611280" y="115920"/>
            <a:ext cx="2448000" cy="706320"/>
          </a:xfrm>
          <a:prstGeom prst="rect">
            <a:avLst/>
          </a:prstGeom>
          <a:ln w="0">
            <a:noFill/>
          </a:ln>
        </p:spPr>
      </p:pic>
      <p:pic>
        <p:nvPicPr>
          <p:cNvPr id="2226" name="Picture 9" descr=""/>
          <p:cNvPicPr/>
          <p:nvPr/>
        </p:nvPicPr>
        <p:blipFill>
          <a:blip r:embed="rId4"/>
          <a:stretch/>
        </p:blipFill>
        <p:spPr>
          <a:xfrm>
            <a:off x="485640" y="907920"/>
            <a:ext cx="1224000" cy="373320"/>
          </a:xfrm>
          <a:prstGeom prst="rect">
            <a:avLst/>
          </a:prstGeom>
          <a:ln w="0">
            <a:noFill/>
          </a:ln>
        </p:spPr>
      </p:pic>
      <p:pic>
        <p:nvPicPr>
          <p:cNvPr id="2227" name="Рисунок 30" descr=""/>
          <p:cNvPicPr/>
          <p:nvPr/>
        </p:nvPicPr>
        <p:blipFill>
          <a:blip r:embed="rId5"/>
          <a:stretch/>
        </p:blipFill>
        <p:spPr>
          <a:xfrm>
            <a:off x="4830840" y="1630440"/>
            <a:ext cx="488880" cy="436320"/>
          </a:xfrm>
          <a:prstGeom prst="rect">
            <a:avLst/>
          </a:prstGeom>
          <a:ln w="0">
            <a:noFill/>
          </a:ln>
        </p:spPr>
      </p:pic>
      <p:pic>
        <p:nvPicPr>
          <p:cNvPr id="2228" name="Рисунок 31" descr=""/>
          <p:cNvPicPr/>
          <p:nvPr/>
        </p:nvPicPr>
        <p:blipFill>
          <a:blip r:embed="rId6"/>
          <a:stretch/>
        </p:blipFill>
        <p:spPr>
          <a:xfrm>
            <a:off x="5227560" y="1630440"/>
            <a:ext cx="490680" cy="436320"/>
          </a:xfrm>
          <a:prstGeom prst="rect">
            <a:avLst/>
          </a:prstGeom>
          <a:ln w="0">
            <a:noFill/>
          </a:ln>
        </p:spPr>
      </p:pic>
      <p:pic>
        <p:nvPicPr>
          <p:cNvPr id="2229" name="Рисунок 32" descr=""/>
          <p:cNvPicPr/>
          <p:nvPr/>
        </p:nvPicPr>
        <p:blipFill>
          <a:blip r:embed="rId7"/>
          <a:stretch/>
        </p:blipFill>
        <p:spPr>
          <a:xfrm>
            <a:off x="5018040" y="1630440"/>
            <a:ext cx="490680" cy="436320"/>
          </a:xfrm>
          <a:prstGeom prst="rect">
            <a:avLst/>
          </a:prstGeom>
          <a:ln w="0">
            <a:noFill/>
          </a:ln>
        </p:spPr>
      </p:pic>
      <p:grpSp>
        <p:nvGrpSpPr>
          <p:cNvPr id="2230" name="Умножение 33"/>
          <p:cNvGrpSpPr/>
          <p:nvPr/>
        </p:nvGrpSpPr>
        <p:grpSpPr>
          <a:xfrm>
            <a:off x="1847880" y="2139840"/>
            <a:ext cx="468360" cy="500040"/>
            <a:chOff x="1847880" y="2139840"/>
            <a:chExt cx="468360" cy="500040"/>
          </a:xfrm>
        </p:grpSpPr>
        <p:pic>
          <p:nvPicPr>
            <p:cNvPr id="2231" name="Умножение 33" descr=""/>
            <p:cNvPicPr/>
            <p:nvPr/>
          </p:nvPicPr>
          <p:blipFill>
            <a:blip r:embed="rId8"/>
            <a:stretch/>
          </p:blipFill>
          <p:spPr>
            <a:xfrm>
              <a:off x="1847880" y="2139840"/>
              <a:ext cx="4683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2" name=""/>
            <p:cNvSpPr/>
            <p:nvPr/>
          </p:nvSpPr>
          <p:spPr>
            <a:xfrm>
              <a:off x="1909800" y="2176560"/>
              <a:ext cx="3524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>
                <a:alpha val="0"/>
              </a:srgbClr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Заголовок 6"/>
          <p:cNvSpPr/>
          <p:nvPr/>
        </p:nvSpPr>
        <p:spPr>
          <a:xfrm>
            <a:off x="3635280" y="127080"/>
            <a:ext cx="478800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eaf"/>
                </a:solidFill>
                <a:latin typeface="Arial"/>
              </a:rPr>
              <a:t>Показатели для расчета стимулирующей ч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4" name="Схема 1" descr=""/>
          <p:cNvPicPr/>
          <p:nvPr/>
        </p:nvPicPr>
        <p:blipFill>
          <a:blip r:embed="rId1"/>
          <a:stretch/>
        </p:blipFill>
        <p:spPr>
          <a:xfrm>
            <a:off x="378000" y="1542960"/>
            <a:ext cx="8265960" cy="4857840"/>
          </a:xfrm>
          <a:prstGeom prst="rect">
            <a:avLst/>
          </a:prstGeom>
          <a:ln w="0">
            <a:noFill/>
          </a:ln>
        </p:spPr>
      </p:pic>
      <p:sp>
        <p:nvSpPr>
          <p:cNvPr id="223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532720" y="150840"/>
            <a:ext cx="473040" cy="363600"/>
          </a:xfrm>
          <a:custGeom>
            <a:avLst/>
            <a:gdLst>
              <a:gd name="textAreaLeft" fmla="*/ 23400 w 473040"/>
              <a:gd name="textAreaRight" fmla="*/ 449640 w 47304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8095" h="21600">
                <a:moveTo>
                  <a:pt x="0" y="0"/>
                </a:moveTo>
                <a:lnTo>
                  <a:pt x="28095" y="0"/>
                </a:lnTo>
                <a:lnTo>
                  <a:pt x="28095" y="21600"/>
                </a:lnTo>
                <a:lnTo>
                  <a:pt x="0" y="21600"/>
                </a:lnTo>
                <a:close/>
              </a:path>
              <a:path fill="lightenLess" w="28095" h="21600">
                <a:moveTo>
                  <a:pt x="0" y="0"/>
                </a:moveTo>
                <a:lnTo>
                  <a:pt x="28095" y="0"/>
                </a:lnTo>
                <a:lnTo>
                  <a:pt x="26695" y="1400"/>
                </a:lnTo>
                <a:lnTo>
                  <a:pt x="1400" y="1400"/>
                </a:lnTo>
                <a:close/>
              </a:path>
              <a:path fill="darken" w="28095" h="21600">
                <a:moveTo>
                  <a:pt x="28095" y="0"/>
                </a:moveTo>
                <a:lnTo>
                  <a:pt x="28095" y="21600"/>
                </a:lnTo>
                <a:lnTo>
                  <a:pt x="26695" y="20200"/>
                </a:lnTo>
                <a:lnTo>
                  <a:pt x="26695" y="1400"/>
                </a:lnTo>
                <a:close/>
              </a:path>
              <a:path fill="darkenLess" w="28095" h="21600">
                <a:moveTo>
                  <a:pt x="28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95" y="20200"/>
                </a:lnTo>
                <a:close/>
              </a:path>
              <a:path fill="lighten" w="28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95" h="21600">
                <a:moveTo>
                  <a:pt x="7041" y="3794"/>
                </a:moveTo>
                <a:lnTo>
                  <a:pt x="21054" y="10800"/>
                </a:lnTo>
                <a:lnTo>
                  <a:pt x="7041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6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2"/>
          <a:stretch/>
        </p:blipFill>
        <p:spPr>
          <a:xfrm>
            <a:off x="611280" y="115920"/>
            <a:ext cx="2448000" cy="706320"/>
          </a:xfrm>
          <a:prstGeom prst="rect">
            <a:avLst/>
          </a:prstGeom>
          <a:ln w="0">
            <a:noFill/>
          </a:ln>
        </p:spPr>
      </p:pic>
      <p:pic>
        <p:nvPicPr>
          <p:cNvPr id="2237" name="Picture 9" descr=""/>
          <p:cNvPicPr/>
          <p:nvPr/>
        </p:nvPicPr>
        <p:blipFill>
          <a:blip r:embed="rId3"/>
          <a:stretch/>
        </p:blipFill>
        <p:spPr>
          <a:xfrm>
            <a:off x="485640" y="907920"/>
            <a:ext cx="122400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Скругленный прямоугольник 10"/>
          <p:cNvSpPr/>
          <p:nvPr/>
        </p:nvSpPr>
        <p:spPr>
          <a:xfrm>
            <a:off x="5148360" y="1719360"/>
            <a:ext cx="345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с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Скругленный прямоугольник 9"/>
          <p:cNvSpPr/>
          <p:nvPr/>
        </p:nvSpPr>
        <p:spPr>
          <a:xfrm>
            <a:off x="539640" y="1646280"/>
            <a:ext cx="345600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Прямоугольник 1"/>
          <p:cNvSpPr/>
          <p:nvPr/>
        </p:nvSpPr>
        <p:spPr>
          <a:xfrm>
            <a:off x="2916360" y="189000"/>
            <a:ext cx="590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</a:rPr>
              <a:t>Преимущества и рис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</a:rPr>
              <a:t>при внедрении подушевого финансирования амбулаторно-поликлинической помощ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1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706680"/>
          </a:xfrm>
          <a:prstGeom prst="rect">
            <a:avLst/>
          </a:prstGeom>
          <a:ln w="0">
            <a:noFill/>
          </a:ln>
        </p:spPr>
      </p:pic>
      <p:pic>
        <p:nvPicPr>
          <p:cNvPr id="2242" name="Picture 9" descr=""/>
          <p:cNvPicPr/>
          <p:nvPr/>
        </p:nvPicPr>
        <p:blipFill>
          <a:blip r:embed="rId2"/>
          <a:stretch/>
        </p:blipFill>
        <p:spPr>
          <a:xfrm>
            <a:off x="539640" y="966960"/>
            <a:ext cx="1224000" cy="374400"/>
          </a:xfrm>
          <a:prstGeom prst="rect">
            <a:avLst/>
          </a:prstGeom>
          <a:ln w="0">
            <a:noFill/>
          </a:ln>
        </p:spPr>
      </p:pic>
      <p:sp>
        <p:nvSpPr>
          <p:cNvPr id="2243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748720" y="44280"/>
            <a:ext cx="347760" cy="3636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363600"/>
              <a:gd name="textAreaBottom" fmla="*/ 341280 h 363600"/>
            </a:gdLst>
            <a:ahLst/>
            <a:rect l="textAreaLeft" t="textAreaTop" r="textAreaRight" b="textAreaBottom"/>
            <a:pathLst>
              <a:path w="21600" h="22583">
                <a:moveTo>
                  <a:pt x="0" y="0"/>
                </a:moveTo>
                <a:lnTo>
                  <a:pt x="21600" y="0"/>
                </a:lnTo>
                <a:lnTo>
                  <a:pt x="21600" y="22583"/>
                </a:lnTo>
                <a:lnTo>
                  <a:pt x="0" y="22583"/>
                </a:lnTo>
                <a:close/>
              </a:path>
              <a:path fill="lightenLess" w="21600" h="225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83">
                <a:moveTo>
                  <a:pt x="21600" y="0"/>
                </a:moveTo>
                <a:lnTo>
                  <a:pt x="21600" y="22583"/>
                </a:lnTo>
                <a:lnTo>
                  <a:pt x="20200" y="21183"/>
                </a:lnTo>
                <a:lnTo>
                  <a:pt x="20200" y="1400"/>
                </a:lnTo>
                <a:close/>
              </a:path>
              <a:path fill="darkenLess" w="21600" h="22583">
                <a:moveTo>
                  <a:pt x="21600" y="22583"/>
                </a:moveTo>
                <a:lnTo>
                  <a:pt x="0" y="22583"/>
                </a:lnTo>
                <a:lnTo>
                  <a:pt x="1400" y="21183"/>
                </a:lnTo>
                <a:lnTo>
                  <a:pt x="20200" y="21183"/>
                </a:lnTo>
                <a:close/>
              </a:path>
              <a:path fill="lighten" w="21600" h="22583">
                <a:moveTo>
                  <a:pt x="0" y="225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83"/>
                </a:lnTo>
                <a:close/>
              </a:path>
              <a:path fill="darken" w="21600" h="22583">
                <a:moveTo>
                  <a:pt x="3794" y="4285"/>
                </a:moveTo>
                <a:lnTo>
                  <a:pt x="17806" y="11291"/>
                </a:lnTo>
                <a:lnTo>
                  <a:pt x="3794" y="18298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4" name="Picture 93" descr="D:\Картинки для презентаций\green-plus-sign-hi.png"/>
          <p:cNvPicPr/>
          <p:nvPr/>
        </p:nvPicPr>
        <p:blipFill>
          <a:blip r:embed="rId3"/>
          <a:stretch/>
        </p:blipFill>
        <p:spPr>
          <a:xfrm>
            <a:off x="195120" y="1571760"/>
            <a:ext cx="831960" cy="828720"/>
          </a:xfrm>
          <a:prstGeom prst="rect">
            <a:avLst/>
          </a:prstGeom>
          <a:ln w="0">
            <a:noFill/>
          </a:ln>
        </p:spPr>
      </p:pic>
      <p:pic>
        <p:nvPicPr>
          <p:cNvPr id="2245" name="Picture 94" descr="D:\Картинки для презентаций\i.jpeg"/>
          <p:cNvPicPr/>
          <p:nvPr/>
        </p:nvPicPr>
        <p:blipFill>
          <a:blip r:embed="rId4"/>
          <a:stretch/>
        </p:blipFill>
        <p:spPr>
          <a:xfrm>
            <a:off x="4788000" y="15746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46" name="TextBox 12"/>
          <p:cNvSpPr/>
          <p:nvPr/>
        </p:nvSpPr>
        <p:spPr>
          <a:xfrm>
            <a:off x="539640" y="2583000"/>
            <a:ext cx="4032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ышение ресурсного потенциала амбулаторно-поликлинического зве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е профилактической работы и стационарзамещающих технолог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ирование и рациональное использование финансов учре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ышение заинтересованности медицинской организации в сохранении здоровья прикрепленного насе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TextBox 13"/>
          <p:cNvSpPr/>
          <p:nvPr/>
        </p:nvSpPr>
        <p:spPr>
          <a:xfrm>
            <a:off x="5076720" y="2367000"/>
            <a:ext cx="3816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оставление услуг в недостаточном объеме, отказ в выдаче направлений в другие поликлин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пытки прикреплять более здоровых пациен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Прямоугольник 1"/>
          <p:cNvSpPr/>
          <p:nvPr/>
        </p:nvSpPr>
        <p:spPr>
          <a:xfrm>
            <a:off x="3060720" y="344520"/>
            <a:ext cx="59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</a:rPr>
              <a:t>Расчет объема финансирования «условной» медицинской организации (АПП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9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706680"/>
          </a:xfrm>
          <a:prstGeom prst="rect">
            <a:avLst/>
          </a:prstGeom>
          <a:ln w="0">
            <a:noFill/>
          </a:ln>
        </p:spPr>
      </p:pic>
      <p:pic>
        <p:nvPicPr>
          <p:cNvPr id="2250" name="Picture 9" descr=""/>
          <p:cNvPicPr/>
          <p:nvPr/>
        </p:nvPicPr>
        <p:blipFill>
          <a:blip r:embed="rId2"/>
          <a:stretch/>
        </p:blipFill>
        <p:spPr>
          <a:xfrm>
            <a:off x="539640" y="966960"/>
            <a:ext cx="1224000" cy="374400"/>
          </a:xfrm>
          <a:prstGeom prst="rect">
            <a:avLst/>
          </a:prstGeom>
          <a:ln w="0">
            <a:noFill/>
          </a:ln>
        </p:spPr>
      </p:pic>
      <p:sp>
        <p:nvSpPr>
          <p:cNvPr id="2251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748720" y="44280"/>
            <a:ext cx="347760" cy="3636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363600"/>
              <a:gd name="textAreaBottom" fmla="*/ 341280 h 363600"/>
            </a:gdLst>
            <a:ahLst/>
            <a:rect l="textAreaLeft" t="textAreaTop" r="textAreaRight" b="textAreaBottom"/>
            <a:pathLst>
              <a:path w="21600" h="22583">
                <a:moveTo>
                  <a:pt x="0" y="0"/>
                </a:moveTo>
                <a:lnTo>
                  <a:pt x="21600" y="0"/>
                </a:lnTo>
                <a:lnTo>
                  <a:pt x="21600" y="22583"/>
                </a:lnTo>
                <a:lnTo>
                  <a:pt x="0" y="22583"/>
                </a:lnTo>
                <a:close/>
              </a:path>
              <a:path fill="lightenLess" w="21600" h="225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83">
                <a:moveTo>
                  <a:pt x="21600" y="0"/>
                </a:moveTo>
                <a:lnTo>
                  <a:pt x="21600" y="22583"/>
                </a:lnTo>
                <a:lnTo>
                  <a:pt x="20200" y="21183"/>
                </a:lnTo>
                <a:lnTo>
                  <a:pt x="20200" y="1400"/>
                </a:lnTo>
                <a:close/>
              </a:path>
              <a:path fill="darkenLess" w="21600" h="22583">
                <a:moveTo>
                  <a:pt x="21600" y="22583"/>
                </a:moveTo>
                <a:lnTo>
                  <a:pt x="0" y="22583"/>
                </a:lnTo>
                <a:lnTo>
                  <a:pt x="1400" y="21183"/>
                </a:lnTo>
                <a:lnTo>
                  <a:pt x="20200" y="21183"/>
                </a:lnTo>
                <a:close/>
              </a:path>
              <a:path fill="lighten" w="21600" h="22583">
                <a:moveTo>
                  <a:pt x="0" y="225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83"/>
                </a:lnTo>
                <a:close/>
              </a:path>
              <a:path fill="darken" w="21600" h="22583">
                <a:moveTo>
                  <a:pt x="3794" y="4285"/>
                </a:moveTo>
                <a:lnTo>
                  <a:pt x="17806" y="11291"/>
                </a:lnTo>
                <a:lnTo>
                  <a:pt x="3794" y="18298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TextBox 4"/>
          <p:cNvSpPr/>
          <p:nvPr/>
        </p:nvSpPr>
        <p:spPr>
          <a:xfrm>
            <a:off x="5148360" y="4572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Прямоугольник 5"/>
          <p:cNvSpPr/>
          <p:nvPr/>
        </p:nvSpPr>
        <p:spPr>
          <a:xfrm>
            <a:off x="479520" y="3127320"/>
            <a:ext cx="89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Calibri"/>
              </a:rPr>
              <a:t>        </a:t>
            </a: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Calibri"/>
              </a:rPr>
              <a:t>*</a:t>
            </a:r>
            <a:r>
              <a:rPr b="1" lang="en-US" sz="2000" spc="-1" strike="noStrike">
                <a:solidFill>
                  <a:srgbClr val="006eaf"/>
                </a:solidFill>
                <a:latin typeface="Arial"/>
                <a:ea typeface="Calibri"/>
              </a:rPr>
              <a:t>(</a:t>
            </a: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Calibri"/>
              </a:rPr>
              <a:t>0,9</a:t>
            </a:r>
            <a:r>
              <a:rPr b="1" lang="en-US" sz="2000" spc="-1" strike="noStrike">
                <a:solidFill>
                  <a:srgbClr val="006eaf"/>
                </a:solidFill>
                <a:latin typeface="Arial"/>
                <a:ea typeface="Calibri"/>
              </a:rPr>
              <a:t>078</a:t>
            </a: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Calibri"/>
              </a:rPr>
              <a:t>*</a:t>
            </a:r>
            <a:r>
              <a:rPr b="1" lang="en-US" sz="2000" spc="-1" strike="noStrike">
                <a:solidFill>
                  <a:srgbClr val="006eaf"/>
                </a:solidFill>
                <a:latin typeface="Arial"/>
                <a:ea typeface="Calibri"/>
              </a:rPr>
              <a:t>(1+</a:t>
            </a: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Calibri"/>
              </a:rPr>
              <a:t>0,1658</a:t>
            </a:r>
            <a:r>
              <a:rPr b="1" lang="en-US" sz="2000" spc="-1" strike="noStrike">
                <a:solidFill>
                  <a:srgbClr val="006eaf"/>
                </a:solidFill>
                <a:latin typeface="Arial"/>
                <a:ea typeface="Calibri"/>
              </a:rPr>
              <a:t>+</a:t>
            </a: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Calibri"/>
              </a:rPr>
              <a:t>0,0215</a:t>
            </a:r>
            <a:r>
              <a:rPr b="1" lang="en-US" sz="2000" spc="-1" strike="noStrike">
                <a:solidFill>
                  <a:srgbClr val="006eaf"/>
                </a:solidFill>
                <a:latin typeface="Arial"/>
                <a:ea typeface="Calibri"/>
              </a:rPr>
              <a:t>)</a:t>
            </a: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Calibri"/>
              </a:rPr>
              <a:t>*</a:t>
            </a:r>
            <a:r>
              <a:rPr b="1" lang="en-US" sz="2000" spc="-1" strike="noStrike">
                <a:solidFill>
                  <a:srgbClr val="006eaf"/>
                </a:solidFill>
                <a:latin typeface="Arial"/>
                <a:ea typeface="Calibri"/>
              </a:rPr>
              <a:t>(1+</a:t>
            </a: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Calibri"/>
              </a:rPr>
              <a:t>0,4796</a:t>
            </a:r>
            <a:r>
              <a:rPr b="1" lang="en-US" sz="2000" spc="-1" strike="noStrike">
                <a:solidFill>
                  <a:srgbClr val="006eaf"/>
                </a:solidFill>
                <a:latin typeface="Arial"/>
                <a:ea typeface="Calibri"/>
              </a:rPr>
              <a:t>))</a:t>
            </a: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Calibri"/>
              </a:rPr>
              <a:t>* 28 472 чел.= </a:t>
            </a:r>
            <a:r>
              <a:rPr b="1" lang="ru-RU" sz="2000" spc="-1" strike="noStrike" u="sng">
                <a:solidFill>
                  <a:srgbClr val="dc281e"/>
                </a:solidFill>
                <a:uFillTx/>
                <a:latin typeface="Arial"/>
                <a:ea typeface="Calibri"/>
              </a:rPr>
              <a:t>69 901</a:t>
            </a:r>
            <a:r>
              <a:rPr b="1" lang="ru-RU" sz="1600" spc="-1" strike="noStrike" u="sng">
                <a:solidFill>
                  <a:srgbClr val="dc281e"/>
                </a:solidFill>
                <a:uFillTx/>
                <a:latin typeface="Arial"/>
                <a:ea typeface="Calibri"/>
              </a:rPr>
              <a:t>тыс.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Text Box 16"/>
          <p:cNvSpPr/>
          <p:nvPr/>
        </p:nvSpPr>
        <p:spPr>
          <a:xfrm>
            <a:off x="-181080" y="3137040"/>
            <a:ext cx="1548000" cy="43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eaf"/>
                </a:solidFill>
                <a:latin typeface="Arial"/>
              </a:rPr>
              <a:t>Подушевой нормати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Text Box 22"/>
          <p:cNvSpPr/>
          <p:nvPr/>
        </p:nvSpPr>
        <p:spPr>
          <a:xfrm>
            <a:off x="5003640" y="2328840"/>
            <a:ext cx="165744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ичество прикрепленного насе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Text Box 25"/>
          <p:cNvSpPr/>
          <p:nvPr/>
        </p:nvSpPr>
        <p:spPr>
          <a:xfrm>
            <a:off x="1692360" y="4121280"/>
            <a:ext cx="336528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равочные коэффициенты: половозрастных затрат, ОВП, ФАП, на 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Правая фигурная скобка 2"/>
          <p:cNvSpPr/>
          <p:nvPr/>
        </p:nvSpPr>
        <p:spPr>
          <a:xfrm rot="5400000">
            <a:off x="3274920" y="1618920"/>
            <a:ext cx="541440" cy="4573440"/>
          </a:xfrm>
          <a:custGeom>
            <a:avLst/>
            <a:gdLst>
              <a:gd name="textAreaLeft" fmla="*/ 0 w 541440"/>
              <a:gd name="textAreaRight" fmla="*/ 195480 w 541440"/>
              <a:gd name="textAreaTop" fmla="*/ 14040 h 4573440"/>
              <a:gd name="textAreaBottom" fmla="*/ 4559400 h 45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7"/>
                  <a:pt x="10800" y="213"/>
                </a:cubicBezTo>
                <a:lnTo>
                  <a:pt x="10800" y="10460"/>
                </a:lnTo>
                <a:cubicBezTo>
                  <a:pt x="10800" y="10567"/>
                  <a:pt x="16200" y="10673"/>
                  <a:pt x="21600" y="10673"/>
                </a:cubicBezTo>
                <a:cubicBezTo>
                  <a:pt x="16200" y="10673"/>
                  <a:pt x="10800" y="10780"/>
                  <a:pt x="10800" y="10886"/>
                </a:cubicBezTo>
                <a:lnTo>
                  <a:pt x="10800" y="21387"/>
                </a:lnTo>
                <a:cubicBezTo>
                  <a:pt x="10800" y="214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Text Box 22"/>
          <p:cNvSpPr/>
          <p:nvPr/>
        </p:nvSpPr>
        <p:spPr>
          <a:xfrm>
            <a:off x="6443640" y="3780000"/>
            <a:ext cx="237636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м финансирования медицинской организ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Прямая соединительная линия 7"/>
          <p:cNvSpPr/>
          <p:nvPr/>
        </p:nvSpPr>
        <p:spPr>
          <a:xfrm>
            <a:off x="1258920" y="2482920"/>
            <a:ext cx="0" cy="1693800"/>
          </a:xfrm>
          <a:prstGeom prst="line">
            <a:avLst/>
          </a:prstGeom>
          <a:ln w="9360">
            <a:solidFill>
              <a:srgbClr val="dc281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Прямая соединительная линия 69"/>
          <p:cNvSpPr/>
          <p:nvPr/>
        </p:nvSpPr>
        <p:spPr>
          <a:xfrm>
            <a:off x="5867280" y="2482920"/>
            <a:ext cx="0" cy="1693800"/>
          </a:xfrm>
          <a:prstGeom prst="line">
            <a:avLst/>
          </a:prstGeom>
          <a:ln w="9360">
            <a:solidFill>
              <a:srgbClr val="dc281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1:43:19Z</dcterms:created>
  <dc:creator>Designer-Solaris</dc:creator>
  <dc:description/>
  <dc:language>en-US</dc:language>
  <cp:lastModifiedBy>Обращения граждан</cp:lastModifiedBy>
  <cp:lastPrinted>2013-12-17T12:14:18Z</cp:lastPrinted>
  <dcterms:modified xsi:type="dcterms:W3CDTF">2013-12-18T10:49:13Z</dcterms:modified>
  <cp:revision>359</cp:revision>
  <dc:subject/>
  <dc:title>Презентация PowerPoint</dc:title>
</cp:coreProperties>
</file>